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0403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EA983-70DD-4216-8E3A-834762A978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02320-C5C9-449A-9329-DA85B6F102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0D9CB-74CB-432A-ABE5-C6EB7FCF66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54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56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560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54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56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F9D9D-B27E-4287-9498-2D1F3348E4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31480" y="136080"/>
            <a:ext cx="8683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F73BC-AD90-4FE9-8FA4-48606C1A08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054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656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4560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054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656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CE5C6-61FA-4A3E-8E03-0C1D1434BB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011F8-CE0E-4078-9A3D-4FBD4C0DE9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2A6EF-1D10-42F8-98E0-E87F0491CD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1480" y="136080"/>
            <a:ext cx="8683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88D28-BB18-4654-BBA0-878D4E51E0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3740A-A039-4427-8EF9-76153FFA6F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9EDFA-53B1-4DE0-8A85-1DA4C6B0BB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A660E-721B-4A0A-8C32-98BE6BB30A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"/>
          <p:cNvPicPr/>
          <p:nvPr/>
        </p:nvPicPr>
        <p:blipFill>
          <a:blip r:embed="rId2"/>
          <a:stretch/>
        </p:blipFill>
        <p:spPr>
          <a:xfrm>
            <a:off x="365040" y="776160"/>
            <a:ext cx="8454960" cy="490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3" marL="1255680" indent="-22860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4" marL="1598760" indent="-228600">
              <a:spcBef>
                <a:spcPts val="601"/>
              </a:spcBef>
              <a:buClr>
                <a:srgbClr val="092e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5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6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973240" y="6552720"/>
            <a:ext cx="3200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89616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9655-302C-409E-A3BB-6981BDB50966}" type="slidenum">
              <a:rPr b="0" lang="en-US" sz="900" spc="-1" strike="noStrike">
                <a:solidFill>
                  <a:srgbClr val="092e5c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6"/>
          <p:cNvSpPr/>
          <p:nvPr/>
        </p:nvSpPr>
        <p:spPr>
          <a:xfrm>
            <a:off x="334080" y="6219720"/>
            <a:ext cx="1155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92e5c"/>
                </a:solidFill>
                <a:latin typeface="Times New Roman"/>
                <a:ea typeface="MS PGothic"/>
              </a:rPr>
              <a:t>OGC</a:t>
            </a:r>
            <a:endParaRPr b="1" lang="en-US" sz="4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6" name="Text Box 20"/>
          <p:cNvSpPr/>
          <p:nvPr/>
        </p:nvSpPr>
        <p:spPr>
          <a:xfrm>
            <a:off x="1498680" y="6270480"/>
            <a:ext cx="9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92e5c"/>
                </a:solidFill>
                <a:latin typeface="Arial"/>
              </a:rPr>
              <a:t>®</a:t>
            </a: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8"/>
          <p:cNvSpPr/>
          <p:nvPr/>
        </p:nvSpPr>
        <p:spPr>
          <a:xfrm>
            <a:off x="8739000" y="214200"/>
            <a:ext cx="7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®</a:t>
            </a:r>
            <a:endParaRPr b="1" lang="en-US" sz="800" spc="-1" strike="noStrike">
              <a:solidFill>
                <a:srgbClr val="000000"/>
              </a:solidFill>
              <a:latin typeface="CG Times"/>
            </a:endParaRPr>
          </a:p>
        </p:txBody>
      </p:sp>
      <p:pic>
        <p:nvPicPr>
          <p:cNvPr id="44" name="Picture 10" descr="OGC header 20101220.png"/>
          <p:cNvPicPr/>
          <p:nvPr/>
        </p:nvPicPr>
        <p:blipFill>
          <a:blip r:embed="rId2"/>
          <a:stretch/>
        </p:blipFill>
        <p:spPr>
          <a:xfrm>
            <a:off x="0" y="0"/>
            <a:ext cx="9144000" cy="2247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Picture 7.png"/>
          <p:cNvPicPr/>
          <p:nvPr/>
        </p:nvPicPr>
        <p:blipFill>
          <a:blip r:embed="rId3"/>
          <a:stretch/>
        </p:blipFill>
        <p:spPr>
          <a:xfrm>
            <a:off x="380880" y="6095880"/>
            <a:ext cx="1381320" cy="6098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4149360" y="1219320"/>
            <a:ext cx="84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Sponsored by</a:t>
            </a: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pic>
        <p:nvPicPr>
          <p:cNvPr id="47" name="Picture 12" descr=""/>
          <p:cNvPicPr/>
          <p:nvPr/>
        </p:nvPicPr>
        <p:blipFill>
          <a:blip r:embed="rId4"/>
          <a:stretch/>
        </p:blipFill>
        <p:spPr>
          <a:xfrm>
            <a:off x="3060720" y="1943280"/>
            <a:ext cx="3022560" cy="6094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3" marL="1255680" indent="-22860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4" marL="1598760" indent="-228600">
              <a:spcBef>
                <a:spcPts val="601"/>
              </a:spcBef>
              <a:buClr>
                <a:srgbClr val="092e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5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6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3"/>
          </p:nvPr>
        </p:nvSpPr>
        <p:spPr>
          <a:xfrm>
            <a:off x="3009960" y="640044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2e5c"/>
                </a:solidFill>
                <a:latin typeface="Arial Black"/>
              </a:rPr>
              <a:t>Point Cloud DWG</a:t>
            </a:r>
            <a:endParaRPr b="0" lang="en-US" sz="28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920" y="45720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98th OGC Technical Committee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Washington, DC USA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Stan Tillman, Intergraph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08 March 2016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3009960" y="640080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at are your most common use cases for point clouds?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21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1828800"/>
          <a:ext cx="7238880" cy="4191120"/>
        </p:xfrm>
        <a:graphic>
          <a:graphicData uri="http://schemas.openxmlformats.org/drawingml/2006/table">
            <a:tbl>
              <a:tblPr/>
              <a:tblGrid>
                <a:gridCol w="3619440"/>
                <a:gridCol w="3619440"/>
              </a:tblGrid>
              <a:tr h="200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210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Visualiz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G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igital Terrain Modellin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1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eature Extrac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D BUILDING MODE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419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9051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termediate product for 3D textured mesh reconstruc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1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ully 3D object modelin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ordin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struction Quality Contro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10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BIM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ofilin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lash detec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1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Volumetric Analys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419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geological/sedimentary description/quantific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63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alculation of descriptive statistics of return heights for modeling vegetation characteristic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at are your most common use cases for point clouds? (Cont.)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25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09480" y="2133720"/>
          <a:ext cx="7391520" cy="4114800"/>
        </p:xfrm>
        <a:graphic>
          <a:graphicData uri="http://schemas.openxmlformats.org/drawingml/2006/table">
            <a:tbl>
              <a:tblPr/>
              <a:tblGrid>
                <a:gridCol w="3695760"/>
                <a:gridCol w="3695760"/>
              </a:tblGrid>
              <a:tr h="196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20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orest assessment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easure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abrication measurement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emote sensing researc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lope analys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4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watersh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eature Detec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oftware Develop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umerical Weather Predic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Viewsh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and forming possibilit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ree extrac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ity Modellin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urface Construc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411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s a start point for estimating characteristics of sea i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istribution to us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412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on't use. Just interested in what others do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at are your main application areas for point clouds?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29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1905120"/>
          <a:ext cx="7543800" cy="4114800"/>
        </p:xfrm>
        <a:graphic>
          <a:graphicData uri="http://schemas.openxmlformats.org/drawingml/2006/table">
            <a:tbl>
              <a:tblPr/>
              <a:tblGrid>
                <a:gridCol w="3772080"/>
                <a:gridCol w="3771720"/>
              </a:tblGrid>
              <a:tr h="231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Water Manage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mart C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ivil Engineerin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sset Manage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41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rcheolog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AYLIGHT PLANNIN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esearc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Hydrolog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ceanograph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orest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VFX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eafloor Mappin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41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errain analys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Geolog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Geophysic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Geodes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at are your main application areas for point clouds? (Cont.)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33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62120" y="2133720"/>
          <a:ext cx="7391160" cy="3809880"/>
        </p:xfrm>
        <a:graphic>
          <a:graphicData uri="http://schemas.openxmlformats.org/drawingml/2006/table">
            <a:tbl>
              <a:tblPr/>
              <a:tblGrid>
                <a:gridCol w="3695760"/>
                <a:gridCol w="3695400"/>
              </a:tblGrid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atural hazar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54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ryosphere and climate chang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ducation/teachin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fense and Intelligen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struc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54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BIM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il and Ga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ransport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Utilit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54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dustria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edimentolog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geomorpholog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inin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54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nviron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at are your main application areas for point clouds? (Cont.)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37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62120" y="2203560"/>
          <a:ext cx="7696080" cy="381636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215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223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gribusines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25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Bathymet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2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eteorolog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25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urveying and mappin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23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Heritage Document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25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s-built document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25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&amp;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25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ofilin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25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bject detection and recogni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23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MA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25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View analys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25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ublic Safe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2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rienteering mappin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2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astal zone manage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45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on't use. Just interested in what others do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How do you store point clouds?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62120" y="1828800"/>
          <a:ext cx="7391160" cy="3886200"/>
        </p:xfrm>
        <a:graphic>
          <a:graphicData uri="http://schemas.openxmlformats.org/drawingml/2006/table">
            <a:tbl>
              <a:tblPr/>
              <a:tblGrid>
                <a:gridCol w="3695760"/>
                <a:gridCol w="3695400"/>
              </a:tblGrid>
              <a:tr h="266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27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 a file on a network driv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7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 a databas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7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 the clou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7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 a file on a compute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7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EMOVABLE DRIV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557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s files on high performance computers (HPC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7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erv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7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IDARServer (www.lidarserver.com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7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ap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7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ojectwis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57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on't use. Just interested in what others do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at attributes do your point clouds contain besides XYZ coordinates?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45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838080" y="2133720"/>
          <a:ext cx="7239240" cy="3581280"/>
        </p:xfrm>
        <a:graphic>
          <a:graphicData uri="http://schemas.openxmlformats.org/drawingml/2006/table">
            <a:tbl>
              <a:tblPr/>
              <a:tblGrid>
                <a:gridCol w="3619800"/>
                <a:gridCol w="3619440"/>
              </a:tblGrid>
              <a:tr h="263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27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imestamp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76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tens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lassific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lou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76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ccuracy (stddev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ulse Form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ulse Cou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irection and Length of Scanli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7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onar attribu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stimated surface norma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76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easurement angl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vehicle location/attitud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at attributes do your point clouds contain besides XYZ coordinates? (Cont.)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49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62120" y="2114640"/>
          <a:ext cx="7238880" cy="3905280"/>
        </p:xfrm>
        <a:graphic>
          <a:graphicData uri="http://schemas.openxmlformats.org/drawingml/2006/table">
            <a:tbl>
              <a:tblPr/>
              <a:tblGrid>
                <a:gridCol w="3619440"/>
                <a:gridCol w="3619440"/>
              </a:tblGrid>
              <a:tr h="207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21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can posi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1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canner #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1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coustic backscatte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1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coustic variabl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1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ofilin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1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orma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1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-Section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1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Volume Calculation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1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ime Chang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1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ulse source ID (flightline ID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1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can angl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1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withheld fla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1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verlap fla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1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umber of return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1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eturn cou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1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user data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1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ull-waveform analys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at attributes do your point clouds contain besides XYZ coordinates? (Cont.)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53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838080" y="2133720"/>
          <a:ext cx="7620120" cy="4037040"/>
        </p:xfrm>
        <a:graphic>
          <a:graphicData uri="http://schemas.openxmlformats.org/drawingml/2006/table">
            <a:tbl>
              <a:tblPr/>
              <a:tblGrid>
                <a:gridCol w="3810240"/>
                <a:gridCol w="3809880"/>
              </a:tblGrid>
              <a:tr h="298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  <a:ea typeface="Calibri"/>
                        </a:rPr>
                        <a:t>Rang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  <a:ea typeface="Calibri"/>
                        </a:rPr>
                        <a:t>Theta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11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  <a:ea typeface="Calibri"/>
                        </a:rPr>
                        <a:t>Phi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1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  <a:ea typeface="Calibri"/>
                        </a:rPr>
                        <a:t>Direc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11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  <a:ea typeface="Calibri"/>
                        </a:rPr>
                        <a:t>Mirror face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  <a:ea typeface="Calibri"/>
                        </a:rPr>
                        <a:t>Amplitud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12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  <a:ea typeface="Calibri"/>
                        </a:rPr>
                        <a:t>Reflectan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  <a:ea typeface="Calibri"/>
                        </a:rPr>
                        <a:t>Pulse shape devi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  <a:ea typeface="Calibri"/>
                        </a:rPr>
                        <a:t>Background radi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11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  <a:ea typeface="Calibri"/>
                        </a:rPr>
                        <a:t>Temperatur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1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  <a:ea typeface="Calibri"/>
                        </a:rPr>
                        <a:t>Sensor loc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11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  <a:ea typeface="Calibri"/>
                        </a:rPr>
                        <a:t>Visibl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at conversion do you apply to the point clouds in order to use them?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57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838080" y="2114640"/>
          <a:ext cx="7162920" cy="3981240"/>
        </p:xfrm>
        <a:graphic>
          <a:graphicData uri="http://schemas.openxmlformats.org/drawingml/2006/table">
            <a:tbl>
              <a:tblPr/>
              <a:tblGrid>
                <a:gridCol w="3581640"/>
                <a:gridCol w="3581280"/>
              </a:tblGrid>
              <a:tr h="210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22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one, direct use of point clou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444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o features (vector object rafter detection/recognition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o regular grid (raster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2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evel of Detail (LoD) represent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2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o TI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implific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2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d delaunay triangul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2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RC/gltf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ully 3D mes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2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xtract vecto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2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extured Mesh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rthophoto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2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ctre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2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ordinate systems transformation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442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on't use. Just interested in what others do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Update on the Point Cloud Survey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Stan Tillman, Intergraph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Improving Access to Point Cloud Data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Keith Ryden, Esri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Visibility analysis with the 3D skeleton of a point cloud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Jantien Stoter, TUDelft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Precise spatial and radiometric processing of the Level 0 point cloud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Chuck Heazel, WiSC Enterprise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2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ich temporal aspect of point clouds are relevant for you?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61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762120" y="2133720"/>
          <a:ext cx="6629400" cy="4037040"/>
        </p:xfrm>
        <a:graphic>
          <a:graphicData uri="http://schemas.openxmlformats.org/drawingml/2006/table">
            <a:tbl>
              <a:tblPr/>
              <a:tblGrid>
                <a:gridCol w="3314520"/>
                <a:gridCol w="3314880"/>
              </a:tblGrid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404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emporal granularity at data set (a ‘point cloud’) leve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405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emporal resolution / update frequency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emporal resolution / update frequency month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404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emporal resolution / update frequency day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3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onitoring application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1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hange detec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3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emporal granularity at point leve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emporal resolution / update frequency sec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3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Granulatiry at the block and polygon leve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1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Granularity at Data subset (tile) leve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3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question is not clea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1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/A or 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405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on't use. Just interested in what others do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During what phase do you encounter interoperability challenges?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65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838080" y="2209680"/>
          <a:ext cx="6858000" cy="320040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268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torage / Manage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66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issemin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68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Visualization / Interac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68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hange Reference System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66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nalysis / Simlu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68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mbining Data from multiple sour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68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ata Acquisi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66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AS solves everythin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68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53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on't use. Just interested in what others do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at do you consider the most important area of point cloud standardization?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69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62120" y="2133720"/>
          <a:ext cx="7010280" cy="3886200"/>
        </p:xfrm>
        <a:graphic>
          <a:graphicData uri="http://schemas.openxmlformats.org/drawingml/2006/table">
            <a:tbl>
              <a:tblPr/>
              <a:tblGrid>
                <a:gridCol w="3504960"/>
                <a:gridCol w="3505320"/>
              </a:tblGrid>
              <a:tr h="21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ata Mode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30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ile Format / Encodin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BMS / SQ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Web Service (WxxS) protoco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3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O OPIN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dexin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3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uxillary data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lassific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45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widely existing support in all major software packag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dustry needs to move towards Full-Waveform rather than just point clou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458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deally open format and widely used (las/laz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45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traight forward lat, long and northing easting typ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at volume of point clouds have you managed/processed/stored/etc. in the last 12 month?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73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62120" y="2362320"/>
          <a:ext cx="7010280" cy="2057400"/>
        </p:xfrm>
        <a:graphic>
          <a:graphicData uri="http://schemas.openxmlformats.org/drawingml/2006/table">
            <a:tbl>
              <a:tblPr/>
              <a:tblGrid>
                <a:gridCol w="3504960"/>
                <a:gridCol w="3505320"/>
              </a:tblGrid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414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ore than 1 billion (109) point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415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ore than 1 trillion (10^12) point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414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ore than 100 million (10^6) point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416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ess than 100 million (10^6) point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at tools do you use?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NOT YET TABULATED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77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Advanced Format Standards for Point Cloud Data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Michael Ingram, Harris 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rving LiDAR Through Existing OGC Standards.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Scott Pakula, Pixia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5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As of Friday (04 March 2016), we had received 170 responses to the survey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Of the 170 responses, I found: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3 times the same person filled out the survey twice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Different people from the same organization filled out the survey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2e5c"/>
                </a:solidFill>
                <a:latin typeface="Arial"/>
              </a:rPr>
              <a:t>2 from one org</a:t>
            </a:r>
            <a:endParaRPr b="0" lang="en-US" sz="18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2e5c"/>
                </a:solidFill>
                <a:latin typeface="Arial"/>
              </a:rPr>
              <a:t>3 from one org</a:t>
            </a:r>
            <a:endParaRPr b="0" lang="en-US" sz="18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2e5c"/>
                </a:solidFill>
                <a:latin typeface="Arial"/>
              </a:rPr>
              <a:t>2 from one org</a:t>
            </a:r>
            <a:endParaRPr b="0" lang="en-US" sz="18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o basically, that gives us 163 individual responses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8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at are your major sources for surface scan point clouds? 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01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5800" y="2209680"/>
          <a:ext cx="7467480" cy="3886200"/>
        </p:xfrm>
        <a:graphic>
          <a:graphicData uri="http://schemas.openxmlformats.org/drawingml/2006/table">
            <a:tbl>
              <a:tblPr/>
              <a:tblGrid>
                <a:gridCol w="3733920"/>
                <a:gridCol w="3733560"/>
              </a:tblGrid>
              <a:tr h="266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1917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27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irborne LiDA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917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557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errestrial Lidar (including Mobile Mapping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7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door Laser Scannin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7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ONAR (single and multi-beam echo’s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7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hotogrammet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7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ubsurface Point Cloud from Seismic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7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ubsea lida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7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ADAR (PS-InSAR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7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UAV based Photogrammet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7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&amp;D senso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7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tmospheric Lidar (pointing up!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7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on't use. Just interested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at formats do you use to store point clouds?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05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33520" y="1828800"/>
          <a:ext cx="7238880" cy="4495680"/>
        </p:xfrm>
        <a:graphic>
          <a:graphicData uri="http://schemas.openxmlformats.org/drawingml/2006/table">
            <a:tbl>
              <a:tblPr/>
              <a:tblGrid>
                <a:gridCol w="3619440"/>
                <a:gridCol w="3619440"/>
              </a:tblGrid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1810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AS (ASPRS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AZ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64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SCII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racle SDO_PC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810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ostgreSQL-PostGIS PCPATC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DAL-generated block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lat tabl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810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5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64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bpf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C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810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3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TX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SA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ZLA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810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ATLAB .ma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64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O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8072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C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64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QLi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C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P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810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PC : Orbit Point Clou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t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at formats do you use to store point clouds? (cont.)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09480" y="1828800"/>
          <a:ext cx="6858000" cy="448452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17964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XP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GMP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w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WMO GRIB &amp; BUF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64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cp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DB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D shapefil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64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MP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AGA .spc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errasolid Fast Bina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64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GSF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H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etCDF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SRI LAS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64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Kongsberg AL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zf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BAG Bathymetric Attributed Gri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64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a20 (Trimble format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ulseWav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B-System supported sonar format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64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atabas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vendor specific format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wn forma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on't use. Just interested in what others do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at formats do you use to transfer point clouds (both internally and to external entities)?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13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62120" y="2057400"/>
          <a:ext cx="6858000" cy="419112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190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20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AS (ASPRS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9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AZ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SCII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racle SDO_PC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9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ostgreSQL-PostGIS PCPATC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DAL-generated block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lat tabl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9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5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9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bpf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C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3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9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TX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SA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ZLA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9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O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9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C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QLi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C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at formats do you use to transfer point clouds (both internally and to external entities)? (cont.)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17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38080" y="2209680"/>
          <a:ext cx="7010640" cy="3810240"/>
        </p:xfrm>
        <a:graphic>
          <a:graphicData uri="http://schemas.openxmlformats.org/drawingml/2006/table">
            <a:tbl>
              <a:tblPr/>
              <a:tblGrid>
                <a:gridCol w="3505320"/>
                <a:gridCol w="3505320"/>
              </a:tblGrid>
              <a:tr h="203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210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P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1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t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1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GMP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1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WMO GRIB &amp; BUF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12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AGA .spc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1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GSF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1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H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1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B-System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1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etCDF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10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zf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1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ulseWav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1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BAG Bathymetric Attributed Gri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ODTre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1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B-System supported sonar format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1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wn forma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424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on't use. Just interested in what others do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20:13:59Z</dcterms:created>
  <dc:creator>Scott Simmons</dc:creator>
  <dc:description/>
  <dc:language>en-US</dc:language>
  <cp:lastModifiedBy>Tillman, Stanley P (Stan)</cp:lastModifiedBy>
  <cp:lastPrinted>2003-02-03T21:59:32Z</cp:lastPrinted>
  <dcterms:modified xsi:type="dcterms:W3CDTF">2016-03-08T16:17:38Z</dcterms:modified>
  <cp:revision>16</cp:revision>
  <dc:subject>OGC TC/PC</dc:subject>
  <dc:title>&lt;Working Group Report Template&gt;</dc:title>
</cp:coreProperties>
</file>