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D675-00A4-4A03-9476-57DB39396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77F9-5BC9-4FB8-80CB-AACA607C2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546CC-E09F-4AB2-969F-6FADBA478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571A7-83F5-423B-8D8E-3C120313E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96BB2-351D-45DA-B45D-B88E79C8C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A8C3-4FD6-48F8-99A5-5AD2DD046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1D732-8CC0-4E06-9A70-1ECED426D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D1A24-A777-442D-8E99-D7EF1C495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1E3EF-6194-4A1C-BFEB-D1575B610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F003B-A373-45E6-A0C8-94141C1FC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3D72-0DE1-422F-BEEF-BEFA7104C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C287-ABB1-4633-AAC7-D22F124A7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365040" y="776160"/>
            <a:ext cx="845496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324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749B-0684-42A0-8188-26595FFA54A3}" type="slidenum">
              <a:rPr b="0" lang="en-US" sz="900" spc="-1" strike="noStrike">
                <a:solidFill>
                  <a:srgbClr val="092e5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334080" y="6219720"/>
            <a:ext cx="1155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e5c"/>
                </a:solidFill>
                <a:latin typeface="Times New Roman"/>
                <a:ea typeface="MS PGothic"/>
              </a:rPr>
              <a:t>OGC</a:t>
            </a:r>
            <a:endParaRPr b="1" lang="en-US" sz="4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1498680" y="6270480"/>
            <a:ext cx="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2e5c"/>
                </a:solidFill>
                <a:latin typeface="Arial"/>
              </a:rPr>
              <a:t>®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8"/>
          <p:cNvSpPr/>
          <p:nvPr/>
        </p:nvSpPr>
        <p:spPr>
          <a:xfrm>
            <a:off x="8739000" y="214200"/>
            <a:ext cx="7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1" lang="en-US" sz="8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4" name="Picture 10" descr="OGC header 2010122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Picture 7.png"/>
          <p:cNvPicPr/>
          <p:nvPr/>
        </p:nvPicPr>
        <p:blipFill>
          <a:blip r:embed="rId3"/>
          <a:stretch/>
        </p:blipFill>
        <p:spPr>
          <a:xfrm>
            <a:off x="380880" y="6095880"/>
            <a:ext cx="13813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149360" y="1219320"/>
            <a:ext cx="8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ponsored by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4"/>
          <a:stretch/>
        </p:blipFill>
        <p:spPr>
          <a:xfrm>
            <a:off x="3060720" y="1943280"/>
            <a:ext cx="302256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3009960" y="640044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 Black"/>
              </a:rPr>
              <a:t>Point Cloud DWG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98th OGC Technical Committe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Washington, DC US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tan Tillman, Intergraph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08 March 2016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009960" y="64008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re your most common use cases for point clouds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1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1828800"/>
          <a:ext cx="7238880" cy="419112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isualiz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igital Terrain Modell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eature Extra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D BUILDING MODE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051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termediate product for 3D textured mesh reconstru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lly 3D object model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ordin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struction Quality Contro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IM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fil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lash dete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olumetric Analys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eological/sedimentary description/quantific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alculation of descriptive statistics of return heights for modeling vegetation characteristic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re your most common use cases for point clouds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5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2133720"/>
          <a:ext cx="7391520" cy="411480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19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orest assessme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asure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abrication measureme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mote sensing researc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lope analys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4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atersh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eature Dete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oftware Develop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merical Weather Predi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iewsh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nd forming possibilit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ee extra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ity Modell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urface Constru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s a start point for estimating characteristics of sea i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istribution to us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1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re your main application areas for point clouds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9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1905120"/>
          <a:ext cx="7543800" cy="411480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23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ater Manage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mart C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ivil Engineer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sset Manage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cheolog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AYLIGHT PLANN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searc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ydrolog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ceanograph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orest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FX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eafloor Mapp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rrain analys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eolog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eophysic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eodes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re your main application areas for point clouds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3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2133720"/>
          <a:ext cx="7391160" cy="3809880"/>
        </p:xfrm>
        <a:graphic>
          <a:graphicData uri="http://schemas.openxmlformats.org/drawingml/2006/table">
            <a:tbl>
              <a:tblPr/>
              <a:tblGrid>
                <a:gridCol w="3695760"/>
                <a:gridCol w="3695400"/>
              </a:tblGrid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atural hazar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ryosphere and climate chang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ducation/teach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fense and Intellige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stru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IM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il and G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ansport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Utilit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ustri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edimentolog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eomorpholog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in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nviron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re your main application areas for point clouds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7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2203560"/>
          <a:ext cx="7696080" cy="381636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21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2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gribusin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athymet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teorolog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urveying and mapp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ritage Document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s-built document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&amp;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fil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bject detection and recogni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M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iew analys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blic Safe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ienteering mapp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astal zone manage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5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How do you store point clouds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1828800"/>
          <a:ext cx="7391160" cy="3886200"/>
        </p:xfrm>
        <a:graphic>
          <a:graphicData uri="http://schemas.openxmlformats.org/drawingml/2006/table">
            <a:tbl>
              <a:tblPr/>
              <a:tblGrid>
                <a:gridCol w="3695760"/>
                <a:gridCol w="3695400"/>
              </a:tblGrid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 a file on a network driv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 a databas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 the clou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 a file on a compute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MOVABLE DRIV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s files on high performance computers (HPC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erv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IDARServer (www.lidarserver.com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ap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jectwis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ttributes do your point clouds contain besides XYZ coordinates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5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8080" y="2133720"/>
          <a:ext cx="7239240" cy="3581280"/>
        </p:xfrm>
        <a:graphic>
          <a:graphicData uri="http://schemas.openxmlformats.org/drawingml/2006/table">
            <a:tbl>
              <a:tblPr/>
              <a:tblGrid>
                <a:gridCol w="3619800"/>
                <a:gridCol w="3619440"/>
              </a:tblGrid>
              <a:tr h="263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imestamp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tens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lassific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lou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curacy (stddev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lse Form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lse 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irection and Length of Scanli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onar attribu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stimated surface norma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asurement ang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ehicle location/attitud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ttributes do your point clouds contain besides XYZ coordinates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9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2120" y="2114640"/>
          <a:ext cx="7238880" cy="390528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207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1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can posi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canner #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oustic backscatte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oustic variabl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fil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rma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-Sectio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olume Calculatio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ime Chang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lse source ID (flightline ID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can ang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ithheld fla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verlap fla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mber of retur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turn 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user dat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ll-waveform analys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ttributes do your point clouds contain besides XYZ coordinates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53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38080" y="2133720"/>
          <a:ext cx="7620120" cy="4037040"/>
        </p:xfrm>
        <a:graphic>
          <a:graphicData uri="http://schemas.openxmlformats.org/drawingml/2006/table">
            <a:tbl>
              <a:tblPr/>
              <a:tblGrid>
                <a:gridCol w="3810240"/>
                <a:gridCol w="3809880"/>
              </a:tblGrid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Rang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Thet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Ph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1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Dire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Mirror face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Amplitud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Reflect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Pulse shape devi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Background radi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Temperatu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1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Sensor loc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Visib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conversion do you apply to the point clouds in order to use them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57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38080" y="2114640"/>
          <a:ext cx="7162920" cy="3981240"/>
        </p:xfrm>
        <a:graphic>
          <a:graphicData uri="http://schemas.openxmlformats.org/drawingml/2006/table">
            <a:tbl>
              <a:tblPr/>
              <a:tblGrid>
                <a:gridCol w="3581640"/>
                <a:gridCol w="3581280"/>
              </a:tblGrid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ne, direct use of point clou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4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o features (vector object rafter detection/recognition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o regular grid (raster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vel of Detail (LoD) represent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o TI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implific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d delaunay triangul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RC/glt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lly 3D mes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xtract vecto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xtured Mesh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thophot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ctre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ordinate systems transformatio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4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Update on the Point Cloud Survey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tan Tillman, Intergraph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Improving Access to Point Cloud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Keith Ryden, Esri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Visibility analysis with the 3D skeleton of a point cloud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antien Stoter, TUDelft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Precise spatial and radiometric processing of the Level 0 point cloud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huck Heazel, WiSC Enterprise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2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ich temporal aspect of point clouds are relevant for you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61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2120" y="2133720"/>
          <a:ext cx="6629400" cy="403704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</a:tblGrid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04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mporal granularity at data set (a ‘point cloud’) leve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05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mporal resolution / update frequency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mporal resolution / update frequency month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04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mporal resolution / update frequency day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onitoring applicatio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hange dete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mporal granularity at point leve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mporal resolution / update frequency sec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ranulatiry at the block and polygon leve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ranularity at Data subset (tile) leve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question is not clea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/A or 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05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During what phase do you encounter interoperability challenges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65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38080" y="2209680"/>
          <a:ext cx="6858000" cy="32004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6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torage / Manage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6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issemin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6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isualization / Intera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6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hange Reference System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nalysis / Simlu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6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mbining Data from multiple sour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6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ata Acquisi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S solves everyth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6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do you consider the most important area of point cloud standardization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69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2120" y="2133720"/>
          <a:ext cx="7010280" cy="3886200"/>
        </p:xfrm>
        <a:graphic>
          <a:graphicData uri="http://schemas.openxmlformats.org/drawingml/2006/table">
            <a:tbl>
              <a:tblPr/>
              <a:tblGrid>
                <a:gridCol w="3504960"/>
                <a:gridCol w="3505320"/>
              </a:tblGrid>
              <a:tr h="21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ata Mode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3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ile Format / Encod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BMS / SQ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eb Service (WxxS) protoco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3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 OPIN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ex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3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uxillary dat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lassific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5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idely existing support in all major software packag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ustry needs to move towards Full-Waveform rather than just point clou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deally open format and widely used (las/laz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5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traight forward lat, long and northing easting typ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volume of point clouds have you managed/processed/stored/etc. in the last 12 month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3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62120" y="2362320"/>
          <a:ext cx="7010280" cy="2057400"/>
        </p:xfrm>
        <a:graphic>
          <a:graphicData uri="http://schemas.openxmlformats.org/drawingml/2006/table">
            <a:tbl>
              <a:tblPr/>
              <a:tblGrid>
                <a:gridCol w="3504960"/>
                <a:gridCol w="3505320"/>
              </a:tblGrid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ore than 1 billion (109) poi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ore than 1 trillion (10^12) poi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ore than 100 million (10^6) poi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ss than 100 million (10^6) poi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tools do you use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NOT YET TABULATED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7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Advanced Format Standards for Point Cloud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ichael Ingram, Harris 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rving LiDAR Through Existing OGC Standards.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cott Pakula, Pixi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5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As of Friday (04 March 2016), we had received 170 responses to the survey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Of the 170 responses, I found: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3 times the same person filled out the survey twic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Different people from the same organization filled out the survey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2 from one org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3 from one org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2 from one org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o basically, that gives us 163 individual response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8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re your major sources for surface scan point clouds? 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1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2209680"/>
          <a:ext cx="7467480" cy="388620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1917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irborne LiDA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17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rrestrial Lidar (including Mobile Mapping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oor Laser Scann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ONAR (single and multi-beam echo’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hotogrammet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ubsurface Point Cloud from Seismi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ubsea lida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ADAR (PS-InSAR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UAV based Photogrammet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&amp;D senso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tmospheric Lidar (pointing up!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formats do you use to store point clouds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5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1828800"/>
          <a:ext cx="7238880" cy="449568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1810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S (ASPR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Z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SC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acle SDO_P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10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stgreSQL-PostGIS PCPATC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DAL-generated bl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lat tab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10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5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p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C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10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3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TX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SA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ZL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10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ATLAB .ma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072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C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Li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C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P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10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PC : Orbit Point Clou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formats do you use to store point clouds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1828800"/>
          <a:ext cx="6858000" cy="44845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XP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MP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w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MO GRIB &amp; BUF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cp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DB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D shapefi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MP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AGA .sp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rrasolid Fast Bina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S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etCD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SRI LAS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Kongsberg AL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zf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AG Bathymetric Attributed Gri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20 (Trimble format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lseWav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B-System supported sonar forma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atabas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endor specific forma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wn forma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formats do you use to transfer point clouds (both internally and to external entities)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13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2120" y="2057400"/>
          <a:ext cx="6858000" cy="41911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9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S (ASPR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Z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SC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acle SDO_P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stgreSQL-PostGIS PCPATC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DAL-generated bl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lat tab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5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p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C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3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TX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SA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ZL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C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Li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C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formats do you use to transfer point clouds (both internally and to external entities)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17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2209680"/>
          <a:ext cx="7010640" cy="3810240"/>
        </p:xfrm>
        <a:graphic>
          <a:graphicData uri="http://schemas.openxmlformats.org/drawingml/2006/table">
            <a:tbl>
              <a:tblPr/>
              <a:tblGrid>
                <a:gridCol w="3505320"/>
                <a:gridCol w="3505320"/>
              </a:tblGrid>
              <a:tr h="203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P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MP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MO GRIB &amp; BUF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AGA .sp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S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B-System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etCD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zf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lseWav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AG Bathymetric Attributed Gri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ODTre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B-System supported sonar forma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wn forma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2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20:13:59Z</dcterms:created>
  <dc:creator>Scott Simmons</dc:creator>
  <dc:description/>
  <dc:language>en-US</dc:language>
  <cp:lastModifiedBy>Tillman, Stanley P (Stan)</cp:lastModifiedBy>
  <cp:lastPrinted>2003-02-03T21:59:32Z</cp:lastPrinted>
  <dcterms:modified xsi:type="dcterms:W3CDTF">2016-03-08T16:17:38Z</dcterms:modified>
  <cp:revision>16</cp:revision>
  <dc:subject>OGC TC/PC</dc:subject>
  <dc:title>&lt;Working Group Report Template&gt;</dc:title>
</cp:coreProperties>
</file>