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7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3.png" ContentType="image/png"/>
  <Override PartName="/ppt/media/image26.png" ContentType="image/png"/>
  <Override PartName="/ppt/media/image1.png" ContentType="image/png"/>
  <Override PartName="/ppt/media/image24.png" ContentType="image/png"/>
  <Override PartName="/ppt/media/image25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90403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9048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000" spc="-1" strike="noStrike">
              <a:solidFill>
                <a:srgbClr val="000000"/>
              </a:solidFill>
              <a:latin typeface="CG Times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9232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3911760" y="-360"/>
            <a:ext cx="299232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47680" y="692280"/>
            <a:ext cx="4610160" cy="345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2e5c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920880" y="4379400"/>
            <a:ext cx="506232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5"/>
          </p:nvPr>
        </p:nvSpPr>
        <p:spPr>
          <a:xfrm>
            <a:off x="0" y="8759520"/>
            <a:ext cx="299232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6"/>
          </p:nvPr>
        </p:nvSpPr>
        <p:spPr>
          <a:xfrm>
            <a:off x="3911760" y="8759520"/>
            <a:ext cx="299232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024ADD6F-3194-473B-9258-483AB8AD10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7680" y="692280"/>
            <a:ext cx="4608720" cy="345744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920880" y="4379400"/>
            <a:ext cx="506232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Slide Number Placeholder 3"/>
          <p:cNvSpPr/>
          <p:nvPr/>
        </p:nvSpPr>
        <p:spPr>
          <a:xfrm>
            <a:off x="3911760" y="8759880"/>
            <a:ext cx="29923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8D01540F-DCE4-4B61-8FF6-327342844571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G Time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7680" y="692280"/>
            <a:ext cx="4608720" cy="345744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20880" y="4379400"/>
            <a:ext cx="506232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Slide Number Placeholder 3"/>
          <p:cNvSpPr/>
          <p:nvPr/>
        </p:nvSpPr>
        <p:spPr>
          <a:xfrm>
            <a:off x="3911760" y="8759880"/>
            <a:ext cx="29923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84BA7CA5-89B9-4E04-B5C9-841DD2E9E383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G Time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77188F-FA67-4327-BEFF-94E3C0A250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5600" y="1279080"/>
            <a:ext cx="84582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45600" y="3834000"/>
            <a:ext cx="84582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1DCA08-4FAE-4E76-B0CC-133824E938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45600" y="1279080"/>
            <a:ext cx="4127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9640" y="1279080"/>
            <a:ext cx="4127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5600" y="3834000"/>
            <a:ext cx="4127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9640" y="3834000"/>
            <a:ext cx="4127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93413F-7974-4AA6-9834-9F6097F7CE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45600" y="1279080"/>
            <a:ext cx="2723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05440" y="1279080"/>
            <a:ext cx="2723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65640" y="1279080"/>
            <a:ext cx="2723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45600" y="3834000"/>
            <a:ext cx="2723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05440" y="3834000"/>
            <a:ext cx="2723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65640" y="3834000"/>
            <a:ext cx="2723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8113F5-EEFC-49A7-AF9A-B46D0324FC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345600" y="1279080"/>
            <a:ext cx="8458200" cy="48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45600" y="1279080"/>
            <a:ext cx="8458200" cy="48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45600" y="1279080"/>
            <a:ext cx="4127400" cy="48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9640" y="1279080"/>
            <a:ext cx="4127400" cy="48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231480" y="136080"/>
            <a:ext cx="86835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45600" y="1279080"/>
            <a:ext cx="4127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9640" y="1279080"/>
            <a:ext cx="4127400" cy="48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45600" y="3834000"/>
            <a:ext cx="4127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45600" y="1279080"/>
            <a:ext cx="8458200" cy="48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1FC58B-83EA-466C-BAE1-12E361ED8F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45600" y="1279080"/>
            <a:ext cx="4127400" cy="48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9640" y="1279080"/>
            <a:ext cx="4127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9640" y="3834000"/>
            <a:ext cx="4127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45600" y="1279080"/>
            <a:ext cx="4127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9640" y="1279080"/>
            <a:ext cx="4127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45600" y="3834000"/>
            <a:ext cx="84582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45600" y="1279080"/>
            <a:ext cx="84582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45600" y="3834000"/>
            <a:ext cx="84582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45600" y="1279080"/>
            <a:ext cx="4127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9640" y="1279080"/>
            <a:ext cx="4127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45600" y="3834000"/>
            <a:ext cx="4127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9640" y="3834000"/>
            <a:ext cx="4127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5600" y="1279080"/>
            <a:ext cx="2723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05440" y="1279080"/>
            <a:ext cx="2723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65640" y="1279080"/>
            <a:ext cx="2723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345600" y="3834000"/>
            <a:ext cx="2723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05440" y="3834000"/>
            <a:ext cx="2723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65640" y="3834000"/>
            <a:ext cx="2723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5600" y="1279080"/>
            <a:ext cx="8458200" cy="48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57FD93-6635-45ED-9938-34DFB3366C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45600" y="1279080"/>
            <a:ext cx="4127400" cy="48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9640" y="1279080"/>
            <a:ext cx="4127400" cy="48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1789CE-EB7B-435B-AC68-A64A677250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BA9D75-8D22-4077-9163-CC4CF47D49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31480" y="136080"/>
            <a:ext cx="86835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2BEF9F-EA08-4DA9-821B-CE1282DB47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45600" y="1279080"/>
            <a:ext cx="4127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9640" y="1279080"/>
            <a:ext cx="4127400" cy="48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45600" y="3834000"/>
            <a:ext cx="4127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34E29D-D988-48A9-AAD5-2310D4DBC8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45600" y="1279080"/>
            <a:ext cx="4127400" cy="48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9640" y="1279080"/>
            <a:ext cx="4127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9640" y="3834000"/>
            <a:ext cx="4127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56DB75-5DB7-40CB-A6E0-1FF2A836B7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45600" y="1279080"/>
            <a:ext cx="4127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9640" y="1279080"/>
            <a:ext cx="4127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45600" y="3834000"/>
            <a:ext cx="84582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C974F1-E217-4DFD-AA6E-7CC703E50D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5" descr=""/>
          <p:cNvPicPr/>
          <p:nvPr/>
        </p:nvPicPr>
        <p:blipFill>
          <a:blip r:embed="rId2"/>
          <a:stretch/>
        </p:blipFill>
        <p:spPr>
          <a:xfrm>
            <a:off x="365040" y="776160"/>
            <a:ext cx="8454960" cy="4906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2e5c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45600" y="1279080"/>
            <a:ext cx="8458200" cy="48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3280" indent="-233280">
              <a:spcBef>
                <a:spcPts val="601"/>
              </a:spcBef>
              <a:buClr>
                <a:srgbClr val="092e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2e5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  <a:p>
            <a:pPr lvl="1" marL="569880" indent="-222120">
              <a:spcBef>
                <a:spcPts val="601"/>
              </a:spcBef>
              <a:buClr>
                <a:srgbClr val="092e5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2e5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  <a:p>
            <a:pPr lvl="2" marL="912960" indent="-228600">
              <a:spcBef>
                <a:spcPts val="601"/>
              </a:spcBef>
              <a:buClr>
                <a:srgbClr val="092e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2e5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  <a:p>
            <a:pPr lvl="3" marL="1255680" indent="-228600">
              <a:spcBef>
                <a:spcPts val="601"/>
              </a:spcBef>
              <a:buClr>
                <a:srgbClr val="092e5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2e5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  <a:p>
            <a:pPr lvl="4" marL="1598760" indent="-228600">
              <a:spcBef>
                <a:spcPts val="601"/>
              </a:spcBef>
              <a:buClr>
                <a:srgbClr val="092e5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2e5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  <a:p>
            <a:pPr lvl="5" marL="159876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2e5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  <a:p>
            <a:pPr lvl="6" marL="159876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2e5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2973240" y="6552720"/>
            <a:ext cx="3200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92e5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92e5c"/>
                </a:solidFill>
                <a:latin typeface="Arial"/>
              </a:rPr>
              <a:t>Copyright © 2016 Open Geospatial Consortiu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896160" y="655272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92e5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79A1A-0336-4827-AF4D-8E72EE627D22}" type="slidenum">
              <a:rPr b="0" lang="en-US" sz="900" spc="-1" strike="noStrike">
                <a:solidFill>
                  <a:srgbClr val="092e5c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6"/>
          <p:cNvSpPr/>
          <p:nvPr/>
        </p:nvSpPr>
        <p:spPr>
          <a:xfrm>
            <a:off x="334080" y="6219720"/>
            <a:ext cx="11559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92e5c"/>
                </a:solidFill>
                <a:latin typeface="Times New Roman"/>
                <a:ea typeface="MS PGothic"/>
              </a:rPr>
              <a:t>OGC</a:t>
            </a:r>
            <a:endParaRPr b="1" lang="en-US" sz="4000" spc="-1" strike="noStrike">
              <a:solidFill>
                <a:srgbClr val="000000"/>
              </a:solidFill>
              <a:latin typeface="CG Times"/>
            </a:endParaRPr>
          </a:p>
        </p:txBody>
      </p:sp>
      <p:sp>
        <p:nvSpPr>
          <p:cNvPr id="6" name="Text Box 20"/>
          <p:cNvSpPr/>
          <p:nvPr/>
        </p:nvSpPr>
        <p:spPr>
          <a:xfrm>
            <a:off x="1498680" y="6270480"/>
            <a:ext cx="9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92e5c"/>
                </a:solidFill>
                <a:latin typeface="Arial"/>
              </a:rPr>
              <a:t>®</a:t>
            </a:r>
            <a:endParaRPr b="1" lang="en-US" sz="1000" spc="-1" strike="noStrike">
              <a:solidFill>
                <a:srgbClr val="000000"/>
              </a:solidFill>
              <a:latin typeface="CG Time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18"/>
          <p:cNvSpPr/>
          <p:nvPr/>
        </p:nvSpPr>
        <p:spPr>
          <a:xfrm>
            <a:off x="8739000" y="214200"/>
            <a:ext cx="75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®</a:t>
            </a:r>
            <a:endParaRPr b="1" lang="en-US" sz="800" spc="-1" strike="noStrike">
              <a:solidFill>
                <a:srgbClr val="000000"/>
              </a:solidFill>
              <a:latin typeface="CG Times"/>
            </a:endParaRPr>
          </a:p>
        </p:txBody>
      </p:sp>
      <p:pic>
        <p:nvPicPr>
          <p:cNvPr id="44" name="Picture 10" descr="OGC header 20101220.png"/>
          <p:cNvPicPr/>
          <p:nvPr/>
        </p:nvPicPr>
        <p:blipFill>
          <a:blip r:embed="rId2"/>
          <a:stretch/>
        </p:blipFill>
        <p:spPr>
          <a:xfrm>
            <a:off x="0" y="0"/>
            <a:ext cx="9144000" cy="22478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1" descr="Picture 7.png"/>
          <p:cNvPicPr/>
          <p:nvPr/>
        </p:nvPicPr>
        <p:blipFill>
          <a:blip r:embed="rId3"/>
          <a:stretch/>
        </p:blipFill>
        <p:spPr>
          <a:xfrm>
            <a:off x="380880" y="6095880"/>
            <a:ext cx="1381320" cy="609840"/>
          </a:xfrm>
          <a:prstGeom prst="rect">
            <a:avLst/>
          </a:prstGeom>
          <a:ln w="0">
            <a:noFill/>
          </a:ln>
        </p:spPr>
      </p:pic>
      <p:sp>
        <p:nvSpPr>
          <p:cNvPr id="46" name="Text Box 5"/>
          <p:cNvSpPr/>
          <p:nvPr/>
        </p:nvSpPr>
        <p:spPr>
          <a:xfrm>
            <a:off x="4149360" y="1219320"/>
            <a:ext cx="84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MS PGothic"/>
              </a:rPr>
              <a:t>Sponsored by</a:t>
            </a:r>
            <a:endParaRPr b="1" lang="en-US" sz="1000" spc="-1" strike="noStrike">
              <a:solidFill>
                <a:srgbClr val="000000"/>
              </a:solidFill>
              <a:latin typeface="CG Times"/>
            </a:endParaRPr>
          </a:p>
        </p:txBody>
      </p:sp>
      <p:pic>
        <p:nvPicPr>
          <p:cNvPr id="47" name="Picture 12" descr=""/>
          <p:cNvPicPr/>
          <p:nvPr/>
        </p:nvPicPr>
        <p:blipFill>
          <a:blip r:embed="rId4"/>
          <a:stretch/>
        </p:blipFill>
        <p:spPr>
          <a:xfrm>
            <a:off x="3060720" y="1943280"/>
            <a:ext cx="3022560" cy="60948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2e5c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345600" y="1279080"/>
            <a:ext cx="8458200" cy="48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3280" indent="-233280">
              <a:spcBef>
                <a:spcPts val="601"/>
              </a:spcBef>
              <a:buClr>
                <a:srgbClr val="092e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2e5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  <a:p>
            <a:pPr lvl="1" marL="569880" indent="-222120">
              <a:spcBef>
                <a:spcPts val="601"/>
              </a:spcBef>
              <a:buClr>
                <a:srgbClr val="092e5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2e5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  <a:p>
            <a:pPr lvl="2" marL="912960" indent="-228600">
              <a:spcBef>
                <a:spcPts val="601"/>
              </a:spcBef>
              <a:buClr>
                <a:srgbClr val="092e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2e5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  <a:p>
            <a:pPr lvl="3" marL="1255680" indent="-228600">
              <a:spcBef>
                <a:spcPts val="601"/>
              </a:spcBef>
              <a:buClr>
                <a:srgbClr val="092e5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2e5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  <a:p>
            <a:pPr lvl="4" marL="1598760" indent="-228600">
              <a:spcBef>
                <a:spcPts val="601"/>
              </a:spcBef>
              <a:buClr>
                <a:srgbClr val="092e5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2e5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  <a:p>
            <a:pPr lvl="5" marL="159876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2e5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  <a:p>
            <a:pPr lvl="6" marL="159876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2e5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3"/>
          </p:nvPr>
        </p:nvSpPr>
        <p:spPr>
          <a:xfrm>
            <a:off x="3009960" y="6400440"/>
            <a:ext cx="32767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92e5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92e5c"/>
                </a:solidFill>
                <a:latin typeface="Arial"/>
              </a:rPr>
              <a:t>Copyright © 2016 Open Geospatial Consortiu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3.png"/><Relationship Id="rId3" Type="http://schemas.openxmlformats.org/officeDocument/2006/relationships/image" Target="../media/image25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3.png"/><Relationship Id="rId3" Type="http://schemas.openxmlformats.org/officeDocument/2006/relationships/image" Target="../media/image26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2120" y="3276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2e5c"/>
                </a:solidFill>
                <a:latin typeface="Arial Black"/>
              </a:rPr>
              <a:t>Improving Access to Point Cloud Data</a:t>
            </a: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447920" y="45720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92e5c"/>
                </a:solidFill>
                <a:latin typeface="Arial"/>
                <a:ea typeface="Arial"/>
              </a:rPr>
              <a:t>98th OGC Technical Committee</a:t>
            </a:r>
            <a:endParaRPr b="0" lang="en-US" sz="1100" spc="-1" strike="noStrike">
              <a:solidFill>
                <a:srgbClr val="092e5c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92e5c"/>
                </a:solidFill>
                <a:latin typeface="Arial"/>
                <a:ea typeface="Arial"/>
              </a:rPr>
              <a:t>Washington DC, USA</a:t>
            </a:r>
            <a:endParaRPr b="0" lang="en-US" sz="1100" spc="-1" strike="noStrike">
              <a:solidFill>
                <a:srgbClr val="092e5c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92e5c"/>
                </a:solidFill>
                <a:latin typeface="Arial"/>
                <a:ea typeface="Arial"/>
              </a:rPr>
              <a:t>8 March 2016</a:t>
            </a:r>
            <a:endParaRPr b="0" lang="en-US" sz="1100" spc="-1" strike="noStrike">
              <a:solidFill>
                <a:srgbClr val="092e5c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92e5c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92e5c"/>
                </a:solidFill>
                <a:latin typeface="Arial"/>
              </a:rPr>
              <a:t>Keith Ryden</a:t>
            </a:r>
            <a:endParaRPr b="0" lang="en-US" sz="1100" spc="-1" strike="noStrike">
              <a:solidFill>
                <a:srgbClr val="092e5c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92e5c"/>
                </a:solidFill>
                <a:latin typeface="Arial"/>
              </a:rPr>
              <a:t>Esri Software Development</a:t>
            </a:r>
            <a:endParaRPr b="0" lang="en-US" sz="1100" spc="-1" strike="noStrike">
              <a:solidFill>
                <a:srgbClr val="092e5c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92e5c"/>
                </a:solidFill>
                <a:latin typeface="Arial"/>
              </a:rPr>
              <a:t>kryden@esri.com</a:t>
            </a:r>
            <a:endParaRPr b="0" lang="en-US" sz="1100" spc="-1" strike="noStrike">
              <a:solidFill>
                <a:srgbClr val="092e5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2e5c"/>
                </a:solidFill>
                <a:latin typeface="Arial"/>
              </a:rPr>
              <a:t>Point Classification</a:t>
            </a: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pic>
        <p:nvPicPr>
          <p:cNvPr id="236" name="Content Placeholder 4" descr=""/>
          <p:cNvPicPr/>
          <p:nvPr/>
        </p:nvPicPr>
        <p:blipFill>
          <a:blip r:embed="rId1"/>
          <a:stretch/>
        </p:blipFill>
        <p:spPr>
          <a:xfrm>
            <a:off x="4462560" y="1089000"/>
            <a:ext cx="4092480" cy="2021040"/>
          </a:xfrm>
          <a:prstGeom prst="rect">
            <a:avLst/>
          </a:prstGeom>
          <a:ln w="0">
            <a:noFill/>
          </a:ln>
        </p:spPr>
      </p:pic>
      <p:sp>
        <p:nvSpPr>
          <p:cNvPr id="237" name="Footer Placeholder 3"/>
          <p:cNvSpPr/>
          <p:nvPr/>
        </p:nvSpPr>
        <p:spPr>
          <a:xfrm>
            <a:off x="2973240" y="6553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92e5c"/>
                </a:solidFill>
                <a:latin typeface="Arial"/>
              </a:rPr>
              <a:t>Copyright © 2016 Open Geospatial Consortium</a:t>
            </a:r>
            <a:endParaRPr b="1" lang="en-US" sz="900" spc="-1" strike="noStrike">
              <a:solidFill>
                <a:srgbClr val="000000"/>
              </a:solidFill>
              <a:latin typeface="CG Times"/>
            </a:endParaRPr>
          </a:p>
        </p:txBody>
      </p:sp>
      <p:pic>
        <p:nvPicPr>
          <p:cNvPr id="238" name="Picture 5" descr=""/>
          <p:cNvPicPr/>
          <p:nvPr/>
        </p:nvPicPr>
        <p:blipFill>
          <a:blip r:embed="rId2"/>
          <a:stretch/>
        </p:blipFill>
        <p:spPr>
          <a:xfrm>
            <a:off x="4438800" y="3124080"/>
            <a:ext cx="4170240" cy="3124440"/>
          </a:xfrm>
          <a:prstGeom prst="rect">
            <a:avLst/>
          </a:prstGeom>
          <a:ln w="0">
            <a:noFill/>
          </a:ln>
        </p:spPr>
      </p:pic>
      <p:sp>
        <p:nvSpPr>
          <p:cNvPr id="239" name="TextBox 6"/>
          <p:cNvSpPr/>
          <p:nvPr/>
        </p:nvSpPr>
        <p:spPr>
          <a:xfrm>
            <a:off x="4438800" y="619128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G Times"/>
              </a:rPr>
              <a:t>From ASPRS LAS Specification Version 1.4-R13</a:t>
            </a:r>
            <a:endParaRPr b="1" lang="en-US" sz="800" spc="-1" strike="noStrike">
              <a:solidFill>
                <a:srgbClr val="000000"/>
              </a:solidFill>
              <a:latin typeface="CG Times"/>
            </a:endParaRPr>
          </a:p>
        </p:txBody>
      </p:sp>
      <p:sp>
        <p:nvSpPr>
          <p:cNvPr id="240" name="TextBox 7"/>
          <p:cNvSpPr/>
          <p:nvPr/>
        </p:nvSpPr>
        <p:spPr>
          <a:xfrm>
            <a:off x="533520" y="1481040"/>
            <a:ext cx="350496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S defines a set of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assification values</a:t>
            </a:r>
            <a:endParaRPr b="1" lang="en-US" sz="2400" spc="-1" strike="noStrike">
              <a:solidFill>
                <a:srgbClr val="000000"/>
              </a:solidFill>
              <a:latin typeface="CG Time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G Time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lder format values 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ubset of newer values</a:t>
            </a:r>
            <a:endParaRPr b="1" lang="en-US" sz="2400" spc="-1" strike="noStrike">
              <a:solidFill>
                <a:srgbClr val="000000"/>
              </a:solidFill>
              <a:latin typeface="CG Time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G Time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reserved or use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able values 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, where are the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d?</a:t>
            </a:r>
            <a:endParaRPr b="1" lang="en-US" sz="2400" spc="-1" strike="noStrike">
              <a:solidFill>
                <a:srgbClr val="000000"/>
              </a:solidFill>
              <a:latin typeface="CG Time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2e5c"/>
                </a:solidFill>
                <a:latin typeface="Arial"/>
              </a:rPr>
              <a:t>Point Classification</a:t>
            </a: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pic>
        <p:nvPicPr>
          <p:cNvPr id="242" name="Content Placeholder 4" descr=""/>
          <p:cNvPicPr/>
          <p:nvPr/>
        </p:nvPicPr>
        <p:blipFill>
          <a:blip r:embed="rId1"/>
          <a:stretch/>
        </p:blipFill>
        <p:spPr>
          <a:xfrm>
            <a:off x="344520" y="2362320"/>
            <a:ext cx="8458200" cy="3674880"/>
          </a:xfrm>
          <a:prstGeom prst="rect">
            <a:avLst/>
          </a:prstGeom>
          <a:ln w="0">
            <a:noFill/>
          </a:ln>
        </p:spPr>
      </p:pic>
      <p:sp>
        <p:nvSpPr>
          <p:cNvPr id="243" name="Footer Placeholder 3"/>
          <p:cNvSpPr/>
          <p:nvPr/>
        </p:nvSpPr>
        <p:spPr>
          <a:xfrm>
            <a:off x="2973240" y="6553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92e5c"/>
                </a:solidFill>
                <a:latin typeface="Arial"/>
              </a:rPr>
              <a:t>Copyright © 2016 Open Geospatial Consortium</a:t>
            </a:r>
            <a:endParaRPr b="1" lang="en-US" sz="900" spc="-1" strike="noStrike">
              <a:solidFill>
                <a:srgbClr val="000000"/>
              </a:solidFill>
              <a:latin typeface="CG Times"/>
            </a:endParaRPr>
          </a:p>
        </p:txBody>
      </p:sp>
      <p:sp>
        <p:nvSpPr>
          <p:cNvPr id="244" name="TextBox 5"/>
          <p:cNvSpPr/>
          <p:nvPr/>
        </p:nvSpPr>
        <p:spPr>
          <a:xfrm>
            <a:off x="344520" y="144792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G Times"/>
              </a:rPr>
              <a:t>User defined classification values probably end up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G Times"/>
              </a:rPr>
              <a:t>being recorded in spreadsheets….</a:t>
            </a:r>
            <a:endParaRPr b="1" lang="en-US" sz="2400" spc="-1" strike="noStrike">
              <a:solidFill>
                <a:srgbClr val="000000"/>
              </a:solidFill>
              <a:latin typeface="CG Time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2e5c"/>
                </a:solidFill>
                <a:latin typeface="Arial"/>
              </a:rPr>
              <a:t>Point Classification</a:t>
            </a: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345600" y="1279080"/>
            <a:ext cx="8458200" cy="48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3280" indent="-233280">
              <a:spcBef>
                <a:spcPts val="601"/>
              </a:spcBef>
              <a:buClr>
                <a:srgbClr val="092e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2e5c"/>
                </a:solidFill>
                <a:latin typeface="Arial"/>
              </a:rPr>
              <a:t>Data Point Classification is easily defined in a portable format – possible info might include:</a:t>
            </a: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  <a:p>
            <a:pPr lvl="1" marL="569880" indent="-222120">
              <a:spcBef>
                <a:spcPts val="499"/>
              </a:spcBef>
              <a:buClr>
                <a:srgbClr val="092e5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2e5c"/>
                </a:solidFill>
                <a:latin typeface="Arial"/>
              </a:rPr>
              <a:t>Classification Value (integer)</a:t>
            </a:r>
            <a:endParaRPr b="0" lang="en-US" sz="2000" spc="-1" strike="noStrike">
              <a:solidFill>
                <a:srgbClr val="092e5c"/>
              </a:solidFill>
              <a:latin typeface="Arial"/>
            </a:endParaRPr>
          </a:p>
          <a:p>
            <a:pPr lvl="1" marL="569880" indent="-222120">
              <a:spcBef>
                <a:spcPts val="499"/>
              </a:spcBef>
              <a:buClr>
                <a:srgbClr val="092e5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2e5c"/>
                </a:solidFill>
                <a:latin typeface="Arial"/>
              </a:rPr>
              <a:t>Classification Name (short string)</a:t>
            </a:r>
            <a:endParaRPr b="0" lang="en-US" sz="2000" spc="-1" strike="noStrike">
              <a:solidFill>
                <a:srgbClr val="092e5c"/>
              </a:solidFill>
              <a:latin typeface="Arial"/>
            </a:endParaRPr>
          </a:p>
          <a:p>
            <a:pPr lvl="1" marL="569880" indent="-222120">
              <a:spcBef>
                <a:spcPts val="499"/>
              </a:spcBef>
              <a:buClr>
                <a:srgbClr val="092e5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2e5c"/>
                </a:solidFill>
                <a:latin typeface="Arial"/>
              </a:rPr>
              <a:t>Classification Description (optional, longer description)</a:t>
            </a:r>
            <a:endParaRPr b="0" lang="en-US" sz="2000" spc="-1" strike="noStrike">
              <a:solidFill>
                <a:srgbClr val="092e5c"/>
              </a:solidFill>
              <a:latin typeface="Arial"/>
            </a:endParaRPr>
          </a:p>
          <a:p>
            <a:pPr lvl="1" marL="569880" indent="-222120">
              <a:spcBef>
                <a:spcPts val="499"/>
              </a:spcBef>
              <a:buClr>
                <a:srgbClr val="092e5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2e5c"/>
                </a:solidFill>
                <a:latin typeface="Arial"/>
              </a:rPr>
              <a:t>Classification URL (optional, URL to external descriptive resource)</a:t>
            </a:r>
            <a:endParaRPr b="0" lang="en-US" sz="2000" spc="-1" strike="noStrike">
              <a:solidFill>
                <a:srgbClr val="092e5c"/>
              </a:solidFill>
              <a:latin typeface="Arial"/>
            </a:endParaRPr>
          </a:p>
          <a:p>
            <a:pPr lvl="1" marL="569880" indent="-222120">
              <a:spcBef>
                <a:spcPts val="499"/>
              </a:spcBef>
              <a:buClr>
                <a:srgbClr val="092e5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2e5c"/>
                </a:solidFill>
                <a:latin typeface="Arial"/>
              </a:rPr>
              <a:t>Point Count (integer)</a:t>
            </a:r>
            <a:endParaRPr b="0" lang="en-US" sz="2000" spc="-1" strike="noStrike">
              <a:solidFill>
                <a:srgbClr val="092e5c"/>
              </a:solidFill>
              <a:latin typeface="Arial"/>
            </a:endParaRPr>
          </a:p>
          <a:p>
            <a:pPr marL="233280" indent="-233280">
              <a:spcBef>
                <a:spcPts val="601"/>
              </a:spcBef>
              <a:buClr>
                <a:srgbClr val="092e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2e5c"/>
                </a:solidFill>
                <a:latin typeface="Arial"/>
              </a:rPr>
              <a:t>Well suited for either XML or CSV format</a:t>
            </a: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247" name="Footer Placeholder 3"/>
          <p:cNvSpPr/>
          <p:nvPr/>
        </p:nvSpPr>
        <p:spPr>
          <a:xfrm>
            <a:off x="2973240" y="6553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92e5c"/>
                </a:solidFill>
                <a:latin typeface="Arial"/>
              </a:rPr>
              <a:t>Copyright © 2016 Open Geospatial Consortium</a:t>
            </a:r>
            <a:endParaRPr b="1" lang="en-US" sz="900" spc="-1" strike="noStrike">
              <a:solidFill>
                <a:srgbClr val="000000"/>
              </a:solidFill>
              <a:latin typeface="CG Time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2e5c"/>
                </a:solidFill>
                <a:latin typeface="Arial"/>
              </a:rPr>
              <a:t>Fast Spatial Access to Point Records</a:t>
            </a: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345600" y="1279080"/>
            <a:ext cx="8458200" cy="48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3280" indent="-233280">
              <a:spcBef>
                <a:spcPts val="601"/>
              </a:spcBef>
              <a:buClr>
                <a:srgbClr val="092e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2e5c"/>
                </a:solidFill>
                <a:latin typeface="Arial"/>
              </a:rPr>
              <a:t>LAS files consist of variable length records full of individual fixed format point records.</a:t>
            </a: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  <a:p>
            <a:pPr marL="233280" indent="-233280">
              <a:spcBef>
                <a:spcPts val="601"/>
              </a:spcBef>
              <a:buClr>
                <a:srgbClr val="092e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2e5c"/>
                </a:solidFill>
                <a:latin typeface="Arial"/>
              </a:rPr>
              <a:t>Each record has it’s length and ID encoded in its’ header.</a:t>
            </a: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  <a:p>
            <a:pPr marL="233280" indent="-233280">
              <a:spcBef>
                <a:spcPts val="601"/>
              </a:spcBef>
              <a:buClr>
                <a:srgbClr val="092e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2e5c"/>
                </a:solidFill>
                <a:latin typeface="Arial"/>
              </a:rPr>
              <a:t>End up scanning the file to find stuff…</a:t>
            </a: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  <a:p>
            <a:pPr marL="233280" indent="-233280">
              <a:spcBef>
                <a:spcPts val="601"/>
              </a:spcBef>
              <a:buClr>
                <a:srgbClr val="092e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  <a:p>
            <a:pPr marL="233280" indent="-233280">
              <a:spcBef>
                <a:spcPts val="601"/>
              </a:spcBef>
              <a:buClr>
                <a:srgbClr val="092e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2e5c"/>
                </a:solidFill>
                <a:latin typeface="Arial"/>
              </a:rPr>
              <a:t>We can optimize access to LAS data by spatially indexing the variable length point records based on the extent of the points, using the point record ID as the key.</a:t>
            </a: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  <a:p>
            <a:pPr lvl="1" marL="569880" indent="-222120">
              <a:spcBef>
                <a:spcPts val="499"/>
              </a:spcBef>
              <a:buClr>
                <a:srgbClr val="092e5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2e5c"/>
                </a:solidFill>
                <a:latin typeface="Arial"/>
              </a:rPr>
              <a:t>Now you know which variable length point records are of interest…</a:t>
            </a:r>
            <a:endParaRPr b="0" lang="en-US" sz="2000" spc="-1" strike="noStrike">
              <a:solidFill>
                <a:srgbClr val="092e5c"/>
              </a:solidFill>
              <a:latin typeface="Arial"/>
            </a:endParaRPr>
          </a:p>
          <a:p>
            <a:pPr lvl="1" marL="569880" indent="-222120">
              <a:spcBef>
                <a:spcPts val="499"/>
              </a:spcBef>
              <a:buClr>
                <a:srgbClr val="092e5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2e5c"/>
                </a:solidFill>
                <a:latin typeface="Arial"/>
              </a:rPr>
              <a:t>Read only those, and scan the internal points.</a:t>
            </a:r>
            <a:endParaRPr b="0" lang="en-US" sz="20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250" name="Footer Placeholder 3"/>
          <p:cNvSpPr/>
          <p:nvPr/>
        </p:nvSpPr>
        <p:spPr>
          <a:xfrm>
            <a:off x="2973240" y="6553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92e5c"/>
                </a:solidFill>
                <a:latin typeface="Arial"/>
              </a:rPr>
              <a:t>Copyright © 2016 Open Geospatial Consortium</a:t>
            </a:r>
            <a:endParaRPr b="1" lang="en-US" sz="900" spc="-1" strike="noStrike">
              <a:solidFill>
                <a:srgbClr val="000000"/>
              </a:solidFill>
              <a:latin typeface="CG Time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2e5c"/>
                </a:solidFill>
                <a:latin typeface="Arial"/>
              </a:rPr>
              <a:t>Spatial Index</a:t>
            </a: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252" name="TextBox 2"/>
          <p:cNvSpPr/>
          <p:nvPr/>
        </p:nvSpPr>
        <p:spPr>
          <a:xfrm>
            <a:off x="624240" y="2301840"/>
            <a:ext cx="40424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atial indexing for fast access to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by extent/location.  There are</a:t>
            </a:r>
            <a:endParaRPr b="1" lang="en-US" sz="2000" spc="-1" strike="noStrike">
              <a:solidFill>
                <a:srgbClr val="000000"/>
              </a:solidFill>
              <a:latin typeface="CG Time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ral indexing possibilities </a:t>
            </a:r>
            <a:endParaRPr b="1" lang="en-US" sz="2000" spc="-1" strike="noStrike">
              <a:solidFill>
                <a:srgbClr val="000000"/>
              </a:solidFill>
              <a:latin typeface="CG Time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ids </a:t>
            </a:r>
            <a:endParaRPr b="1" lang="en-US" sz="2000" spc="-1" strike="noStrike">
              <a:solidFill>
                <a:srgbClr val="000000"/>
              </a:solidFill>
              <a:latin typeface="CG Time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ad Trees </a:t>
            </a:r>
            <a:endParaRPr b="1" lang="en-US" sz="2000" spc="-1" strike="noStrike">
              <a:solidFill>
                <a:srgbClr val="000000"/>
              </a:solidFill>
              <a:latin typeface="CG Time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Trees</a:t>
            </a:r>
            <a:endParaRPr b="1" lang="en-US" sz="2000" spc="-1" strike="noStrike">
              <a:solidFill>
                <a:srgbClr val="000000"/>
              </a:solidFill>
              <a:latin typeface="CG Times"/>
            </a:endParaRPr>
          </a:p>
        </p:txBody>
      </p:sp>
      <p:pic>
        <p:nvPicPr>
          <p:cNvPr id="253" name="Picture 3" descr=""/>
          <p:cNvPicPr/>
          <p:nvPr/>
        </p:nvPicPr>
        <p:blipFill>
          <a:blip r:embed="rId1"/>
          <a:stretch/>
        </p:blipFill>
        <p:spPr>
          <a:xfrm>
            <a:off x="5334120" y="1600200"/>
            <a:ext cx="2743200" cy="4664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54" name="Straight Connector 5"/>
          <p:cNvSpPr/>
          <p:nvPr/>
        </p:nvSpPr>
        <p:spPr>
          <a:xfrm>
            <a:off x="6705720" y="1600200"/>
            <a:ext cx="0" cy="4664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000" spc="-1" strike="noStrike">
              <a:solidFill>
                <a:srgbClr val="000000"/>
              </a:solidFill>
              <a:latin typeface="CG Times"/>
            </a:endParaRPr>
          </a:p>
        </p:txBody>
      </p:sp>
      <p:sp>
        <p:nvSpPr>
          <p:cNvPr id="255" name="Straight Connector 6"/>
          <p:cNvSpPr/>
          <p:nvPr/>
        </p:nvSpPr>
        <p:spPr>
          <a:xfrm>
            <a:off x="6705720" y="1600200"/>
            <a:ext cx="0" cy="4664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000" spc="-1" strike="noStrike">
              <a:solidFill>
                <a:srgbClr val="000000"/>
              </a:solidFill>
              <a:latin typeface="CG Times"/>
            </a:endParaRPr>
          </a:p>
        </p:txBody>
      </p:sp>
      <p:sp>
        <p:nvSpPr>
          <p:cNvPr id="256" name="Straight Connector 7"/>
          <p:cNvSpPr/>
          <p:nvPr/>
        </p:nvSpPr>
        <p:spPr>
          <a:xfrm>
            <a:off x="6248520" y="1600200"/>
            <a:ext cx="0" cy="4664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000" spc="-1" strike="noStrike">
              <a:solidFill>
                <a:srgbClr val="000000"/>
              </a:solidFill>
              <a:latin typeface="CG Times"/>
            </a:endParaRPr>
          </a:p>
        </p:txBody>
      </p:sp>
      <p:sp>
        <p:nvSpPr>
          <p:cNvPr id="257" name="Straight Connector 8"/>
          <p:cNvSpPr/>
          <p:nvPr/>
        </p:nvSpPr>
        <p:spPr>
          <a:xfrm>
            <a:off x="7162920" y="1600200"/>
            <a:ext cx="0" cy="4664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000" spc="-1" strike="noStrike">
              <a:solidFill>
                <a:srgbClr val="000000"/>
              </a:solidFill>
              <a:latin typeface="CG Times"/>
            </a:endParaRPr>
          </a:p>
        </p:txBody>
      </p:sp>
      <p:sp>
        <p:nvSpPr>
          <p:cNvPr id="258" name="Straight Connector 9"/>
          <p:cNvSpPr/>
          <p:nvPr/>
        </p:nvSpPr>
        <p:spPr>
          <a:xfrm>
            <a:off x="7620120" y="1600200"/>
            <a:ext cx="0" cy="4664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000" spc="-1" strike="noStrike">
              <a:solidFill>
                <a:srgbClr val="000000"/>
              </a:solidFill>
              <a:latin typeface="CG Times"/>
            </a:endParaRPr>
          </a:p>
        </p:txBody>
      </p:sp>
      <p:sp>
        <p:nvSpPr>
          <p:cNvPr id="259" name="Straight Connector 10"/>
          <p:cNvSpPr/>
          <p:nvPr/>
        </p:nvSpPr>
        <p:spPr>
          <a:xfrm>
            <a:off x="5791320" y="1600200"/>
            <a:ext cx="0" cy="4664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000" spc="-1" strike="noStrike">
              <a:solidFill>
                <a:srgbClr val="000000"/>
              </a:solidFill>
              <a:latin typeface="CG Times"/>
            </a:endParaRPr>
          </a:p>
        </p:txBody>
      </p:sp>
      <p:sp>
        <p:nvSpPr>
          <p:cNvPr id="260" name="Straight Connector 11"/>
          <p:cNvSpPr/>
          <p:nvPr/>
        </p:nvSpPr>
        <p:spPr>
          <a:xfrm>
            <a:off x="5334120" y="1600200"/>
            <a:ext cx="0" cy="4664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000" spc="-1" strike="noStrike">
              <a:solidFill>
                <a:srgbClr val="000000"/>
              </a:solidFill>
              <a:latin typeface="CG Times"/>
            </a:endParaRPr>
          </a:p>
        </p:txBody>
      </p:sp>
      <p:sp>
        <p:nvSpPr>
          <p:cNvPr id="261" name="Straight Connector 12"/>
          <p:cNvSpPr/>
          <p:nvPr/>
        </p:nvSpPr>
        <p:spPr>
          <a:xfrm>
            <a:off x="8077320" y="1600200"/>
            <a:ext cx="0" cy="4664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000" spc="-1" strike="noStrike">
              <a:solidFill>
                <a:srgbClr val="000000"/>
              </a:solidFill>
              <a:latin typeface="CG Times"/>
            </a:endParaRPr>
          </a:p>
        </p:txBody>
      </p:sp>
      <p:sp>
        <p:nvSpPr>
          <p:cNvPr id="262" name="Straight Connector 14"/>
          <p:cNvSpPr/>
          <p:nvPr/>
        </p:nvSpPr>
        <p:spPr>
          <a:xfrm>
            <a:off x="5334120" y="160020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000" spc="-1" strike="noStrike">
              <a:solidFill>
                <a:srgbClr val="000000"/>
              </a:solidFill>
              <a:latin typeface="CG Times"/>
            </a:endParaRPr>
          </a:p>
        </p:txBody>
      </p:sp>
      <p:sp>
        <p:nvSpPr>
          <p:cNvPr id="263" name="Straight Connector 20"/>
          <p:cNvSpPr/>
          <p:nvPr/>
        </p:nvSpPr>
        <p:spPr>
          <a:xfrm>
            <a:off x="5334120" y="206676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000" spc="-1" strike="noStrike">
              <a:solidFill>
                <a:srgbClr val="000000"/>
              </a:solidFill>
              <a:latin typeface="CG Times"/>
            </a:endParaRPr>
          </a:p>
        </p:txBody>
      </p:sp>
      <p:sp>
        <p:nvSpPr>
          <p:cNvPr id="264" name="Straight Connector 21"/>
          <p:cNvSpPr/>
          <p:nvPr/>
        </p:nvSpPr>
        <p:spPr>
          <a:xfrm>
            <a:off x="5334120" y="253368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000" spc="-1" strike="noStrike">
              <a:solidFill>
                <a:srgbClr val="000000"/>
              </a:solidFill>
              <a:latin typeface="CG Times"/>
            </a:endParaRPr>
          </a:p>
        </p:txBody>
      </p:sp>
      <p:sp>
        <p:nvSpPr>
          <p:cNvPr id="265" name="Straight Connector 22"/>
          <p:cNvSpPr/>
          <p:nvPr/>
        </p:nvSpPr>
        <p:spPr>
          <a:xfrm>
            <a:off x="5334120" y="299880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000" spc="-1" strike="noStrike">
              <a:solidFill>
                <a:srgbClr val="000000"/>
              </a:solidFill>
              <a:latin typeface="CG Times"/>
            </a:endParaRPr>
          </a:p>
        </p:txBody>
      </p:sp>
      <p:sp>
        <p:nvSpPr>
          <p:cNvPr id="266" name="Straight Connector 23"/>
          <p:cNvSpPr/>
          <p:nvPr/>
        </p:nvSpPr>
        <p:spPr>
          <a:xfrm>
            <a:off x="5334120" y="346536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000" spc="-1" strike="noStrike">
              <a:solidFill>
                <a:srgbClr val="000000"/>
              </a:solidFill>
              <a:latin typeface="CG Times"/>
            </a:endParaRPr>
          </a:p>
        </p:txBody>
      </p:sp>
      <p:sp>
        <p:nvSpPr>
          <p:cNvPr id="267" name="Straight Connector 25"/>
          <p:cNvSpPr/>
          <p:nvPr/>
        </p:nvSpPr>
        <p:spPr>
          <a:xfrm>
            <a:off x="5334120" y="579744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000" spc="-1" strike="noStrike">
              <a:solidFill>
                <a:srgbClr val="000000"/>
              </a:solidFill>
              <a:latin typeface="CG Times"/>
            </a:endParaRPr>
          </a:p>
        </p:txBody>
      </p:sp>
      <p:sp>
        <p:nvSpPr>
          <p:cNvPr id="268" name="Straight Connector 26"/>
          <p:cNvSpPr/>
          <p:nvPr/>
        </p:nvSpPr>
        <p:spPr>
          <a:xfrm>
            <a:off x="5334120" y="626436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000" spc="-1" strike="noStrike">
              <a:solidFill>
                <a:srgbClr val="000000"/>
              </a:solidFill>
              <a:latin typeface="CG Times"/>
            </a:endParaRPr>
          </a:p>
        </p:txBody>
      </p:sp>
      <p:sp>
        <p:nvSpPr>
          <p:cNvPr id="269" name="Straight Connector 27"/>
          <p:cNvSpPr/>
          <p:nvPr/>
        </p:nvSpPr>
        <p:spPr>
          <a:xfrm>
            <a:off x="5334120" y="393228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000" spc="-1" strike="noStrike">
              <a:solidFill>
                <a:srgbClr val="000000"/>
              </a:solidFill>
              <a:latin typeface="CG Times"/>
            </a:endParaRPr>
          </a:p>
        </p:txBody>
      </p:sp>
      <p:sp>
        <p:nvSpPr>
          <p:cNvPr id="270" name="Straight Connector 28"/>
          <p:cNvSpPr/>
          <p:nvPr/>
        </p:nvSpPr>
        <p:spPr>
          <a:xfrm>
            <a:off x="5334120" y="439884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000" spc="-1" strike="noStrike">
              <a:solidFill>
                <a:srgbClr val="000000"/>
              </a:solidFill>
              <a:latin typeface="CG Times"/>
            </a:endParaRPr>
          </a:p>
        </p:txBody>
      </p:sp>
      <p:sp>
        <p:nvSpPr>
          <p:cNvPr id="271" name="Straight Connector 29"/>
          <p:cNvSpPr/>
          <p:nvPr/>
        </p:nvSpPr>
        <p:spPr>
          <a:xfrm>
            <a:off x="5334120" y="486396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000" spc="-1" strike="noStrike">
              <a:solidFill>
                <a:srgbClr val="000000"/>
              </a:solidFill>
              <a:latin typeface="CG Times"/>
            </a:endParaRPr>
          </a:p>
        </p:txBody>
      </p:sp>
      <p:sp>
        <p:nvSpPr>
          <p:cNvPr id="272" name="Straight Connector 30"/>
          <p:cNvSpPr/>
          <p:nvPr/>
        </p:nvSpPr>
        <p:spPr>
          <a:xfrm>
            <a:off x="5334120" y="533088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000" spc="-1" strike="noStrike">
              <a:solidFill>
                <a:srgbClr val="000000"/>
              </a:solidFill>
              <a:latin typeface="CG Time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2e5c"/>
                </a:solidFill>
                <a:latin typeface="Arial"/>
              </a:rPr>
              <a:t>Metadata</a:t>
            </a: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345600" y="1279080"/>
            <a:ext cx="8458200" cy="48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3280" indent="-233280">
              <a:spcBef>
                <a:spcPts val="601"/>
              </a:spcBef>
              <a:buClr>
                <a:srgbClr val="092e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2e5c"/>
                </a:solidFill>
                <a:latin typeface="Arial"/>
              </a:rPr>
              <a:t>Normalize the Metadata so we can use any LAS version</a:t>
            </a: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  <a:p>
            <a:pPr lvl="1" marL="569880" indent="-222120">
              <a:spcBef>
                <a:spcPts val="499"/>
              </a:spcBef>
              <a:buClr>
                <a:srgbClr val="092e5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2e5c"/>
                </a:solidFill>
                <a:latin typeface="Arial"/>
              </a:rPr>
              <a:t>Lots of Metadata standards</a:t>
            </a:r>
            <a:endParaRPr b="0" lang="en-US" sz="2000" spc="-1" strike="noStrike">
              <a:solidFill>
                <a:srgbClr val="092e5c"/>
              </a:solidFill>
              <a:latin typeface="Arial"/>
            </a:endParaRPr>
          </a:p>
          <a:p>
            <a:pPr lvl="1" marL="569880" indent="-222120">
              <a:spcBef>
                <a:spcPts val="499"/>
              </a:spcBef>
              <a:buClr>
                <a:srgbClr val="092e5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2e5c"/>
                </a:solidFill>
                <a:latin typeface="Arial"/>
              </a:rPr>
              <a:t>Generally XML encoded</a:t>
            </a:r>
            <a:endParaRPr b="0" lang="en-US" sz="2000" spc="-1" strike="noStrike">
              <a:solidFill>
                <a:srgbClr val="092e5c"/>
              </a:solidFill>
              <a:latin typeface="Arial"/>
            </a:endParaRPr>
          </a:p>
          <a:p>
            <a:pPr lvl="1" marL="569880" indent="-222120">
              <a:spcBef>
                <a:spcPts val="499"/>
              </a:spcBef>
              <a:buClr>
                <a:srgbClr val="092e5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2e5c"/>
                </a:solidFill>
                <a:latin typeface="Arial"/>
              </a:rPr>
              <a:t>Pick one, or allow any well defined community metadata schema</a:t>
            </a:r>
            <a:endParaRPr b="0" lang="en-US" sz="2000" spc="-1" strike="noStrike">
              <a:solidFill>
                <a:srgbClr val="092e5c"/>
              </a:solidFill>
              <a:latin typeface="Arial"/>
            </a:endParaRPr>
          </a:p>
          <a:p>
            <a:pPr marL="233280" indent="-233280">
              <a:spcBef>
                <a:spcPts val="601"/>
              </a:spcBef>
              <a:buClr>
                <a:srgbClr val="092e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2e5c"/>
                </a:solidFill>
                <a:latin typeface="Arial"/>
              </a:rPr>
              <a:t>Include the Coordinate Reference Information</a:t>
            </a: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  <a:p>
            <a:pPr lvl="1" marL="569880" indent="-222120">
              <a:spcBef>
                <a:spcPts val="499"/>
              </a:spcBef>
              <a:buClr>
                <a:srgbClr val="092e5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2e5c"/>
                </a:solidFill>
                <a:latin typeface="Arial"/>
              </a:rPr>
              <a:t>Not consistent across LAS versions</a:t>
            </a:r>
            <a:endParaRPr b="0" lang="en-US" sz="2000" spc="-1" strike="noStrike">
              <a:solidFill>
                <a:srgbClr val="092e5c"/>
              </a:solidFill>
              <a:latin typeface="Arial"/>
            </a:endParaRPr>
          </a:p>
          <a:p>
            <a:pPr marL="233280" indent="-233280">
              <a:spcBef>
                <a:spcPts val="601"/>
              </a:spcBef>
              <a:buClr>
                <a:srgbClr val="092e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2e5c"/>
                </a:solidFill>
                <a:latin typeface="Arial"/>
              </a:rPr>
              <a:t>Hash or checksum on the LAS data file?</a:t>
            </a: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  <a:p>
            <a:pPr lvl="1" marL="569880" indent="-222120">
              <a:spcBef>
                <a:spcPts val="499"/>
              </a:spcBef>
              <a:buClr>
                <a:srgbClr val="092e5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2e5c"/>
                </a:solidFill>
                <a:latin typeface="Arial"/>
              </a:rPr>
              <a:t>Might be a good idea – let’s you know if the file has been changed</a:t>
            </a:r>
            <a:endParaRPr b="0" lang="en-US" sz="20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275" name="Footer Placeholder 3"/>
          <p:cNvSpPr/>
          <p:nvPr/>
        </p:nvSpPr>
        <p:spPr>
          <a:xfrm>
            <a:off x="2973240" y="6553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92e5c"/>
                </a:solidFill>
                <a:latin typeface="Arial"/>
              </a:rPr>
              <a:t>Copyright © 2016 Open Geospatial Consortium</a:t>
            </a:r>
            <a:endParaRPr b="1" lang="en-US" sz="900" spc="-1" strike="noStrike">
              <a:solidFill>
                <a:srgbClr val="000000"/>
              </a:solidFill>
              <a:latin typeface="CG Time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2e5c"/>
                </a:solidFill>
                <a:latin typeface="Arial"/>
              </a:rPr>
              <a:t>Rearrange Point Records</a:t>
            </a: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345600" y="1279080"/>
            <a:ext cx="8458200" cy="48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3280" indent="-233280">
              <a:spcBef>
                <a:spcPts val="601"/>
              </a:spcBef>
              <a:buClr>
                <a:srgbClr val="092e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2e5c"/>
                </a:solidFill>
                <a:latin typeface="Arial"/>
              </a:rPr>
              <a:t>If individual points are scattered through the LAS file, you can optimize access by rearranging the points</a:t>
            </a: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  <a:p>
            <a:pPr lvl="1" marL="569880" indent="-222120">
              <a:spcBef>
                <a:spcPts val="499"/>
              </a:spcBef>
              <a:buClr>
                <a:srgbClr val="092e5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2e5c"/>
                </a:solidFill>
                <a:latin typeface="Arial"/>
              </a:rPr>
              <a:t>Cluster points spatially related together</a:t>
            </a:r>
            <a:endParaRPr b="0" lang="en-US" sz="2000" spc="-1" strike="noStrike">
              <a:solidFill>
                <a:srgbClr val="092e5c"/>
              </a:solidFill>
              <a:latin typeface="Arial"/>
            </a:endParaRPr>
          </a:p>
          <a:p>
            <a:pPr lvl="1" marL="569880" indent="-222120">
              <a:spcBef>
                <a:spcPts val="499"/>
              </a:spcBef>
              <a:buClr>
                <a:srgbClr val="092e5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2e5c"/>
                </a:solidFill>
                <a:latin typeface="Arial"/>
              </a:rPr>
              <a:t>Reorganize points based on application requirements</a:t>
            </a:r>
            <a:endParaRPr b="0" lang="en-US" sz="2000" spc="-1" strike="noStrike">
              <a:solidFill>
                <a:srgbClr val="092e5c"/>
              </a:solidFill>
              <a:latin typeface="Arial"/>
            </a:endParaRPr>
          </a:p>
          <a:p>
            <a:pPr lvl="1" marL="569880" indent="-222120">
              <a:spcBef>
                <a:spcPts val="499"/>
              </a:spcBef>
              <a:buClr>
                <a:srgbClr val="092e5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2e5c"/>
                </a:solidFill>
                <a:latin typeface="Arial"/>
              </a:rPr>
              <a:t>Moves points into different records, but doesn’t change the LAS format…</a:t>
            </a:r>
            <a:endParaRPr b="0" lang="en-US" sz="20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278" name="Footer Placeholder 3"/>
          <p:cNvSpPr/>
          <p:nvPr/>
        </p:nvSpPr>
        <p:spPr>
          <a:xfrm>
            <a:off x="2973240" y="6553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92e5c"/>
                </a:solidFill>
                <a:latin typeface="Arial"/>
              </a:rPr>
              <a:t>Copyright © 2016 Open Geospatial Consortium</a:t>
            </a:r>
            <a:endParaRPr b="1" lang="en-US" sz="900" spc="-1" strike="noStrike">
              <a:solidFill>
                <a:srgbClr val="000000"/>
              </a:solidFill>
              <a:latin typeface="CG Times"/>
            </a:endParaRPr>
          </a:p>
        </p:txBody>
      </p:sp>
      <p:grpSp>
        <p:nvGrpSpPr>
          <p:cNvPr id="279" name="Group 4"/>
          <p:cNvGrpSpPr/>
          <p:nvPr/>
        </p:nvGrpSpPr>
        <p:grpSpPr>
          <a:xfrm>
            <a:off x="758880" y="3867120"/>
            <a:ext cx="3279600" cy="2165400"/>
            <a:chOff x="758880" y="3867120"/>
            <a:chExt cx="3279600" cy="2165400"/>
          </a:xfrm>
        </p:grpSpPr>
        <p:pic>
          <p:nvPicPr>
            <p:cNvPr id="280" name="Picture 4" descr=""/>
            <p:cNvPicPr/>
            <p:nvPr/>
          </p:nvPicPr>
          <p:blipFill>
            <a:blip r:embed="rId1"/>
            <a:stretch/>
          </p:blipFill>
          <p:spPr>
            <a:xfrm>
              <a:off x="2756160" y="3877920"/>
              <a:ext cx="1282320" cy="2154600"/>
            </a:xfrm>
            <a:prstGeom prst="rect">
              <a:avLst/>
            </a:prstGeom>
            <a:ln w="9360">
              <a:solidFill>
                <a:srgbClr val="ffffcc"/>
              </a:solidFill>
              <a:miter/>
            </a:ln>
          </p:spPr>
        </p:pic>
        <p:pic>
          <p:nvPicPr>
            <p:cNvPr id="281" name="Picture 5" descr=""/>
            <p:cNvPicPr/>
            <p:nvPr/>
          </p:nvPicPr>
          <p:blipFill>
            <a:blip r:embed="rId2"/>
            <a:stretch/>
          </p:blipFill>
          <p:spPr>
            <a:xfrm>
              <a:off x="758880" y="3867120"/>
              <a:ext cx="1261440" cy="214452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282" name="Rectangle 7"/>
            <p:cNvSpPr/>
            <p:nvPr/>
          </p:nvSpPr>
          <p:spPr>
            <a:xfrm>
              <a:off x="1388880" y="5010120"/>
              <a:ext cx="306360" cy="360360"/>
            </a:xfrm>
            <a:prstGeom prst="rect">
              <a:avLst/>
            </a:prstGeom>
            <a:noFill/>
            <a:ln w="6048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000000"/>
                </a:solidFill>
                <a:latin typeface="CG Times"/>
              </a:endParaRPr>
            </a:p>
          </p:txBody>
        </p:sp>
        <p:cxnSp>
          <p:nvCxnSpPr>
            <p:cNvPr id="283" name="Straight Arrow Connector 8"/>
            <p:cNvCxnSpPr/>
            <p:nvPr/>
          </p:nvCxnSpPr>
          <p:spPr>
            <a:xfrm flipV="1">
              <a:off x="1538280" y="4136760"/>
              <a:ext cx="1218240" cy="977040"/>
            </a:xfrm>
            <a:prstGeom prst="straightConnector1">
              <a:avLst/>
            </a:prstGeom>
            <a:ln w="442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4" name="Straight Arrow Connector 10"/>
            <p:cNvCxnSpPr/>
            <p:nvPr/>
          </p:nvCxnSpPr>
          <p:spPr>
            <a:xfrm flipV="1">
              <a:off x="1454760" y="4685760"/>
              <a:ext cx="1301400" cy="600480"/>
            </a:xfrm>
            <a:prstGeom prst="straightConnector1">
              <a:avLst/>
            </a:prstGeom>
            <a:ln w="442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1"/>
            <p:cNvCxnSpPr/>
            <p:nvPr/>
          </p:nvCxnSpPr>
          <p:spPr>
            <a:xfrm>
              <a:off x="1496160" y="5159520"/>
              <a:ext cx="1260720" cy="536400"/>
            </a:xfrm>
            <a:prstGeom prst="straightConnector1">
              <a:avLst/>
            </a:prstGeom>
            <a:ln w="4428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6" name="Group 11"/>
          <p:cNvGrpSpPr/>
          <p:nvPr/>
        </p:nvGrpSpPr>
        <p:grpSpPr>
          <a:xfrm>
            <a:off x="4692600" y="3867120"/>
            <a:ext cx="4114800" cy="2193840"/>
            <a:chOff x="4692600" y="3867120"/>
            <a:chExt cx="4114800" cy="2193840"/>
          </a:xfrm>
        </p:grpSpPr>
        <p:pic>
          <p:nvPicPr>
            <p:cNvPr id="287" name="Picture 4" descr=""/>
            <p:cNvPicPr/>
            <p:nvPr/>
          </p:nvPicPr>
          <p:blipFill>
            <a:blip r:embed="rId3"/>
            <a:stretch/>
          </p:blipFill>
          <p:spPr>
            <a:xfrm>
              <a:off x="7198200" y="3877920"/>
              <a:ext cx="1609200" cy="2183040"/>
            </a:xfrm>
            <a:prstGeom prst="rect">
              <a:avLst/>
            </a:prstGeom>
            <a:ln w="9360">
              <a:solidFill>
                <a:srgbClr val="ffffcc"/>
              </a:solidFill>
              <a:miter/>
            </a:ln>
          </p:spPr>
        </p:pic>
        <p:pic>
          <p:nvPicPr>
            <p:cNvPr id="288" name="Picture 5" descr=""/>
            <p:cNvPicPr/>
            <p:nvPr/>
          </p:nvPicPr>
          <p:blipFill>
            <a:blip r:embed="rId4"/>
            <a:stretch/>
          </p:blipFill>
          <p:spPr>
            <a:xfrm>
              <a:off x="4692600" y="3867120"/>
              <a:ext cx="1582560" cy="21726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289" name="Rectangle 14"/>
            <p:cNvSpPr/>
            <p:nvPr/>
          </p:nvSpPr>
          <p:spPr>
            <a:xfrm>
              <a:off x="5483160" y="5025960"/>
              <a:ext cx="385560" cy="365040"/>
            </a:xfrm>
            <a:prstGeom prst="rect">
              <a:avLst/>
            </a:prstGeom>
            <a:noFill/>
            <a:ln w="6048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000000"/>
                </a:solidFill>
                <a:latin typeface="CG Times"/>
              </a:endParaRPr>
            </a:p>
          </p:txBody>
        </p:sp>
        <p:cxnSp>
          <p:nvCxnSpPr>
            <p:cNvPr id="290" name="Straight Arrow Connector 8"/>
            <p:cNvCxnSpPr/>
            <p:nvPr/>
          </p:nvCxnSpPr>
          <p:spPr>
            <a:xfrm flipV="1">
              <a:off x="5670360" y="4919400"/>
              <a:ext cx="1528200" cy="210600"/>
            </a:xfrm>
            <a:prstGeom prst="straightConnector1">
              <a:avLst/>
            </a:prstGeom>
            <a:ln w="442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1" name="Straight Arrow Connector 10"/>
            <p:cNvCxnSpPr/>
            <p:nvPr/>
          </p:nvCxnSpPr>
          <p:spPr>
            <a:xfrm flipV="1">
              <a:off x="5565960" y="5129640"/>
              <a:ext cx="1632600" cy="174960"/>
            </a:xfrm>
            <a:prstGeom prst="straightConnector1">
              <a:avLst/>
            </a:prstGeom>
            <a:ln w="442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2" name="Straight Arrow Connector 11"/>
            <p:cNvCxnSpPr/>
            <p:nvPr/>
          </p:nvCxnSpPr>
          <p:spPr>
            <a:xfrm flipV="1">
              <a:off x="5617080" y="5025240"/>
              <a:ext cx="1581480" cy="151560"/>
            </a:xfrm>
            <a:prstGeom prst="straightConnector1">
              <a:avLst/>
            </a:prstGeom>
            <a:ln w="4428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3" name="Straight Connector 3"/>
          <p:cNvSpPr/>
          <p:nvPr/>
        </p:nvSpPr>
        <p:spPr>
          <a:xfrm>
            <a:off x="4267080" y="3505320"/>
            <a:ext cx="0" cy="2971800"/>
          </a:xfrm>
          <a:prstGeom prst="line">
            <a:avLst/>
          </a:prstGeom>
          <a:ln w="66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000" spc="-1" strike="noStrike">
              <a:solidFill>
                <a:srgbClr val="000000"/>
              </a:solidFill>
              <a:latin typeface="CG Time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2e5c"/>
                </a:solidFill>
                <a:latin typeface="Arial"/>
              </a:rPr>
              <a:t>Redefining LAS Storage</a:t>
            </a: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345600" y="1279080"/>
            <a:ext cx="8458200" cy="48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3280" indent="-233280">
              <a:spcBef>
                <a:spcPts val="499"/>
              </a:spcBef>
              <a:buClr>
                <a:srgbClr val="092e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2e5c"/>
                </a:solidFill>
                <a:latin typeface="Arial"/>
              </a:rPr>
              <a:t>Define a schema for storing LAS header and point record data that can be supported in most modern commercial and open source RDBMS systems</a:t>
            </a:r>
            <a:endParaRPr b="0" lang="en-US" sz="2000" spc="-1" strike="noStrike">
              <a:solidFill>
                <a:srgbClr val="092e5c"/>
              </a:solidFill>
              <a:latin typeface="Arial"/>
            </a:endParaRPr>
          </a:p>
          <a:p>
            <a:pPr marL="233280" indent="-233280">
              <a:spcBef>
                <a:spcPts val="499"/>
              </a:spcBef>
              <a:buClr>
                <a:srgbClr val="092e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2e5c"/>
                </a:solidFill>
                <a:latin typeface="Arial"/>
              </a:rPr>
              <a:t>Using the existing Simple Features SQL spec, we can encode and spatially search Variable Length LAS Point records.</a:t>
            </a:r>
            <a:endParaRPr b="0" lang="en-US" sz="2000" spc="-1" strike="noStrike">
              <a:solidFill>
                <a:srgbClr val="092e5c"/>
              </a:solidFill>
              <a:latin typeface="Arial"/>
            </a:endParaRPr>
          </a:p>
          <a:p>
            <a:pPr lvl="1" marL="569880" indent="-222120">
              <a:spcBef>
                <a:spcPts val="400"/>
              </a:spcBef>
              <a:buClr>
                <a:srgbClr val="092e5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92e5c"/>
                </a:solidFill>
                <a:latin typeface="Arial"/>
              </a:rPr>
              <a:t>INTEGER - Record ID value</a:t>
            </a:r>
            <a:endParaRPr b="0" lang="en-US" sz="1600" spc="-1" strike="noStrike">
              <a:solidFill>
                <a:srgbClr val="092e5c"/>
              </a:solidFill>
              <a:latin typeface="Arial"/>
            </a:endParaRPr>
          </a:p>
          <a:p>
            <a:pPr lvl="1" marL="569880" indent="-222120">
              <a:spcBef>
                <a:spcPts val="400"/>
              </a:spcBef>
              <a:buClr>
                <a:srgbClr val="092e5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92e5c"/>
                </a:solidFill>
                <a:latin typeface="Arial"/>
              </a:rPr>
              <a:t>GEOMETRY - Polygon or Envelope defining the shape of the Point Record, spatially indexed for fast search ad retrieval</a:t>
            </a:r>
            <a:endParaRPr b="0" lang="en-US" sz="1600" spc="-1" strike="noStrike">
              <a:solidFill>
                <a:srgbClr val="092e5c"/>
              </a:solidFill>
              <a:latin typeface="Arial"/>
            </a:endParaRPr>
          </a:p>
          <a:p>
            <a:pPr lvl="1" marL="569880" indent="-222120">
              <a:spcBef>
                <a:spcPts val="400"/>
              </a:spcBef>
              <a:buClr>
                <a:srgbClr val="092e5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92e5c"/>
                </a:solidFill>
                <a:latin typeface="Arial"/>
              </a:rPr>
              <a:t>BLOB - Unmodified Variable Length Point Record</a:t>
            </a:r>
            <a:endParaRPr b="0" lang="en-US" sz="1600" spc="-1" strike="noStrike">
              <a:solidFill>
                <a:srgbClr val="092e5c"/>
              </a:solidFill>
              <a:latin typeface="Arial"/>
            </a:endParaRPr>
          </a:p>
          <a:p>
            <a:pPr marL="233280" indent="-233280">
              <a:spcBef>
                <a:spcPts val="499"/>
              </a:spcBef>
              <a:buClr>
                <a:srgbClr val="092e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2e5c"/>
                </a:solidFill>
                <a:latin typeface="Arial"/>
              </a:rPr>
              <a:t>Utilize existing RDBMS capabilities to:</a:t>
            </a:r>
            <a:endParaRPr b="0" lang="en-US" sz="2000" spc="-1" strike="noStrike">
              <a:solidFill>
                <a:srgbClr val="092e5c"/>
              </a:solidFill>
              <a:latin typeface="Arial"/>
            </a:endParaRPr>
          </a:p>
          <a:p>
            <a:pPr lvl="1" marL="569880" indent="-222120">
              <a:spcBef>
                <a:spcPts val="400"/>
              </a:spcBef>
              <a:buClr>
                <a:srgbClr val="092e5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92e5c"/>
                </a:solidFill>
                <a:latin typeface="Arial"/>
              </a:rPr>
              <a:t>Manage and partition massive record sets</a:t>
            </a:r>
            <a:endParaRPr b="0" lang="en-US" sz="1600" spc="-1" strike="noStrike">
              <a:solidFill>
                <a:srgbClr val="092e5c"/>
              </a:solidFill>
              <a:latin typeface="Arial"/>
            </a:endParaRPr>
          </a:p>
          <a:p>
            <a:pPr lvl="1" marL="569880" indent="-222120">
              <a:spcBef>
                <a:spcPts val="400"/>
              </a:spcBef>
              <a:buClr>
                <a:srgbClr val="092e5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92e5c"/>
                </a:solidFill>
                <a:latin typeface="Arial"/>
              </a:rPr>
              <a:t>Provide multi-user access</a:t>
            </a:r>
            <a:endParaRPr b="0" lang="en-US" sz="1600" spc="-1" strike="noStrike">
              <a:solidFill>
                <a:srgbClr val="092e5c"/>
              </a:solidFill>
              <a:latin typeface="Arial"/>
            </a:endParaRPr>
          </a:p>
          <a:p>
            <a:pPr lvl="1" marL="569880" indent="-222120">
              <a:spcBef>
                <a:spcPts val="400"/>
              </a:spcBef>
              <a:buClr>
                <a:srgbClr val="092e5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92e5c"/>
                </a:solidFill>
                <a:latin typeface="Arial"/>
              </a:rPr>
              <a:t>Maintain referential integrity</a:t>
            </a:r>
            <a:endParaRPr b="0" lang="en-US" sz="1600" spc="-1" strike="noStrike">
              <a:solidFill>
                <a:srgbClr val="092e5c"/>
              </a:solidFill>
              <a:latin typeface="Arial"/>
            </a:endParaRPr>
          </a:p>
          <a:p>
            <a:pPr lvl="1" marL="569880" indent="-222120">
              <a:spcBef>
                <a:spcPts val="400"/>
              </a:spcBef>
              <a:buClr>
                <a:srgbClr val="092e5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92e5c"/>
                </a:solidFill>
                <a:latin typeface="Arial"/>
              </a:rPr>
              <a:t>Ensure high availability</a:t>
            </a:r>
            <a:endParaRPr b="0" lang="en-US" sz="1600" spc="-1" strike="noStrike">
              <a:solidFill>
                <a:srgbClr val="092e5c"/>
              </a:solidFill>
              <a:latin typeface="Arial"/>
            </a:endParaRPr>
          </a:p>
          <a:p>
            <a:pPr marL="233280" indent="-233280">
              <a:spcBef>
                <a:spcPts val="499"/>
              </a:spcBef>
              <a:buClr>
                <a:srgbClr val="092e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2e5c"/>
                </a:solidFill>
                <a:latin typeface="Arial"/>
              </a:rPr>
              <a:t>Use SQLite for a “Personal” or single file LAS data container</a:t>
            </a:r>
            <a:endParaRPr b="0" lang="en-US" sz="20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296" name="Footer Placeholder 3"/>
          <p:cNvSpPr/>
          <p:nvPr/>
        </p:nvSpPr>
        <p:spPr>
          <a:xfrm>
            <a:off x="2973240" y="6553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92e5c"/>
                </a:solidFill>
                <a:latin typeface="Arial"/>
              </a:rPr>
              <a:t>Copyright © 2016 Open Geospatial Consortium</a:t>
            </a:r>
            <a:endParaRPr b="1" lang="en-US" sz="900" spc="-1" strike="noStrike">
              <a:solidFill>
                <a:srgbClr val="000000"/>
              </a:solidFill>
              <a:latin typeface="CG Time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2e5c"/>
                </a:solidFill>
                <a:latin typeface="Arial"/>
              </a:rPr>
              <a:t>Compress Records of LAS Points</a:t>
            </a: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345600" y="1279080"/>
            <a:ext cx="8458200" cy="48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3280" indent="-233280">
              <a:spcBef>
                <a:spcPts val="601"/>
              </a:spcBef>
              <a:buClr>
                <a:srgbClr val="092e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2e5c"/>
                </a:solidFill>
                <a:latin typeface="Arial"/>
              </a:rPr>
              <a:t>LAS Point Records can be effectively compressed</a:t>
            </a: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  <a:p>
            <a:pPr lvl="1" marL="569880" indent="-222120">
              <a:spcBef>
                <a:spcPts val="499"/>
              </a:spcBef>
              <a:buClr>
                <a:srgbClr val="092e5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2e5c"/>
                </a:solidFill>
                <a:latin typeface="Arial"/>
              </a:rPr>
              <a:t>Retain LAS Variable Length Record format for uncompressed representation – eliminates lots of application change</a:t>
            </a:r>
            <a:endParaRPr b="0" lang="en-US" sz="2000" spc="-1" strike="noStrike">
              <a:solidFill>
                <a:srgbClr val="092e5c"/>
              </a:solidFill>
              <a:latin typeface="Arial"/>
            </a:endParaRPr>
          </a:p>
          <a:p>
            <a:pPr lvl="1" marL="569880" indent="-222120">
              <a:spcBef>
                <a:spcPts val="499"/>
              </a:spcBef>
              <a:buClr>
                <a:srgbClr val="092e5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2e5c"/>
                </a:solidFill>
                <a:latin typeface="Arial"/>
              </a:rPr>
              <a:t>Hide compression behind the GET/SET function in the client library</a:t>
            </a:r>
            <a:endParaRPr b="0" lang="en-US" sz="2000" spc="-1" strike="noStrike">
              <a:solidFill>
                <a:srgbClr val="092e5c"/>
              </a:solidFill>
              <a:latin typeface="Arial"/>
            </a:endParaRPr>
          </a:p>
          <a:p>
            <a:pPr lvl="1" marL="569880" indent="-222120">
              <a:spcBef>
                <a:spcPts val="499"/>
              </a:spcBef>
              <a:buClr>
                <a:srgbClr val="092e5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2e5c"/>
                </a:solidFill>
                <a:latin typeface="Arial"/>
              </a:rPr>
              <a:t>Leave the data value compressed during transmission</a:t>
            </a:r>
            <a:endParaRPr b="0" lang="en-US" sz="20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299" name="Footer Placeholder 3"/>
          <p:cNvSpPr/>
          <p:nvPr/>
        </p:nvSpPr>
        <p:spPr>
          <a:xfrm>
            <a:off x="2973240" y="6553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92e5c"/>
                </a:solidFill>
                <a:latin typeface="Arial"/>
              </a:rPr>
              <a:t>Copyright © 2016 Open Geospatial Consortium</a:t>
            </a:r>
            <a:endParaRPr b="1" lang="en-US" sz="900" spc="-1" strike="noStrike">
              <a:solidFill>
                <a:srgbClr val="000000"/>
              </a:solidFill>
              <a:latin typeface="CG Times"/>
            </a:endParaRPr>
          </a:p>
        </p:txBody>
      </p:sp>
      <p:grpSp>
        <p:nvGrpSpPr>
          <p:cNvPr id="300" name="Group 4"/>
          <p:cNvGrpSpPr/>
          <p:nvPr/>
        </p:nvGrpSpPr>
        <p:grpSpPr>
          <a:xfrm>
            <a:off x="758880" y="3886200"/>
            <a:ext cx="3249720" cy="2146320"/>
            <a:chOff x="758880" y="3886200"/>
            <a:chExt cx="3249720" cy="2146320"/>
          </a:xfrm>
        </p:grpSpPr>
        <p:pic>
          <p:nvPicPr>
            <p:cNvPr id="301" name="Picture 4" descr=""/>
            <p:cNvPicPr/>
            <p:nvPr/>
          </p:nvPicPr>
          <p:blipFill>
            <a:blip r:embed="rId1"/>
            <a:stretch/>
          </p:blipFill>
          <p:spPr>
            <a:xfrm>
              <a:off x="2737800" y="3897000"/>
              <a:ext cx="1270800" cy="2135520"/>
            </a:xfrm>
            <a:prstGeom prst="rect">
              <a:avLst/>
            </a:prstGeom>
            <a:ln w="9360">
              <a:solidFill>
                <a:srgbClr val="ffffcc"/>
              </a:solidFill>
              <a:miter/>
            </a:ln>
          </p:spPr>
        </p:pic>
        <p:pic>
          <p:nvPicPr>
            <p:cNvPr id="302" name="Picture 5" descr=""/>
            <p:cNvPicPr/>
            <p:nvPr/>
          </p:nvPicPr>
          <p:blipFill>
            <a:blip r:embed="rId2"/>
            <a:stretch/>
          </p:blipFill>
          <p:spPr>
            <a:xfrm>
              <a:off x="758880" y="3886200"/>
              <a:ext cx="1249920" cy="21254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303" name="Rectangle 7"/>
            <p:cNvSpPr/>
            <p:nvPr/>
          </p:nvSpPr>
          <p:spPr>
            <a:xfrm>
              <a:off x="1384200" y="5019840"/>
              <a:ext cx="303120" cy="357120"/>
            </a:xfrm>
            <a:prstGeom prst="rect">
              <a:avLst/>
            </a:prstGeom>
            <a:noFill/>
            <a:ln w="6048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000000"/>
                </a:solidFill>
                <a:latin typeface="CG Times"/>
              </a:endParaRPr>
            </a:p>
          </p:txBody>
        </p:sp>
        <p:cxnSp>
          <p:nvCxnSpPr>
            <p:cNvPr id="304" name="Straight Arrow Connector 8"/>
            <p:cNvCxnSpPr/>
            <p:nvPr/>
          </p:nvCxnSpPr>
          <p:spPr>
            <a:xfrm flipV="1">
              <a:off x="1530720" y="4915800"/>
              <a:ext cx="1207080" cy="205920"/>
            </a:xfrm>
            <a:prstGeom prst="straightConnector1">
              <a:avLst/>
            </a:prstGeom>
            <a:ln w="442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05" name="Straight Arrow Connector 10"/>
            <p:cNvCxnSpPr/>
            <p:nvPr/>
          </p:nvCxnSpPr>
          <p:spPr>
            <a:xfrm flipV="1">
              <a:off x="1448640" y="5121360"/>
              <a:ext cx="1289520" cy="171360"/>
            </a:xfrm>
            <a:prstGeom prst="straightConnector1">
              <a:avLst/>
            </a:prstGeom>
            <a:ln w="442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06" name="Straight Arrow Connector 11"/>
            <p:cNvCxnSpPr/>
            <p:nvPr/>
          </p:nvCxnSpPr>
          <p:spPr>
            <a:xfrm flipV="1">
              <a:off x="1489320" y="5019120"/>
              <a:ext cx="1249200" cy="147960"/>
            </a:xfrm>
            <a:prstGeom prst="straightConnector1">
              <a:avLst/>
            </a:prstGeom>
            <a:ln w="442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07" name="Rectangle 11"/>
            <p:cNvSpPr/>
            <p:nvPr/>
          </p:nvSpPr>
          <p:spPr>
            <a:xfrm>
              <a:off x="2870280" y="4875120"/>
              <a:ext cx="1006560" cy="291960"/>
            </a:xfrm>
            <a:prstGeom prst="rect">
              <a:avLst/>
            </a:prstGeom>
            <a:solidFill>
              <a:srgbClr val="339933"/>
            </a:solidFill>
            <a:ln w="25560">
              <a:solidFill>
                <a:srgbClr val="236f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000000"/>
                </a:solidFill>
                <a:latin typeface="CG Times"/>
              </a:endParaRPr>
            </a:p>
          </p:txBody>
        </p:sp>
        <p:sp>
          <p:nvSpPr>
            <p:cNvPr id="308" name="Rectangle 12"/>
            <p:cNvSpPr/>
            <p:nvPr/>
          </p:nvSpPr>
          <p:spPr>
            <a:xfrm>
              <a:off x="2870280" y="4221000"/>
              <a:ext cx="1006560" cy="290520"/>
            </a:xfrm>
            <a:prstGeom prst="rect">
              <a:avLst/>
            </a:prstGeom>
            <a:solidFill>
              <a:srgbClr val="339933"/>
            </a:solidFill>
            <a:ln w="25560">
              <a:solidFill>
                <a:srgbClr val="236f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000000"/>
                </a:solidFill>
                <a:latin typeface="CG Times"/>
              </a:endParaRPr>
            </a:p>
          </p:txBody>
        </p:sp>
        <p:sp>
          <p:nvSpPr>
            <p:cNvPr id="309" name="Rectangle 13"/>
            <p:cNvSpPr/>
            <p:nvPr/>
          </p:nvSpPr>
          <p:spPr>
            <a:xfrm>
              <a:off x="2878200" y="5299200"/>
              <a:ext cx="1006560" cy="450720"/>
            </a:xfrm>
            <a:prstGeom prst="rect">
              <a:avLst/>
            </a:prstGeom>
            <a:solidFill>
              <a:srgbClr val="339933"/>
            </a:solidFill>
            <a:ln w="25560">
              <a:solidFill>
                <a:srgbClr val="236f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000000"/>
                </a:solidFill>
                <a:latin typeface="CG Times"/>
              </a:endParaRPr>
            </a:p>
          </p:txBody>
        </p:sp>
        <p:sp>
          <p:nvSpPr>
            <p:cNvPr id="310" name="Rectangle 14"/>
            <p:cNvSpPr/>
            <p:nvPr/>
          </p:nvSpPr>
          <p:spPr>
            <a:xfrm>
              <a:off x="2870280" y="4603680"/>
              <a:ext cx="1006560" cy="144360"/>
            </a:xfrm>
            <a:prstGeom prst="rect">
              <a:avLst/>
            </a:prstGeom>
            <a:solidFill>
              <a:srgbClr val="339933"/>
            </a:solidFill>
            <a:ln w="25560">
              <a:solidFill>
                <a:srgbClr val="236f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000000"/>
                </a:solidFill>
                <a:latin typeface="CG Times"/>
              </a:endParaRPr>
            </a:p>
          </p:txBody>
        </p:sp>
      </p:grpSp>
      <p:grpSp>
        <p:nvGrpSpPr>
          <p:cNvPr id="311" name="Group 15"/>
          <p:cNvGrpSpPr/>
          <p:nvPr/>
        </p:nvGrpSpPr>
        <p:grpSpPr>
          <a:xfrm>
            <a:off x="4876920" y="3914640"/>
            <a:ext cx="3249360" cy="2146320"/>
            <a:chOff x="4876920" y="3914640"/>
            <a:chExt cx="3249360" cy="2146320"/>
          </a:xfrm>
        </p:grpSpPr>
        <p:pic>
          <p:nvPicPr>
            <p:cNvPr id="312" name="Picture 4" descr=""/>
            <p:cNvPicPr/>
            <p:nvPr/>
          </p:nvPicPr>
          <p:blipFill>
            <a:blip r:embed="rId3"/>
            <a:stretch/>
          </p:blipFill>
          <p:spPr>
            <a:xfrm>
              <a:off x="6855480" y="3925440"/>
              <a:ext cx="1270800" cy="2135520"/>
            </a:xfrm>
            <a:prstGeom prst="rect">
              <a:avLst/>
            </a:prstGeom>
            <a:ln w="9360">
              <a:solidFill>
                <a:srgbClr val="ffffcc"/>
              </a:solidFill>
              <a:miter/>
            </a:ln>
          </p:spPr>
        </p:pic>
        <p:pic>
          <p:nvPicPr>
            <p:cNvPr id="313" name="Picture 5" descr=""/>
            <p:cNvPicPr/>
            <p:nvPr/>
          </p:nvPicPr>
          <p:blipFill>
            <a:blip r:embed="rId4"/>
            <a:stretch/>
          </p:blipFill>
          <p:spPr>
            <a:xfrm>
              <a:off x="4876920" y="3914640"/>
              <a:ext cx="1249560" cy="21254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314" name="Rectangle 18"/>
            <p:cNvSpPr/>
            <p:nvPr/>
          </p:nvSpPr>
          <p:spPr>
            <a:xfrm>
              <a:off x="5502240" y="5048280"/>
              <a:ext cx="303120" cy="357120"/>
            </a:xfrm>
            <a:prstGeom prst="rect">
              <a:avLst/>
            </a:prstGeom>
            <a:noFill/>
            <a:ln w="6048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000000"/>
                </a:solidFill>
                <a:latin typeface="CG Times"/>
              </a:endParaRPr>
            </a:p>
          </p:txBody>
        </p:sp>
        <p:cxnSp>
          <p:nvCxnSpPr>
            <p:cNvPr id="315" name="Straight Arrow Connector 8"/>
            <p:cNvCxnSpPr/>
            <p:nvPr/>
          </p:nvCxnSpPr>
          <p:spPr>
            <a:xfrm flipV="1">
              <a:off x="5648760" y="4944240"/>
              <a:ext cx="1207080" cy="205920"/>
            </a:xfrm>
            <a:prstGeom prst="straightConnector1">
              <a:avLst/>
            </a:prstGeom>
            <a:ln w="442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16" name="Straight Arrow Connector 10"/>
            <p:cNvCxnSpPr/>
            <p:nvPr/>
          </p:nvCxnSpPr>
          <p:spPr>
            <a:xfrm flipV="1">
              <a:off x="5566680" y="5149800"/>
              <a:ext cx="1289520" cy="171360"/>
            </a:xfrm>
            <a:prstGeom prst="straightConnector1">
              <a:avLst/>
            </a:prstGeom>
            <a:ln w="442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17" name="Straight Arrow Connector 11"/>
            <p:cNvCxnSpPr/>
            <p:nvPr/>
          </p:nvCxnSpPr>
          <p:spPr>
            <a:xfrm flipV="1">
              <a:off x="5607000" y="5047560"/>
              <a:ext cx="1248840" cy="147960"/>
            </a:xfrm>
            <a:prstGeom prst="straightConnector1">
              <a:avLst/>
            </a:prstGeom>
            <a:ln w="442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18" name="Rectangle 22"/>
            <p:cNvSpPr/>
            <p:nvPr/>
          </p:nvSpPr>
          <p:spPr>
            <a:xfrm>
              <a:off x="6988320" y="4903560"/>
              <a:ext cx="876240" cy="291960"/>
            </a:xfrm>
            <a:prstGeom prst="rect">
              <a:avLst/>
            </a:prstGeom>
            <a:solidFill>
              <a:srgbClr val="339933"/>
            </a:solidFill>
            <a:ln w="25560">
              <a:solidFill>
                <a:srgbClr val="236f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000000"/>
                </a:solidFill>
                <a:latin typeface="CG Times"/>
              </a:endParaRPr>
            </a:p>
          </p:txBody>
        </p:sp>
        <p:sp>
          <p:nvSpPr>
            <p:cNvPr id="319" name="Rectangle 23"/>
            <p:cNvSpPr/>
            <p:nvPr/>
          </p:nvSpPr>
          <p:spPr>
            <a:xfrm>
              <a:off x="6988320" y="4249440"/>
              <a:ext cx="502920" cy="290520"/>
            </a:xfrm>
            <a:prstGeom prst="rect">
              <a:avLst/>
            </a:prstGeom>
            <a:solidFill>
              <a:srgbClr val="339933"/>
            </a:solidFill>
            <a:ln w="25560">
              <a:solidFill>
                <a:srgbClr val="236f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000000"/>
                </a:solidFill>
                <a:latin typeface="CG Times"/>
              </a:endParaRPr>
            </a:p>
          </p:txBody>
        </p:sp>
        <p:sp>
          <p:nvSpPr>
            <p:cNvPr id="320" name="Rectangle 24"/>
            <p:cNvSpPr/>
            <p:nvPr/>
          </p:nvSpPr>
          <p:spPr>
            <a:xfrm>
              <a:off x="6996240" y="5327640"/>
              <a:ext cx="658800" cy="450720"/>
            </a:xfrm>
            <a:prstGeom prst="rect">
              <a:avLst/>
            </a:prstGeom>
            <a:solidFill>
              <a:srgbClr val="339933"/>
            </a:solidFill>
            <a:ln w="25560">
              <a:solidFill>
                <a:srgbClr val="236f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000000"/>
                </a:solidFill>
                <a:latin typeface="CG Times"/>
              </a:endParaRPr>
            </a:p>
          </p:txBody>
        </p:sp>
        <p:sp>
          <p:nvSpPr>
            <p:cNvPr id="321" name="Rectangle 25"/>
            <p:cNvSpPr/>
            <p:nvPr/>
          </p:nvSpPr>
          <p:spPr>
            <a:xfrm>
              <a:off x="6988320" y="4632120"/>
              <a:ext cx="1006200" cy="144360"/>
            </a:xfrm>
            <a:prstGeom prst="rect">
              <a:avLst/>
            </a:prstGeom>
            <a:solidFill>
              <a:srgbClr val="339933"/>
            </a:solidFill>
            <a:ln w="25560">
              <a:solidFill>
                <a:srgbClr val="236f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000000"/>
                </a:solidFill>
                <a:latin typeface="CG Times"/>
              </a:endParaRPr>
            </a:p>
          </p:txBody>
        </p:sp>
      </p:grpSp>
      <p:sp>
        <p:nvSpPr>
          <p:cNvPr id="322" name="Straight Connector 3"/>
          <p:cNvSpPr/>
          <p:nvPr/>
        </p:nvSpPr>
        <p:spPr>
          <a:xfrm>
            <a:off x="4343400" y="3648240"/>
            <a:ext cx="0" cy="2743200"/>
          </a:xfrm>
          <a:prstGeom prst="line">
            <a:avLst/>
          </a:prstGeom>
          <a:ln w="4752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000" spc="-1" strike="noStrike">
              <a:solidFill>
                <a:srgbClr val="000000"/>
              </a:solidFill>
              <a:latin typeface="CG Time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2e5c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345600" y="1279080"/>
            <a:ext cx="8458200" cy="48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3280" indent="-233280">
              <a:spcBef>
                <a:spcPts val="601"/>
              </a:spcBef>
              <a:buClr>
                <a:srgbClr val="092e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2e5c"/>
                </a:solidFill>
                <a:latin typeface="Arial"/>
              </a:rPr>
              <a:t>Point Cloud data is Big Data…</a:t>
            </a:r>
            <a:r>
              <a:rPr b="0" lang="en-US" sz="2400" spc="-1" strike="noStrike">
                <a:solidFill>
                  <a:srgbClr val="092e5c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  <a:p>
            <a:pPr lvl="1" marL="569880" indent="-222120">
              <a:spcBef>
                <a:spcPts val="550"/>
              </a:spcBef>
              <a:buClr>
                <a:srgbClr val="092e5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92e5c"/>
                </a:solidFill>
                <a:latin typeface="Arial"/>
              </a:rPr>
              <a:t>Access via well defined web services</a:t>
            </a:r>
            <a:endParaRPr b="0" lang="en-US" sz="2200" spc="-1" strike="noStrike">
              <a:solidFill>
                <a:srgbClr val="092e5c"/>
              </a:solidFill>
              <a:latin typeface="Arial"/>
            </a:endParaRPr>
          </a:p>
          <a:p>
            <a:pPr lvl="1" marL="569880" indent="-222120">
              <a:spcBef>
                <a:spcPts val="550"/>
              </a:spcBef>
              <a:buClr>
                <a:srgbClr val="092e5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92e5c"/>
                </a:solidFill>
                <a:latin typeface="Arial"/>
              </a:rPr>
              <a:t>OGC is well positioned to influence these service specifications</a:t>
            </a:r>
            <a:endParaRPr b="0" lang="en-US" sz="2200" spc="-1" strike="noStrike">
              <a:solidFill>
                <a:srgbClr val="092e5c"/>
              </a:solidFill>
              <a:latin typeface="Arial"/>
            </a:endParaRPr>
          </a:p>
          <a:p>
            <a:pPr marL="233280" indent="-233280">
              <a:spcBef>
                <a:spcPts val="649"/>
              </a:spcBef>
              <a:buClr>
                <a:srgbClr val="092e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92e5c"/>
                </a:solidFill>
                <a:latin typeface="Arial"/>
              </a:rPr>
              <a:t>The LAS data format is part of the picture</a:t>
            </a:r>
            <a:endParaRPr b="0" lang="en-US" sz="2600" spc="-1" strike="noStrike">
              <a:solidFill>
                <a:srgbClr val="092e5c"/>
              </a:solidFill>
              <a:latin typeface="Arial"/>
            </a:endParaRPr>
          </a:p>
          <a:p>
            <a:pPr lvl="1" marL="569880" indent="-222120">
              <a:spcBef>
                <a:spcPts val="550"/>
              </a:spcBef>
              <a:buClr>
                <a:srgbClr val="092e5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92e5c"/>
                </a:solidFill>
                <a:latin typeface="Arial"/>
              </a:rPr>
              <a:t>An exchange format for LiDAR and similar data</a:t>
            </a:r>
            <a:endParaRPr b="0" lang="en-US" sz="2200" spc="-1" strike="noStrike">
              <a:solidFill>
                <a:srgbClr val="092e5c"/>
              </a:solidFill>
              <a:latin typeface="Arial"/>
            </a:endParaRPr>
          </a:p>
          <a:p>
            <a:pPr lvl="1" marL="569880" indent="-222120">
              <a:spcBef>
                <a:spcPts val="550"/>
              </a:spcBef>
              <a:buClr>
                <a:srgbClr val="092e5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92e5c"/>
                </a:solidFill>
                <a:latin typeface="Arial"/>
              </a:rPr>
              <a:t>Access and application interoperability can be improved by introducing a “sidecar” file with metadata, classification, statistics, and spatial index information</a:t>
            </a:r>
            <a:endParaRPr b="0" lang="en-US" sz="2200" spc="-1" strike="noStrike">
              <a:solidFill>
                <a:srgbClr val="092e5c"/>
              </a:solidFill>
              <a:latin typeface="Arial"/>
            </a:endParaRPr>
          </a:p>
          <a:p>
            <a:pPr lvl="1" marL="569880" indent="-222120">
              <a:spcBef>
                <a:spcPts val="550"/>
              </a:spcBef>
              <a:buClr>
                <a:srgbClr val="092e5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92e5c"/>
                </a:solidFill>
                <a:latin typeface="Arial"/>
              </a:rPr>
              <a:t>Existing LAS record formats can be retained while taking advantage of RDBMS products for storage, scalability, and multi-user access.</a:t>
            </a:r>
            <a:endParaRPr b="0" lang="en-US" sz="2200" spc="-1" strike="noStrike">
              <a:solidFill>
                <a:srgbClr val="092e5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2e5c"/>
                </a:solidFill>
                <a:latin typeface="Arial"/>
              </a:rPr>
              <a:t>Topics</a:t>
            </a: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45600" y="1279080"/>
            <a:ext cx="8458200" cy="48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3280" indent="-233280">
              <a:spcBef>
                <a:spcPts val="601"/>
              </a:spcBef>
              <a:buClr>
                <a:srgbClr val="092e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2e5c"/>
                </a:solidFill>
                <a:latin typeface="Arial"/>
              </a:rPr>
              <a:t>Point Cloud Data</a:t>
            </a: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  <a:p>
            <a:pPr marL="233280" indent="-233280">
              <a:spcBef>
                <a:spcPts val="601"/>
              </a:spcBef>
              <a:buClr>
                <a:srgbClr val="092e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2e5c"/>
                </a:solidFill>
                <a:latin typeface="Arial"/>
              </a:rPr>
              <a:t>Access through Services</a:t>
            </a: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  <a:p>
            <a:pPr marL="233280" indent="-233280">
              <a:spcBef>
                <a:spcPts val="601"/>
              </a:spcBef>
              <a:buClr>
                <a:srgbClr val="092e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2e5c"/>
                </a:solidFill>
                <a:latin typeface="Arial"/>
              </a:rPr>
              <a:t>LAS data</a:t>
            </a: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  <a:p>
            <a:pPr lvl="1" marL="569880" indent="-222120">
              <a:spcBef>
                <a:spcPts val="499"/>
              </a:spcBef>
              <a:buClr>
                <a:srgbClr val="092e5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2e5c"/>
                </a:solidFill>
                <a:latin typeface="Arial"/>
              </a:rPr>
              <a:t>Optimization without changing the LAS file</a:t>
            </a:r>
            <a:endParaRPr b="0" lang="en-US" sz="2000" spc="-1" strike="noStrike">
              <a:solidFill>
                <a:srgbClr val="092e5c"/>
              </a:solidFill>
              <a:latin typeface="Arial"/>
            </a:endParaRPr>
          </a:p>
          <a:p>
            <a:pPr lvl="1" marL="569880" indent="-222120">
              <a:spcBef>
                <a:spcPts val="499"/>
              </a:spcBef>
              <a:buClr>
                <a:srgbClr val="092e5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2e5c"/>
                </a:solidFill>
                <a:latin typeface="Arial"/>
              </a:rPr>
              <a:t>Redefining LAS data storage</a:t>
            </a:r>
            <a:endParaRPr b="0" lang="en-US" sz="2000" spc="-1" strike="noStrike">
              <a:solidFill>
                <a:srgbClr val="092e5c"/>
              </a:solidFill>
              <a:latin typeface="Arial"/>
            </a:endParaRPr>
          </a:p>
          <a:p>
            <a:pPr marL="233280" indent="-233280">
              <a:spcBef>
                <a:spcPts val="601"/>
              </a:spcBef>
              <a:buClr>
                <a:srgbClr val="092e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2e5c"/>
                </a:solidFill>
                <a:latin typeface="Arial"/>
              </a:rPr>
              <a:t>Summary</a:t>
            </a: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2e5c"/>
                </a:solidFill>
                <a:latin typeface="Arial"/>
              </a:rPr>
              <a:t>End</a:t>
            </a: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1"/>
          <a:stretch/>
        </p:blipFill>
        <p:spPr>
          <a:xfrm>
            <a:off x="345600" y="1279080"/>
            <a:ext cx="8458200" cy="4891320"/>
          </a:xfrm>
          <a:prstGeom prst="rect">
            <a:avLst/>
          </a:prstGeom>
          <a:ln w="0">
            <a:noFill/>
          </a:ln>
        </p:spPr>
      </p:pic>
      <p:sp>
        <p:nvSpPr>
          <p:cNvPr id="327" name="Footer Placeholder 3"/>
          <p:cNvSpPr/>
          <p:nvPr/>
        </p:nvSpPr>
        <p:spPr>
          <a:xfrm>
            <a:off x="2973240" y="6553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92e5c"/>
                </a:solidFill>
                <a:latin typeface="Arial"/>
              </a:rPr>
              <a:t>Copyright © 2016 Open Geospatial Consortium</a:t>
            </a:r>
            <a:endParaRPr b="1" lang="en-US" sz="900" spc="-1" strike="noStrike">
              <a:solidFill>
                <a:srgbClr val="000000"/>
              </a:solidFill>
              <a:latin typeface="CG Time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2e5c"/>
                </a:solidFill>
                <a:latin typeface="Arial"/>
              </a:rPr>
              <a:t>Point Cloud Data</a:t>
            </a: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99" name="TextBox 7"/>
          <p:cNvSpPr/>
          <p:nvPr/>
        </p:nvSpPr>
        <p:spPr>
          <a:xfrm>
            <a:off x="231840" y="1182600"/>
            <a:ext cx="51814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-dimensional Scientific data</a:t>
            </a:r>
            <a:endParaRPr b="1" lang="en-US" sz="2000" spc="-1" strike="noStrike">
              <a:solidFill>
                <a:srgbClr val="000000"/>
              </a:solidFill>
              <a:latin typeface="CG Time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DAR Data</a:t>
            </a:r>
            <a:endParaRPr b="1" lang="en-US" sz="2000" spc="-1" strike="noStrike">
              <a:solidFill>
                <a:srgbClr val="000000"/>
              </a:solidFill>
              <a:latin typeface="CG Time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evation Data</a:t>
            </a:r>
            <a:endParaRPr b="1" lang="en-US" sz="2000" spc="-1" strike="noStrike">
              <a:solidFill>
                <a:srgbClr val="000000"/>
              </a:solidFill>
              <a:latin typeface="CG Time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ismic Data</a:t>
            </a:r>
            <a:endParaRPr b="1" lang="en-US" sz="2000" spc="-1" strike="noStrike">
              <a:solidFill>
                <a:srgbClr val="000000"/>
              </a:solidFill>
              <a:latin typeface="CG Time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thymetric Data</a:t>
            </a:r>
            <a:endParaRPr b="1" lang="en-US" sz="2000" spc="-1" strike="noStrike">
              <a:solidFill>
                <a:srgbClr val="000000"/>
              </a:solidFill>
              <a:latin typeface="CG Time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eorological Data</a:t>
            </a:r>
            <a:endParaRPr b="1" lang="en-US" sz="2000" spc="-1" strike="noStrike">
              <a:solidFill>
                <a:srgbClr val="000000"/>
              </a:solidFill>
              <a:latin typeface="CG Time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xed/Mobile consumer sensors (IoT)</a:t>
            </a:r>
            <a:endParaRPr b="1" lang="en-US" sz="2000" spc="-1" strike="noStrike">
              <a:solidFill>
                <a:srgbClr val="000000"/>
              </a:solidFill>
              <a:latin typeface="CG Times"/>
            </a:endParaRPr>
          </a:p>
        </p:txBody>
      </p:sp>
      <p:pic>
        <p:nvPicPr>
          <p:cNvPr id="100" name="Picture 9" descr=""/>
          <p:cNvPicPr/>
          <p:nvPr/>
        </p:nvPicPr>
        <p:blipFill>
          <a:blip r:embed="rId1"/>
          <a:stretch/>
        </p:blipFill>
        <p:spPr>
          <a:xfrm>
            <a:off x="601560" y="3581280"/>
            <a:ext cx="5454720" cy="26481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01" name="Picture 8" descr="image11.png"/>
          <p:cNvPicPr/>
          <p:nvPr/>
        </p:nvPicPr>
        <p:blipFill>
          <a:blip r:embed="rId2"/>
          <a:stretch/>
        </p:blipFill>
        <p:spPr>
          <a:xfrm>
            <a:off x="5338800" y="1523880"/>
            <a:ext cx="3273480" cy="1548000"/>
          </a:xfrm>
          <a:prstGeom prst="rect">
            <a:avLst/>
          </a:prstGeom>
          <a:ln w="19080">
            <a:solidFill>
              <a:srgbClr val="5791b7"/>
            </a:solidFill>
            <a:miter/>
          </a:ln>
          <a:effectLst>
            <a:outerShdw dist="63639" dir="2700000" blurRad="0" rotWithShape="0">
              <a:srgbClr val="000000">
                <a:alpha val="15000"/>
              </a:srgbClr>
            </a:outerShdw>
          </a:effectLst>
        </p:spPr>
      </p:pic>
      <p:pic>
        <p:nvPicPr>
          <p:cNvPr id="102" name="Picture 3" descr=""/>
          <p:cNvPicPr/>
          <p:nvPr/>
        </p:nvPicPr>
        <p:blipFill>
          <a:blip r:embed="rId3"/>
          <a:stretch/>
        </p:blipFill>
        <p:spPr>
          <a:xfrm>
            <a:off x="5413320" y="2895480"/>
            <a:ext cx="3143160" cy="25336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03" name="TextBox 2"/>
          <p:cNvSpPr/>
          <p:nvPr/>
        </p:nvSpPr>
        <p:spPr>
          <a:xfrm>
            <a:off x="6094440" y="6095880"/>
            <a:ext cx="28972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G Times"/>
              </a:rPr>
              <a:t>It’s not just LiDAR</a:t>
            </a:r>
            <a:endParaRPr b="1" lang="en-US" sz="2400" spc="-1" strike="noStrike">
              <a:solidFill>
                <a:srgbClr val="000000"/>
              </a:solidFill>
              <a:latin typeface="CG Time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2e5c"/>
                </a:solidFill>
                <a:latin typeface="Arial"/>
              </a:rPr>
              <a:t>There’s Lots of it…</a:t>
            </a: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45600" y="1279080"/>
            <a:ext cx="8458200" cy="48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3280" indent="-233280">
              <a:spcBef>
                <a:spcPts val="601"/>
              </a:spcBef>
              <a:buClr>
                <a:srgbClr val="092e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2e5c"/>
                </a:solidFill>
                <a:latin typeface="Arial"/>
              </a:rPr>
              <a:t>Point Cloud data is typically Big Data</a:t>
            </a: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  <a:p>
            <a:pPr lvl="1" marL="569880" indent="-222120">
              <a:spcBef>
                <a:spcPts val="601"/>
              </a:spcBef>
              <a:buClr>
                <a:srgbClr val="092e5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2e5c"/>
                </a:solidFill>
                <a:latin typeface="Arial"/>
              </a:rPr>
              <a:t>LiDAR data in a collection of LAS datasets are one example </a:t>
            </a: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  <a:p>
            <a:pPr lvl="1" marL="569880" indent="-222120">
              <a:spcBef>
                <a:spcPts val="601"/>
              </a:spcBef>
              <a:buClr>
                <a:srgbClr val="092e5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2e5c"/>
                </a:solidFill>
                <a:latin typeface="Arial"/>
              </a:rPr>
              <a:t>It’s big if you don’t want to move it….</a:t>
            </a: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  <a:p>
            <a:pPr lvl="1" marL="569880" indent="-222120">
              <a:spcBef>
                <a:spcPts val="499"/>
              </a:spcBef>
              <a:buClr>
                <a:srgbClr val="092e5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2e5c"/>
                </a:solidFill>
                <a:latin typeface="Arial"/>
              </a:rPr>
              <a:t>Bring the processing to the data</a:t>
            </a:r>
            <a:r>
              <a:rPr b="0" lang="en-US" sz="2000" spc="-1" strike="noStrike">
                <a:solidFill>
                  <a:srgbClr val="092e5c"/>
                </a:solidFill>
                <a:latin typeface="Arial"/>
              </a:rPr>
              <a:t>….</a:t>
            </a:r>
            <a:endParaRPr b="0" lang="en-US" sz="20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106" name="Content Placeholder 1"/>
          <p:cNvSpPr/>
          <p:nvPr/>
        </p:nvSpPr>
        <p:spPr>
          <a:xfrm>
            <a:off x="914400" y="4038480"/>
            <a:ext cx="2971800" cy="144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98989"/>
                </a:solidFill>
                <a:latin typeface="Arial"/>
              </a:rPr>
              <a:t>The amount of data is so large that repeated conversion, import, transport, etc., can be painful</a:t>
            </a:r>
            <a:endParaRPr b="1" lang="en-US" sz="2000" spc="-1" strike="noStrike">
              <a:solidFill>
                <a:srgbClr val="000000"/>
              </a:solidFill>
              <a:latin typeface="CG Times"/>
            </a:endParaRPr>
          </a:p>
        </p:txBody>
      </p:sp>
      <p:pic>
        <p:nvPicPr>
          <p:cNvPr id="107" name="Picture 6" descr="C:\Users\clayton\AppData\Local\Temp\SNAGHTML8b001a5d.PNG"/>
          <p:cNvPicPr/>
          <p:nvPr/>
        </p:nvPicPr>
        <p:blipFill>
          <a:blip r:embed="rId1"/>
          <a:stretch/>
        </p:blipFill>
        <p:spPr>
          <a:xfrm>
            <a:off x="4114800" y="3954600"/>
            <a:ext cx="3763800" cy="255240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5"/>
          <p:cNvSpPr/>
          <p:nvPr/>
        </p:nvSpPr>
        <p:spPr>
          <a:xfrm>
            <a:off x="6783480" y="3809880"/>
            <a:ext cx="885600" cy="2610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CG Times"/>
            </a:endParaRPr>
          </a:p>
        </p:txBody>
      </p:sp>
      <p:pic>
        <p:nvPicPr>
          <p:cNvPr id="109" name="Rectangle 6" descr=""/>
          <p:cNvPicPr/>
          <p:nvPr/>
        </p:nvPicPr>
        <p:blipFill>
          <a:blip r:embed="rId2"/>
          <a:stretch/>
        </p:blipFill>
        <p:spPr>
          <a:xfrm>
            <a:off x="7881840" y="4767120"/>
            <a:ext cx="403200" cy="9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19" descr=""/>
          <p:cNvPicPr/>
          <p:nvPr/>
        </p:nvPicPr>
        <p:blipFill>
          <a:blip r:embed="rId1"/>
          <a:stretch/>
        </p:blipFill>
        <p:spPr>
          <a:xfrm>
            <a:off x="4632480" y="1219320"/>
            <a:ext cx="4214520" cy="5211720"/>
          </a:xfrm>
          <a:prstGeom prst="rect">
            <a:avLst/>
          </a:prstGeom>
          <a:ln w="0">
            <a:noFill/>
          </a:ln>
        </p:spPr>
      </p:pic>
      <p:sp>
        <p:nvSpPr>
          <p:cNvPr id="111" name="Title 2"/>
          <p:cNvSpPr/>
          <p:nvPr/>
        </p:nvSpPr>
        <p:spPr>
          <a:xfrm>
            <a:off x="243000" y="212760"/>
            <a:ext cx="777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nterprise Imagery and Point Cloud Management –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ccess through Services </a:t>
            </a:r>
            <a:endParaRPr b="1" lang="en-US" sz="2400" spc="-1" strike="noStrike">
              <a:solidFill>
                <a:srgbClr val="000000"/>
              </a:solidFill>
              <a:latin typeface="CG Times"/>
            </a:endParaRPr>
          </a:p>
        </p:txBody>
      </p:sp>
      <p:sp>
        <p:nvSpPr>
          <p:cNvPr id="112" name="Rectangle 82"/>
          <p:cNvSpPr/>
          <p:nvPr/>
        </p:nvSpPr>
        <p:spPr>
          <a:xfrm flipH="1">
            <a:off x="11160" y="3613320"/>
            <a:ext cx="5981760" cy="3244680"/>
          </a:xfrm>
          <a:prstGeom prst="rect">
            <a:avLst/>
          </a:prstGeom>
          <a:blipFill rotWithShape="0">
            <a:blip r:embed="rId2">
              <a:alphaModFix amt="48000"/>
            </a:blip>
            <a:srcRect/>
            <a:stretch/>
          </a:blip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CG Times"/>
            </a:endParaRPr>
          </a:p>
        </p:txBody>
      </p:sp>
      <p:grpSp>
        <p:nvGrpSpPr>
          <p:cNvPr id="113" name="Freeform 83"/>
          <p:cNvGrpSpPr/>
          <p:nvPr/>
        </p:nvGrpSpPr>
        <p:grpSpPr>
          <a:xfrm>
            <a:off x="-364680" y="3309840"/>
            <a:ext cx="4453920" cy="3805560"/>
            <a:chOff x="-364680" y="3309840"/>
            <a:chExt cx="4453920" cy="3805560"/>
          </a:xfrm>
        </p:grpSpPr>
        <p:pic>
          <p:nvPicPr>
            <p:cNvPr id="114" name="Freeform 83" descr=""/>
            <p:cNvPicPr/>
            <p:nvPr/>
          </p:nvPicPr>
          <p:blipFill>
            <a:blip r:embed="rId3"/>
            <a:stretch/>
          </p:blipFill>
          <p:spPr>
            <a:xfrm>
              <a:off x="-179280" y="3309840"/>
              <a:ext cx="4069440" cy="3634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/>
            <p:nvPr/>
          </p:nvSpPr>
          <p:spPr>
            <a:xfrm rot="10538400">
              <a:off x="-237960" y="3465720"/>
              <a:ext cx="4200480" cy="349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22400" rIns="122400" tIns="61200" bIns="61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000000"/>
                </a:solidFill>
                <a:latin typeface="CG Times"/>
              </a:endParaRPr>
            </a:p>
          </p:txBody>
        </p:sp>
      </p:grpSp>
      <p:grpSp>
        <p:nvGrpSpPr>
          <p:cNvPr id="116" name="Group 84"/>
          <p:cNvGrpSpPr/>
          <p:nvPr/>
        </p:nvGrpSpPr>
        <p:grpSpPr>
          <a:xfrm>
            <a:off x="264960" y="2500200"/>
            <a:ext cx="2511360" cy="3664080"/>
            <a:chOff x="264960" y="2500200"/>
            <a:chExt cx="2511360" cy="3664080"/>
          </a:xfrm>
        </p:grpSpPr>
        <p:pic>
          <p:nvPicPr>
            <p:cNvPr id="117" name="Picture 2" descr=""/>
            <p:cNvPicPr/>
            <p:nvPr/>
          </p:nvPicPr>
          <p:blipFill>
            <a:blip r:embed="rId4"/>
            <a:stretch/>
          </p:blipFill>
          <p:spPr>
            <a:xfrm>
              <a:off x="405000" y="2500200"/>
              <a:ext cx="727920" cy="100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Straight Connector 86"/>
            <p:cNvSpPr/>
            <p:nvPr/>
          </p:nvSpPr>
          <p:spPr>
            <a:xfrm flipV="1">
              <a:off x="264960" y="3393000"/>
              <a:ext cx="504000" cy="2172960"/>
            </a:xfrm>
            <a:prstGeom prst="line">
              <a:avLst/>
            </a:prstGeom>
            <a:ln w="19080">
              <a:solidFill>
                <a:srgbClr val="092e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000" spc="-1" strike="noStrike">
                <a:solidFill>
                  <a:srgbClr val="000000"/>
                </a:solidFill>
                <a:latin typeface="CG Times"/>
              </a:endParaRPr>
            </a:p>
          </p:txBody>
        </p:sp>
        <p:sp>
          <p:nvSpPr>
            <p:cNvPr id="119" name="Straight Connector 87"/>
            <p:cNvSpPr/>
            <p:nvPr/>
          </p:nvSpPr>
          <p:spPr>
            <a:xfrm flipH="1" flipV="1">
              <a:off x="768960" y="3392640"/>
              <a:ext cx="110160" cy="2548440"/>
            </a:xfrm>
            <a:prstGeom prst="line">
              <a:avLst/>
            </a:prstGeom>
            <a:ln w="19080">
              <a:solidFill>
                <a:srgbClr val="092e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000" spc="-1" strike="noStrike">
                <a:solidFill>
                  <a:srgbClr val="000000"/>
                </a:solidFill>
                <a:latin typeface="CG Times"/>
              </a:endParaRPr>
            </a:p>
          </p:txBody>
        </p:sp>
        <p:sp>
          <p:nvSpPr>
            <p:cNvPr id="120" name="Straight Connector 88"/>
            <p:cNvSpPr/>
            <p:nvPr/>
          </p:nvSpPr>
          <p:spPr>
            <a:xfrm flipH="1" flipV="1">
              <a:off x="768600" y="3392640"/>
              <a:ext cx="826920" cy="2148840"/>
            </a:xfrm>
            <a:prstGeom prst="line">
              <a:avLst/>
            </a:prstGeom>
            <a:ln w="19080">
              <a:solidFill>
                <a:srgbClr val="092e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000" spc="-1" strike="noStrike">
                <a:solidFill>
                  <a:srgbClr val="000000"/>
                </a:solidFill>
                <a:latin typeface="CG Times"/>
              </a:endParaRPr>
            </a:p>
          </p:txBody>
        </p:sp>
        <p:sp>
          <p:nvSpPr>
            <p:cNvPr id="121" name="Straight Connector 89"/>
            <p:cNvSpPr/>
            <p:nvPr/>
          </p:nvSpPr>
          <p:spPr>
            <a:xfrm flipV="1">
              <a:off x="1578600" y="4585680"/>
              <a:ext cx="571680" cy="1202760"/>
            </a:xfrm>
            <a:prstGeom prst="line">
              <a:avLst/>
            </a:prstGeom>
            <a:ln w="19080">
              <a:solidFill>
                <a:srgbClr val="092e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000" spc="-1" strike="noStrike">
                <a:solidFill>
                  <a:srgbClr val="000000"/>
                </a:solidFill>
                <a:latin typeface="CG Times"/>
              </a:endParaRPr>
            </a:p>
          </p:txBody>
        </p:sp>
        <p:sp>
          <p:nvSpPr>
            <p:cNvPr id="122" name="Straight Connector 90"/>
            <p:cNvSpPr/>
            <p:nvPr/>
          </p:nvSpPr>
          <p:spPr>
            <a:xfrm flipH="1" flipV="1">
              <a:off x="2150280" y="4527720"/>
              <a:ext cx="94320" cy="1636560"/>
            </a:xfrm>
            <a:prstGeom prst="line">
              <a:avLst/>
            </a:prstGeom>
            <a:ln w="19080">
              <a:solidFill>
                <a:srgbClr val="092e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000" spc="-1" strike="noStrike">
                <a:solidFill>
                  <a:srgbClr val="000000"/>
                </a:solidFill>
                <a:latin typeface="CG Times"/>
              </a:endParaRPr>
            </a:p>
          </p:txBody>
        </p:sp>
        <p:sp>
          <p:nvSpPr>
            <p:cNvPr id="123" name="Straight Connector 91"/>
            <p:cNvSpPr/>
            <p:nvPr/>
          </p:nvSpPr>
          <p:spPr>
            <a:xfrm flipH="1" flipV="1">
              <a:off x="2174760" y="4586040"/>
              <a:ext cx="601560" cy="1103760"/>
            </a:xfrm>
            <a:prstGeom prst="line">
              <a:avLst/>
            </a:prstGeom>
            <a:ln w="19080">
              <a:solidFill>
                <a:srgbClr val="092e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000" spc="-1" strike="noStrike">
                <a:solidFill>
                  <a:srgbClr val="000000"/>
                </a:solidFill>
                <a:latin typeface="CG Times"/>
              </a:endParaRPr>
            </a:p>
          </p:txBody>
        </p:sp>
      </p:grpSp>
      <p:pic>
        <p:nvPicPr>
          <p:cNvPr id="124" name="Picture 6" descr=""/>
          <p:cNvPicPr/>
          <p:nvPr/>
        </p:nvPicPr>
        <p:blipFill>
          <a:blip r:embed="rId5"/>
          <a:stretch/>
        </p:blipFill>
        <p:spPr>
          <a:xfrm>
            <a:off x="1487520" y="4264200"/>
            <a:ext cx="1374840" cy="19983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2" descr=""/>
          <p:cNvPicPr/>
          <p:nvPr/>
        </p:nvPicPr>
        <p:blipFill>
          <a:blip r:embed="rId6"/>
          <a:stretch/>
        </p:blipFill>
        <p:spPr>
          <a:xfrm>
            <a:off x="139680" y="5175360"/>
            <a:ext cx="1566720" cy="7318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2" descr=""/>
          <p:cNvPicPr/>
          <p:nvPr/>
        </p:nvPicPr>
        <p:blipFill>
          <a:blip r:embed="rId7"/>
          <a:stretch/>
        </p:blipFill>
        <p:spPr>
          <a:xfrm>
            <a:off x="1539720" y="4035600"/>
            <a:ext cx="1041480" cy="903240"/>
          </a:xfrm>
          <a:prstGeom prst="rect">
            <a:avLst/>
          </a:prstGeom>
          <a:ln w="0">
            <a:noFill/>
          </a:ln>
        </p:spPr>
      </p:pic>
      <p:sp>
        <p:nvSpPr>
          <p:cNvPr id="127" name="TextBox 95"/>
          <p:cNvSpPr/>
          <p:nvPr/>
        </p:nvSpPr>
        <p:spPr>
          <a:xfrm>
            <a:off x="1851480" y="3846600"/>
            <a:ext cx="6483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72345"/>
                </a:solidFill>
                <a:latin typeface="CG Times"/>
              </a:rPr>
              <a:t>MSI/HSl</a:t>
            </a:r>
            <a:endParaRPr b="1" lang="en-US" sz="1300" spc="-1" strike="noStrike">
              <a:solidFill>
                <a:srgbClr val="000000"/>
              </a:solidFill>
              <a:latin typeface="CG Times"/>
            </a:endParaRPr>
          </a:p>
        </p:txBody>
      </p:sp>
      <p:sp>
        <p:nvSpPr>
          <p:cNvPr id="128" name="TextBox 96"/>
          <p:cNvSpPr/>
          <p:nvPr/>
        </p:nvSpPr>
        <p:spPr>
          <a:xfrm>
            <a:off x="2473920" y="3541680"/>
            <a:ext cx="5022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72345"/>
                </a:solidFill>
                <a:latin typeface="CG Times"/>
              </a:rPr>
              <a:t>LIDAR</a:t>
            </a:r>
            <a:endParaRPr b="1" lang="en-US" sz="1300" spc="-1" strike="noStrike">
              <a:solidFill>
                <a:srgbClr val="000000"/>
              </a:solidFill>
              <a:latin typeface="CG Times"/>
            </a:endParaRPr>
          </a:p>
        </p:txBody>
      </p:sp>
      <p:sp>
        <p:nvSpPr>
          <p:cNvPr id="129" name="TextBox 97"/>
          <p:cNvSpPr/>
          <p:nvPr/>
        </p:nvSpPr>
        <p:spPr>
          <a:xfrm>
            <a:off x="2562840" y="4334040"/>
            <a:ext cx="2232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72345"/>
                </a:solidFill>
                <a:latin typeface="CG Times"/>
              </a:rPr>
              <a:t>EO</a:t>
            </a:r>
            <a:endParaRPr b="1" lang="en-US" sz="1300" spc="-1" strike="noStrike">
              <a:solidFill>
                <a:srgbClr val="000000"/>
              </a:solidFill>
              <a:latin typeface="CG Times"/>
            </a:endParaRPr>
          </a:p>
        </p:txBody>
      </p:sp>
      <p:sp>
        <p:nvSpPr>
          <p:cNvPr id="130" name="TextBox 98"/>
          <p:cNvSpPr/>
          <p:nvPr/>
        </p:nvSpPr>
        <p:spPr>
          <a:xfrm>
            <a:off x="2521800" y="3917880"/>
            <a:ext cx="2779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72345"/>
                </a:solidFill>
                <a:latin typeface="CG Times"/>
              </a:rPr>
              <a:t>CIR</a:t>
            </a:r>
            <a:endParaRPr b="1" lang="en-US" sz="1300" spc="-1" strike="noStrike">
              <a:solidFill>
                <a:srgbClr val="000000"/>
              </a:solidFill>
              <a:latin typeface="CG Times"/>
            </a:endParaRPr>
          </a:p>
        </p:txBody>
      </p:sp>
      <p:sp>
        <p:nvSpPr>
          <p:cNvPr id="131" name="TextBox 99"/>
          <p:cNvSpPr/>
          <p:nvPr/>
        </p:nvSpPr>
        <p:spPr>
          <a:xfrm>
            <a:off x="2940120" y="4076640"/>
            <a:ext cx="3528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72345"/>
                </a:solidFill>
                <a:latin typeface="CG Times"/>
              </a:rPr>
              <a:t>FMV</a:t>
            </a:r>
            <a:endParaRPr b="1" lang="en-US" sz="1300" spc="-1" strike="noStrike">
              <a:solidFill>
                <a:srgbClr val="000000"/>
              </a:solidFill>
              <a:latin typeface="CG Times"/>
            </a:endParaRPr>
          </a:p>
        </p:txBody>
      </p:sp>
      <p:sp>
        <p:nvSpPr>
          <p:cNvPr id="132" name="Text Placeholder 13"/>
          <p:cNvSpPr/>
          <p:nvPr/>
        </p:nvSpPr>
        <p:spPr>
          <a:xfrm>
            <a:off x="3236760" y="4670280"/>
            <a:ext cx="1424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000" spc="-1" strike="noStrike">
              <a:solidFill>
                <a:srgbClr val="000000"/>
              </a:solidFill>
              <a:latin typeface="CG Times"/>
            </a:endParaRPr>
          </a:p>
        </p:txBody>
      </p:sp>
      <p:sp>
        <p:nvSpPr>
          <p:cNvPr id="133" name="Text Placeholder 13"/>
          <p:cNvSpPr/>
          <p:nvPr/>
        </p:nvSpPr>
        <p:spPr>
          <a:xfrm>
            <a:off x="1116000" y="3016080"/>
            <a:ext cx="12272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ultiple Sensors &amp; Formats</a:t>
            </a:r>
            <a:endParaRPr b="1" lang="en-US" sz="1400" spc="-1" strike="noStrike">
              <a:solidFill>
                <a:srgbClr val="000000"/>
              </a:solidFill>
              <a:latin typeface="CG Times"/>
            </a:endParaRPr>
          </a:p>
        </p:txBody>
      </p:sp>
      <p:grpSp>
        <p:nvGrpSpPr>
          <p:cNvPr id="134" name="Freeform 27"/>
          <p:cNvGrpSpPr/>
          <p:nvPr/>
        </p:nvGrpSpPr>
        <p:grpSpPr>
          <a:xfrm>
            <a:off x="1427400" y="1294200"/>
            <a:ext cx="2662200" cy="2124000"/>
            <a:chOff x="1427400" y="1294200"/>
            <a:chExt cx="2662200" cy="2124000"/>
          </a:xfrm>
        </p:grpSpPr>
        <p:pic>
          <p:nvPicPr>
            <p:cNvPr id="135" name="Freeform 27" descr=""/>
            <p:cNvPicPr/>
            <p:nvPr/>
          </p:nvPicPr>
          <p:blipFill>
            <a:blip r:embed="rId8"/>
            <a:stretch/>
          </p:blipFill>
          <p:spPr>
            <a:xfrm>
              <a:off x="1689480" y="1590840"/>
              <a:ext cx="2104560" cy="182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"/>
            <p:cNvSpPr/>
            <p:nvPr/>
          </p:nvSpPr>
          <p:spPr>
            <a:xfrm rot="816000">
              <a:off x="1584360" y="1547280"/>
              <a:ext cx="2347920" cy="161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22400" rIns="122400" tIns="61200" bIns="61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000000"/>
                </a:solidFill>
                <a:latin typeface="CG Times"/>
              </a:endParaRPr>
            </a:p>
          </p:txBody>
        </p:sp>
      </p:grpSp>
      <p:pic>
        <p:nvPicPr>
          <p:cNvPr id="137" name="Picture 26" descr=""/>
          <p:cNvPicPr/>
          <p:nvPr/>
        </p:nvPicPr>
        <p:blipFill>
          <a:blip r:embed="rId9"/>
          <a:stretch/>
        </p:blipFill>
        <p:spPr>
          <a:xfrm>
            <a:off x="2927520" y="1909800"/>
            <a:ext cx="2041200" cy="2706480"/>
          </a:xfrm>
          <a:prstGeom prst="rect">
            <a:avLst/>
          </a:prstGeom>
          <a:ln w="0">
            <a:noFill/>
          </a:ln>
        </p:spPr>
      </p:pic>
      <p:sp>
        <p:nvSpPr>
          <p:cNvPr id="138" name="Text Placeholder 13"/>
          <p:cNvSpPr/>
          <p:nvPr/>
        </p:nvSpPr>
        <p:spPr>
          <a:xfrm>
            <a:off x="1473120" y="1260360"/>
            <a:ext cx="1393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5000"/>
          </a:bodyPr>
          <a:p>
            <a:pPr algn="ctr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GC Service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WCS, WMS, WPS, WCPS, etc</a:t>
            </a:r>
            <a:endParaRPr b="1" lang="en-US" sz="1400" spc="-1" strike="noStrike">
              <a:solidFill>
                <a:srgbClr val="000000"/>
              </a:solidFill>
              <a:latin typeface="CG Times"/>
            </a:endParaRPr>
          </a:p>
        </p:txBody>
      </p:sp>
      <p:sp>
        <p:nvSpPr>
          <p:cNvPr id="139" name="TextBox 1"/>
          <p:cNvSpPr/>
          <p:nvPr/>
        </p:nvSpPr>
        <p:spPr>
          <a:xfrm>
            <a:off x="1985400" y="2238480"/>
            <a:ext cx="1479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G Times"/>
              </a:rPr>
              <a:t>Data Format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G Times"/>
              </a:rPr>
              <a:t>KML, LAS, GML</a:t>
            </a:r>
            <a:endParaRPr b="1" lang="en-US" sz="1400" spc="-1" strike="noStrike">
              <a:solidFill>
                <a:srgbClr val="000000"/>
              </a:solidFill>
              <a:latin typeface="CG Times"/>
            </a:endParaRPr>
          </a:p>
        </p:txBody>
      </p:sp>
      <p:sp>
        <p:nvSpPr>
          <p:cNvPr id="140" name="Rectangle 2"/>
          <p:cNvSpPr/>
          <p:nvPr/>
        </p:nvSpPr>
        <p:spPr>
          <a:xfrm>
            <a:off x="4878720" y="6297480"/>
            <a:ext cx="411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G Times"/>
              </a:rPr>
              <a:t>Store it Once, Use it Man</a:t>
            </a:r>
            <a:r>
              <a:rPr b="1" lang="en-US" sz="2000" spc="-1" strike="noStrike">
                <a:solidFill>
                  <a:srgbClr val="000000"/>
                </a:solidFill>
                <a:latin typeface="CG Times"/>
              </a:rPr>
              <a:t>y Times</a:t>
            </a:r>
            <a:endParaRPr b="1" lang="en-US" sz="2000" spc="-1" strike="noStrike">
              <a:solidFill>
                <a:srgbClr val="000000"/>
              </a:solidFill>
              <a:latin typeface="CG Time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2e5c"/>
                </a:solidFill>
                <a:latin typeface="Arial"/>
              </a:rPr>
              <a:t>Point Cloud Services</a:t>
            </a: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grpSp>
        <p:nvGrpSpPr>
          <p:cNvPr id="142" name="Group 3"/>
          <p:cNvGrpSpPr/>
          <p:nvPr/>
        </p:nvGrpSpPr>
        <p:grpSpPr>
          <a:xfrm>
            <a:off x="4308480" y="3733920"/>
            <a:ext cx="4707000" cy="2746080"/>
            <a:chOff x="4308480" y="3733920"/>
            <a:chExt cx="4707000" cy="2746080"/>
          </a:xfrm>
        </p:grpSpPr>
        <p:sp>
          <p:nvSpPr>
            <p:cNvPr id="143" name="Freeform 29"/>
            <p:cNvSpPr/>
            <p:nvPr/>
          </p:nvSpPr>
          <p:spPr>
            <a:xfrm>
              <a:off x="4308480" y="3733920"/>
              <a:ext cx="4707000" cy="2667960"/>
            </a:xfrm>
            <a:custGeom>
              <a:avLst/>
              <a:gdLst/>
              <a:ahLst/>
              <a:rect l="l" t="t" r="r" b="b"/>
              <a:pathLst>
                <a:path w="2706" h="1717">
                  <a:moveTo>
                    <a:pt x="1468" y="0"/>
                  </a:moveTo>
                  <a:lnTo>
                    <a:pt x="1531" y="4"/>
                  </a:lnTo>
                  <a:lnTo>
                    <a:pt x="1593" y="15"/>
                  </a:lnTo>
                  <a:lnTo>
                    <a:pt x="1651" y="33"/>
                  </a:lnTo>
                  <a:lnTo>
                    <a:pt x="1706" y="56"/>
                  </a:lnTo>
                  <a:lnTo>
                    <a:pt x="1758" y="85"/>
                  </a:lnTo>
                  <a:lnTo>
                    <a:pt x="1807" y="120"/>
                  </a:lnTo>
                  <a:lnTo>
                    <a:pt x="1851" y="160"/>
                  </a:lnTo>
                  <a:lnTo>
                    <a:pt x="1891" y="205"/>
                  </a:lnTo>
                  <a:lnTo>
                    <a:pt x="1925" y="253"/>
                  </a:lnTo>
                  <a:lnTo>
                    <a:pt x="1954" y="306"/>
                  </a:lnTo>
                  <a:lnTo>
                    <a:pt x="1978" y="362"/>
                  </a:lnTo>
                  <a:lnTo>
                    <a:pt x="1995" y="420"/>
                  </a:lnTo>
                  <a:lnTo>
                    <a:pt x="2016" y="419"/>
                  </a:lnTo>
                  <a:lnTo>
                    <a:pt x="2071" y="422"/>
                  </a:lnTo>
                  <a:lnTo>
                    <a:pt x="2126" y="433"/>
                  </a:lnTo>
                  <a:lnTo>
                    <a:pt x="2178" y="449"/>
                  </a:lnTo>
                  <a:lnTo>
                    <a:pt x="2226" y="472"/>
                  </a:lnTo>
                  <a:lnTo>
                    <a:pt x="2272" y="500"/>
                  </a:lnTo>
                  <a:lnTo>
                    <a:pt x="2313" y="532"/>
                  </a:lnTo>
                  <a:lnTo>
                    <a:pt x="2351" y="570"/>
                  </a:lnTo>
                  <a:lnTo>
                    <a:pt x="2383" y="611"/>
                  </a:lnTo>
                  <a:lnTo>
                    <a:pt x="2411" y="657"/>
                  </a:lnTo>
                  <a:lnTo>
                    <a:pt x="2434" y="705"/>
                  </a:lnTo>
                  <a:lnTo>
                    <a:pt x="2450" y="757"/>
                  </a:lnTo>
                  <a:lnTo>
                    <a:pt x="2461" y="812"/>
                  </a:lnTo>
                  <a:lnTo>
                    <a:pt x="2464" y="867"/>
                  </a:lnTo>
                  <a:lnTo>
                    <a:pt x="2461" y="923"/>
                  </a:lnTo>
                  <a:lnTo>
                    <a:pt x="2450" y="976"/>
                  </a:lnTo>
                  <a:lnTo>
                    <a:pt x="2493" y="994"/>
                  </a:lnTo>
                  <a:lnTo>
                    <a:pt x="2535" y="1017"/>
                  </a:lnTo>
                  <a:lnTo>
                    <a:pt x="2572" y="1045"/>
                  </a:lnTo>
                  <a:lnTo>
                    <a:pt x="2605" y="1076"/>
                  </a:lnTo>
                  <a:lnTo>
                    <a:pt x="2635" y="1113"/>
                  </a:lnTo>
                  <a:lnTo>
                    <a:pt x="2659" y="1151"/>
                  </a:lnTo>
                  <a:lnTo>
                    <a:pt x="2680" y="1194"/>
                  </a:lnTo>
                  <a:lnTo>
                    <a:pt x="2694" y="1240"/>
                  </a:lnTo>
                  <a:lnTo>
                    <a:pt x="2704" y="1287"/>
                  </a:lnTo>
                  <a:lnTo>
                    <a:pt x="2706" y="1336"/>
                  </a:lnTo>
                  <a:lnTo>
                    <a:pt x="2703" y="1387"/>
                  </a:lnTo>
                  <a:lnTo>
                    <a:pt x="2693" y="1437"/>
                  </a:lnTo>
                  <a:lnTo>
                    <a:pt x="2677" y="1484"/>
                  </a:lnTo>
                  <a:lnTo>
                    <a:pt x="2654" y="1529"/>
                  </a:lnTo>
                  <a:lnTo>
                    <a:pt x="2628" y="1568"/>
                  </a:lnTo>
                  <a:lnTo>
                    <a:pt x="2595" y="1606"/>
                  </a:lnTo>
                  <a:lnTo>
                    <a:pt x="2559" y="1637"/>
                  </a:lnTo>
                  <a:lnTo>
                    <a:pt x="2518" y="1665"/>
                  </a:lnTo>
                  <a:lnTo>
                    <a:pt x="2474" y="1687"/>
                  </a:lnTo>
                  <a:lnTo>
                    <a:pt x="2427" y="1704"/>
                  </a:lnTo>
                  <a:lnTo>
                    <a:pt x="2377" y="1714"/>
                  </a:lnTo>
                  <a:lnTo>
                    <a:pt x="2325" y="1717"/>
                  </a:lnTo>
                  <a:lnTo>
                    <a:pt x="521" y="1717"/>
                  </a:lnTo>
                  <a:lnTo>
                    <a:pt x="461" y="1714"/>
                  </a:lnTo>
                  <a:lnTo>
                    <a:pt x="402" y="1704"/>
                  </a:lnTo>
                  <a:lnTo>
                    <a:pt x="346" y="1687"/>
                  </a:lnTo>
                  <a:lnTo>
                    <a:pt x="292" y="1665"/>
                  </a:lnTo>
                  <a:lnTo>
                    <a:pt x="242" y="1636"/>
                  </a:lnTo>
                  <a:lnTo>
                    <a:pt x="195" y="1604"/>
                  </a:lnTo>
                  <a:lnTo>
                    <a:pt x="153" y="1565"/>
                  </a:lnTo>
                  <a:lnTo>
                    <a:pt x="115" y="1523"/>
                  </a:lnTo>
                  <a:lnTo>
                    <a:pt x="81" y="1475"/>
                  </a:lnTo>
                  <a:lnTo>
                    <a:pt x="54" y="1426"/>
                  </a:lnTo>
                  <a:lnTo>
                    <a:pt x="31" y="1373"/>
                  </a:lnTo>
                  <a:lnTo>
                    <a:pt x="14" y="1316"/>
                  </a:lnTo>
                  <a:lnTo>
                    <a:pt x="4" y="1257"/>
                  </a:lnTo>
                  <a:lnTo>
                    <a:pt x="0" y="1196"/>
                  </a:lnTo>
                  <a:lnTo>
                    <a:pt x="4" y="1134"/>
                  </a:lnTo>
                  <a:lnTo>
                    <a:pt x="15" y="1075"/>
                  </a:lnTo>
                  <a:lnTo>
                    <a:pt x="32" y="1017"/>
                  </a:lnTo>
                  <a:lnTo>
                    <a:pt x="55" y="964"/>
                  </a:lnTo>
                  <a:lnTo>
                    <a:pt x="84" y="913"/>
                  </a:lnTo>
                  <a:lnTo>
                    <a:pt x="119" y="866"/>
                  </a:lnTo>
                  <a:lnTo>
                    <a:pt x="157" y="822"/>
                  </a:lnTo>
                  <a:lnTo>
                    <a:pt x="202" y="785"/>
                  </a:lnTo>
                  <a:lnTo>
                    <a:pt x="249" y="751"/>
                  </a:lnTo>
                  <a:lnTo>
                    <a:pt x="301" y="723"/>
                  </a:lnTo>
                  <a:lnTo>
                    <a:pt x="357" y="702"/>
                  </a:lnTo>
                  <a:lnTo>
                    <a:pt x="414" y="686"/>
                  </a:lnTo>
                  <a:lnTo>
                    <a:pt x="413" y="641"/>
                  </a:lnTo>
                  <a:lnTo>
                    <a:pt x="415" y="585"/>
                  </a:lnTo>
                  <a:lnTo>
                    <a:pt x="426" y="532"/>
                  </a:lnTo>
                  <a:lnTo>
                    <a:pt x="442" y="480"/>
                  </a:lnTo>
                  <a:lnTo>
                    <a:pt x="465" y="432"/>
                  </a:lnTo>
                  <a:lnTo>
                    <a:pt x="491" y="387"/>
                  </a:lnTo>
                  <a:lnTo>
                    <a:pt x="524" y="346"/>
                  </a:lnTo>
                  <a:lnTo>
                    <a:pt x="561" y="309"/>
                  </a:lnTo>
                  <a:lnTo>
                    <a:pt x="602" y="276"/>
                  </a:lnTo>
                  <a:lnTo>
                    <a:pt x="648" y="249"/>
                  </a:lnTo>
                  <a:lnTo>
                    <a:pt x="697" y="226"/>
                  </a:lnTo>
                  <a:lnTo>
                    <a:pt x="748" y="211"/>
                  </a:lnTo>
                  <a:lnTo>
                    <a:pt x="801" y="200"/>
                  </a:lnTo>
                  <a:lnTo>
                    <a:pt x="858" y="196"/>
                  </a:lnTo>
                  <a:lnTo>
                    <a:pt x="901" y="199"/>
                  </a:lnTo>
                  <a:lnTo>
                    <a:pt x="945" y="206"/>
                  </a:lnTo>
                  <a:lnTo>
                    <a:pt x="986" y="215"/>
                  </a:lnTo>
                  <a:lnTo>
                    <a:pt x="1026" y="230"/>
                  </a:lnTo>
                  <a:lnTo>
                    <a:pt x="1061" y="185"/>
                  </a:lnTo>
                  <a:lnTo>
                    <a:pt x="1101" y="145"/>
                  </a:lnTo>
                  <a:lnTo>
                    <a:pt x="1143" y="109"/>
                  </a:lnTo>
                  <a:lnTo>
                    <a:pt x="1190" y="78"/>
                  </a:lnTo>
                  <a:lnTo>
                    <a:pt x="1241" y="51"/>
                  </a:lnTo>
                  <a:lnTo>
                    <a:pt x="1294" y="29"/>
                  </a:lnTo>
                  <a:lnTo>
                    <a:pt x="1350" y="14"/>
                  </a:lnTo>
                  <a:lnTo>
                    <a:pt x="1408" y="4"/>
                  </a:lnTo>
                  <a:lnTo>
                    <a:pt x="1468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389ee7"/>
                </a:gs>
              </a:gsLst>
              <a:lin ang="1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000" spc="-1" strike="noStrike">
                <a:solidFill>
                  <a:srgbClr val="000000"/>
                </a:solidFill>
                <a:latin typeface="CG Times"/>
              </a:endParaRPr>
            </a:p>
          </p:txBody>
        </p:sp>
        <p:pic>
          <p:nvPicPr>
            <p:cNvPr id="144" name="Picture 5" descr=""/>
            <p:cNvPicPr/>
            <p:nvPr/>
          </p:nvPicPr>
          <p:blipFill>
            <a:blip r:embed="rId1"/>
            <a:stretch/>
          </p:blipFill>
          <p:spPr>
            <a:xfrm>
              <a:off x="5150880" y="4181760"/>
              <a:ext cx="3017520" cy="2298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5" name=""/>
          <p:cNvSpPr txBox="1"/>
          <p:nvPr/>
        </p:nvSpPr>
        <p:spPr>
          <a:xfrm>
            <a:off x="345600" y="1279080"/>
            <a:ext cx="8458200" cy="48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3280" indent="-233280">
              <a:spcBef>
                <a:spcPts val="601"/>
              </a:spcBef>
              <a:buClr>
                <a:srgbClr val="092e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2e5c"/>
                </a:solidFill>
                <a:latin typeface="Arial"/>
              </a:rPr>
              <a:t>Enterprise Point Cloud data services need to support:</a:t>
            </a: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  <a:p>
            <a:pPr lvl="1" marL="569880" indent="-222120">
              <a:spcBef>
                <a:spcPts val="601"/>
              </a:spcBef>
              <a:buClr>
                <a:srgbClr val="092e5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2e5c"/>
                </a:solidFill>
                <a:latin typeface="Arial"/>
              </a:rPr>
              <a:t>Standardized Service Interfaces</a:t>
            </a: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  <a:p>
            <a:pPr lvl="1" marL="569880" indent="-222120">
              <a:spcBef>
                <a:spcPts val="601"/>
              </a:spcBef>
              <a:buClr>
                <a:srgbClr val="092e5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2e5c"/>
                </a:solidFill>
                <a:latin typeface="Arial"/>
              </a:rPr>
              <a:t>Overlapping collections</a:t>
            </a: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  <a:p>
            <a:pPr lvl="1" marL="569880" indent="-222120">
              <a:spcBef>
                <a:spcPts val="601"/>
              </a:spcBef>
              <a:buClr>
                <a:srgbClr val="092e5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2e5c"/>
                </a:solidFill>
                <a:latin typeface="Arial"/>
              </a:rPr>
              <a:t>Collections over time</a:t>
            </a: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  <a:p>
            <a:pPr lvl="1" marL="569880" indent="-222120">
              <a:spcBef>
                <a:spcPts val="601"/>
              </a:spcBef>
              <a:buClr>
                <a:srgbClr val="092e5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2e5c"/>
                </a:solidFill>
                <a:latin typeface="Arial"/>
              </a:rPr>
              <a:t>Arbitrary query areas</a:t>
            </a: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  <a:p>
            <a:pPr lvl="1" marL="569880" indent="-222120">
              <a:spcBef>
                <a:spcPts val="601"/>
              </a:spcBef>
              <a:buClr>
                <a:srgbClr val="092e5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2e5c"/>
                </a:solidFill>
                <a:latin typeface="Arial"/>
              </a:rPr>
              <a:t>High performance access</a:t>
            </a: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  <a:p>
            <a:pPr lvl="1" marL="569880" indent="-222120">
              <a:spcBef>
                <a:spcPts val="601"/>
              </a:spcBef>
              <a:buClr>
                <a:srgbClr val="092e5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2e5c"/>
                </a:solidFill>
                <a:latin typeface="Arial"/>
              </a:rPr>
              <a:t>Efficient transfer format/schema</a:t>
            </a: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  <a:p>
            <a:pPr lvl="1" marL="569880" indent="-222120">
              <a:spcBef>
                <a:spcPts val="601"/>
              </a:spcBef>
              <a:buClr>
                <a:srgbClr val="092e5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2e5c"/>
                </a:solidFill>
                <a:latin typeface="Arial"/>
              </a:rPr>
              <a:t>Efficient storage, backup, recovery</a:t>
            </a: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  <a:p>
            <a:pPr lvl="1" marL="569880" indent="-222120">
              <a:spcBef>
                <a:spcPts val="601"/>
              </a:spcBef>
              <a:buClr>
                <a:srgbClr val="092e5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2e5c"/>
                </a:solidFill>
                <a:latin typeface="Arial"/>
              </a:rPr>
              <a:t>Elastic deployment</a:t>
            </a: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grpSp>
        <p:nvGrpSpPr>
          <p:cNvPr id="146" name="Group 6"/>
          <p:cNvGrpSpPr/>
          <p:nvPr/>
        </p:nvGrpSpPr>
        <p:grpSpPr>
          <a:xfrm>
            <a:off x="6002280" y="1897200"/>
            <a:ext cx="1967040" cy="1617120"/>
            <a:chOff x="6002280" y="1897200"/>
            <a:chExt cx="1967040" cy="1617120"/>
          </a:xfrm>
        </p:grpSpPr>
        <p:grpSp>
          <p:nvGrpSpPr>
            <p:cNvPr id="147" name="Group 36"/>
            <p:cNvGrpSpPr/>
            <p:nvPr/>
          </p:nvGrpSpPr>
          <p:grpSpPr>
            <a:xfrm>
              <a:off x="6002280" y="2025720"/>
              <a:ext cx="982440" cy="712800"/>
              <a:chOff x="6002280" y="2025720"/>
              <a:chExt cx="982440" cy="712800"/>
            </a:xfrm>
          </p:grpSpPr>
          <p:sp>
            <p:nvSpPr>
              <p:cNvPr id="148" name="Freeform 38"/>
              <p:cNvSpPr/>
              <p:nvPr/>
            </p:nvSpPr>
            <p:spPr>
              <a:xfrm>
                <a:off x="6002280" y="2025720"/>
                <a:ext cx="982440" cy="712800"/>
              </a:xfrm>
              <a:custGeom>
                <a:avLst/>
                <a:gdLst/>
                <a:ahLst/>
                <a:rect l="l" t="t" r="r" b="b"/>
                <a:pathLst>
                  <a:path w="3158" h="2033">
                    <a:moveTo>
                      <a:pt x="1578" y="0"/>
                    </a:moveTo>
                    <a:lnTo>
                      <a:pt x="1603" y="1"/>
                    </a:lnTo>
                    <a:lnTo>
                      <a:pt x="1630" y="5"/>
                    </a:lnTo>
                    <a:lnTo>
                      <a:pt x="1659" y="11"/>
                    </a:lnTo>
                    <a:lnTo>
                      <a:pt x="1688" y="20"/>
                    </a:lnTo>
                    <a:lnTo>
                      <a:pt x="1718" y="36"/>
                    </a:lnTo>
                    <a:lnTo>
                      <a:pt x="3049" y="834"/>
                    </a:lnTo>
                    <a:lnTo>
                      <a:pt x="3081" y="857"/>
                    </a:lnTo>
                    <a:lnTo>
                      <a:pt x="3107" y="884"/>
                    </a:lnTo>
                    <a:lnTo>
                      <a:pt x="3129" y="914"/>
                    </a:lnTo>
                    <a:lnTo>
                      <a:pt x="3145" y="946"/>
                    </a:lnTo>
                    <a:lnTo>
                      <a:pt x="3154" y="981"/>
                    </a:lnTo>
                    <a:lnTo>
                      <a:pt x="3158" y="1018"/>
                    </a:lnTo>
                    <a:lnTo>
                      <a:pt x="3154" y="1053"/>
                    </a:lnTo>
                    <a:lnTo>
                      <a:pt x="3145" y="1088"/>
                    </a:lnTo>
                    <a:lnTo>
                      <a:pt x="3129" y="1121"/>
                    </a:lnTo>
                    <a:lnTo>
                      <a:pt x="3107" y="1150"/>
                    </a:lnTo>
                    <a:lnTo>
                      <a:pt x="3081" y="1176"/>
                    </a:lnTo>
                    <a:lnTo>
                      <a:pt x="3049" y="1199"/>
                    </a:lnTo>
                    <a:lnTo>
                      <a:pt x="1718" y="1998"/>
                    </a:lnTo>
                    <a:lnTo>
                      <a:pt x="1689" y="2013"/>
                    </a:lnTo>
                    <a:lnTo>
                      <a:pt x="1659" y="2024"/>
                    </a:lnTo>
                    <a:lnTo>
                      <a:pt x="1630" y="2030"/>
                    </a:lnTo>
                    <a:lnTo>
                      <a:pt x="1603" y="2033"/>
                    </a:lnTo>
                    <a:lnTo>
                      <a:pt x="1578" y="2033"/>
                    </a:lnTo>
                    <a:lnTo>
                      <a:pt x="1555" y="2033"/>
                    </a:lnTo>
                    <a:lnTo>
                      <a:pt x="1528" y="2030"/>
                    </a:lnTo>
                    <a:lnTo>
                      <a:pt x="1498" y="2024"/>
                    </a:lnTo>
                    <a:lnTo>
                      <a:pt x="1469" y="2013"/>
                    </a:lnTo>
                    <a:lnTo>
                      <a:pt x="1439" y="1997"/>
                    </a:lnTo>
                    <a:lnTo>
                      <a:pt x="109" y="1199"/>
                    </a:lnTo>
                    <a:lnTo>
                      <a:pt x="77" y="1176"/>
                    </a:lnTo>
                    <a:lnTo>
                      <a:pt x="50" y="1150"/>
                    </a:lnTo>
                    <a:lnTo>
                      <a:pt x="29" y="1119"/>
                    </a:lnTo>
                    <a:lnTo>
                      <a:pt x="13" y="1087"/>
                    </a:lnTo>
                    <a:lnTo>
                      <a:pt x="4" y="1052"/>
                    </a:lnTo>
                    <a:lnTo>
                      <a:pt x="0" y="1015"/>
                    </a:lnTo>
                    <a:lnTo>
                      <a:pt x="4" y="980"/>
                    </a:lnTo>
                    <a:lnTo>
                      <a:pt x="13" y="945"/>
                    </a:lnTo>
                    <a:lnTo>
                      <a:pt x="29" y="913"/>
                    </a:lnTo>
                    <a:lnTo>
                      <a:pt x="51" y="882"/>
                    </a:lnTo>
                    <a:lnTo>
                      <a:pt x="77" y="857"/>
                    </a:lnTo>
                    <a:lnTo>
                      <a:pt x="110" y="834"/>
                    </a:lnTo>
                    <a:lnTo>
                      <a:pt x="1440" y="36"/>
                    </a:lnTo>
                    <a:lnTo>
                      <a:pt x="1469" y="20"/>
                    </a:lnTo>
                    <a:lnTo>
                      <a:pt x="1499" y="11"/>
                    </a:lnTo>
                    <a:lnTo>
                      <a:pt x="1528" y="5"/>
                    </a:lnTo>
                    <a:lnTo>
                      <a:pt x="1555" y="1"/>
                    </a:lnTo>
                    <a:lnTo>
                      <a:pt x="1578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000" spc="-1" strike="noStrike">
                  <a:solidFill>
                    <a:srgbClr val="000000"/>
                  </a:solidFill>
                  <a:latin typeface="CG Times"/>
                </a:endParaRPr>
              </a:p>
            </p:txBody>
          </p:sp>
          <p:sp>
            <p:nvSpPr>
              <p:cNvPr id="149" name="Freeform 39"/>
              <p:cNvSpPr/>
              <p:nvPr/>
            </p:nvSpPr>
            <p:spPr>
              <a:xfrm>
                <a:off x="6051960" y="2081520"/>
                <a:ext cx="882720" cy="600840"/>
              </a:xfrm>
              <a:custGeom>
                <a:avLst/>
                <a:gdLst/>
                <a:ahLst/>
                <a:rect l="l" t="t" r="r" b="b"/>
                <a:pathLst>
                  <a:path w="2837" h="1715">
                    <a:moveTo>
                      <a:pt x="1417" y="0"/>
                    </a:moveTo>
                    <a:lnTo>
                      <a:pt x="1440" y="1"/>
                    </a:lnTo>
                    <a:lnTo>
                      <a:pt x="1459" y="6"/>
                    </a:lnTo>
                    <a:lnTo>
                      <a:pt x="1475" y="14"/>
                    </a:lnTo>
                    <a:lnTo>
                      <a:pt x="2806" y="812"/>
                    </a:lnTo>
                    <a:lnTo>
                      <a:pt x="2823" y="826"/>
                    </a:lnTo>
                    <a:lnTo>
                      <a:pt x="2834" y="842"/>
                    </a:lnTo>
                    <a:lnTo>
                      <a:pt x="2837" y="858"/>
                    </a:lnTo>
                    <a:lnTo>
                      <a:pt x="2834" y="874"/>
                    </a:lnTo>
                    <a:lnTo>
                      <a:pt x="2823" y="890"/>
                    </a:lnTo>
                    <a:lnTo>
                      <a:pt x="2806" y="903"/>
                    </a:lnTo>
                    <a:lnTo>
                      <a:pt x="1475" y="1703"/>
                    </a:lnTo>
                    <a:lnTo>
                      <a:pt x="1459" y="1710"/>
                    </a:lnTo>
                    <a:lnTo>
                      <a:pt x="1440" y="1714"/>
                    </a:lnTo>
                    <a:lnTo>
                      <a:pt x="1417" y="1715"/>
                    </a:lnTo>
                    <a:lnTo>
                      <a:pt x="1396" y="1714"/>
                    </a:lnTo>
                    <a:lnTo>
                      <a:pt x="1377" y="1710"/>
                    </a:lnTo>
                    <a:lnTo>
                      <a:pt x="1361" y="1703"/>
                    </a:lnTo>
                    <a:lnTo>
                      <a:pt x="30" y="903"/>
                    </a:lnTo>
                    <a:lnTo>
                      <a:pt x="14" y="891"/>
                    </a:lnTo>
                    <a:lnTo>
                      <a:pt x="5" y="878"/>
                    </a:lnTo>
                    <a:lnTo>
                      <a:pt x="0" y="865"/>
                    </a:lnTo>
                    <a:lnTo>
                      <a:pt x="0" y="850"/>
                    </a:lnTo>
                    <a:lnTo>
                      <a:pt x="5" y="837"/>
                    </a:lnTo>
                    <a:lnTo>
                      <a:pt x="14" y="824"/>
                    </a:lnTo>
                    <a:lnTo>
                      <a:pt x="30" y="812"/>
                    </a:lnTo>
                    <a:lnTo>
                      <a:pt x="1361" y="14"/>
                    </a:lnTo>
                    <a:lnTo>
                      <a:pt x="1377" y="6"/>
                    </a:lnTo>
                    <a:lnTo>
                      <a:pt x="1396" y="1"/>
                    </a:lnTo>
                    <a:lnTo>
                      <a:pt x="1417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000" spc="-1" strike="noStrike">
                  <a:solidFill>
                    <a:srgbClr val="000000"/>
                  </a:solidFill>
                  <a:latin typeface="CG Times"/>
                </a:endParaRPr>
              </a:p>
            </p:txBody>
          </p:sp>
          <p:sp>
            <p:nvSpPr>
              <p:cNvPr id="150" name="Freeform 40"/>
              <p:cNvSpPr/>
              <p:nvPr/>
            </p:nvSpPr>
            <p:spPr>
              <a:xfrm>
                <a:off x="6188400" y="2181240"/>
                <a:ext cx="295200" cy="299520"/>
              </a:xfrm>
              <a:custGeom>
                <a:avLst/>
                <a:gdLst/>
                <a:ahLst/>
                <a:rect l="l" t="t" r="r" b="b"/>
                <a:pathLst>
                  <a:path w="954" h="856">
                    <a:moveTo>
                      <a:pt x="224" y="575"/>
                    </a:moveTo>
                    <a:lnTo>
                      <a:pt x="468" y="721"/>
                    </a:lnTo>
                    <a:lnTo>
                      <a:pt x="243" y="856"/>
                    </a:lnTo>
                    <a:lnTo>
                      <a:pt x="0" y="710"/>
                    </a:lnTo>
                    <a:lnTo>
                      <a:pt x="224" y="575"/>
                    </a:lnTo>
                    <a:close/>
                    <a:moveTo>
                      <a:pt x="711" y="282"/>
                    </a:moveTo>
                    <a:lnTo>
                      <a:pt x="954" y="428"/>
                    </a:lnTo>
                    <a:lnTo>
                      <a:pt x="711" y="575"/>
                    </a:lnTo>
                    <a:lnTo>
                      <a:pt x="468" y="428"/>
                    </a:lnTo>
                    <a:lnTo>
                      <a:pt x="711" y="282"/>
                    </a:lnTo>
                    <a:close/>
                    <a:moveTo>
                      <a:pt x="729" y="0"/>
                    </a:moveTo>
                    <a:lnTo>
                      <a:pt x="954" y="136"/>
                    </a:lnTo>
                    <a:lnTo>
                      <a:pt x="711" y="282"/>
                    </a:lnTo>
                    <a:lnTo>
                      <a:pt x="486" y="147"/>
                    </a:lnTo>
                    <a:lnTo>
                      <a:pt x="729" y="0"/>
                    </a:lnTo>
                    <a:close/>
                  </a:path>
                </a:pathLst>
              </a:custGeom>
              <a:solidFill>
                <a:srgbClr val="ddec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000" spc="-1" strike="noStrike">
                  <a:solidFill>
                    <a:srgbClr val="000000"/>
                  </a:solidFill>
                  <a:latin typeface="CG Times"/>
                </a:endParaRPr>
              </a:p>
            </p:txBody>
          </p:sp>
          <p:sp>
            <p:nvSpPr>
              <p:cNvPr id="151" name="Freeform 41"/>
              <p:cNvSpPr/>
              <p:nvPr/>
            </p:nvSpPr>
            <p:spPr>
              <a:xfrm>
                <a:off x="6256800" y="2278080"/>
                <a:ext cx="533160" cy="155520"/>
              </a:xfrm>
              <a:custGeom>
                <a:avLst/>
                <a:gdLst/>
                <a:ahLst/>
                <a:rect l="l" t="t" r="r" b="b"/>
                <a:pathLst>
                  <a:path w="1713" h="444">
                    <a:moveTo>
                      <a:pt x="244" y="151"/>
                    </a:moveTo>
                    <a:lnTo>
                      <a:pt x="487" y="298"/>
                    </a:lnTo>
                    <a:lnTo>
                      <a:pt x="244" y="444"/>
                    </a:lnTo>
                    <a:lnTo>
                      <a:pt x="0" y="298"/>
                    </a:lnTo>
                    <a:lnTo>
                      <a:pt x="244" y="151"/>
                    </a:lnTo>
                    <a:close/>
                    <a:moveTo>
                      <a:pt x="974" y="5"/>
                    </a:moveTo>
                    <a:lnTo>
                      <a:pt x="1217" y="151"/>
                    </a:lnTo>
                    <a:lnTo>
                      <a:pt x="974" y="298"/>
                    </a:lnTo>
                    <a:lnTo>
                      <a:pt x="730" y="151"/>
                    </a:lnTo>
                    <a:lnTo>
                      <a:pt x="974" y="5"/>
                    </a:lnTo>
                    <a:close/>
                    <a:moveTo>
                      <a:pt x="1469" y="0"/>
                    </a:moveTo>
                    <a:lnTo>
                      <a:pt x="1713" y="146"/>
                    </a:lnTo>
                    <a:lnTo>
                      <a:pt x="1460" y="298"/>
                    </a:lnTo>
                    <a:lnTo>
                      <a:pt x="1217" y="151"/>
                    </a:lnTo>
                    <a:lnTo>
                      <a:pt x="1469" y="0"/>
                    </a:lnTo>
                    <a:close/>
                  </a:path>
                </a:pathLst>
              </a:custGeom>
              <a:solidFill>
                <a:srgbClr val="ff863d"/>
              </a:solidFill>
              <a:ln w="0">
                <a:solidFill>
                  <a:srgbClr val="ff863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000" spc="-1" strike="noStrike">
                  <a:solidFill>
                    <a:srgbClr val="000000"/>
                  </a:solidFill>
                  <a:latin typeface="CG Times"/>
                </a:endParaRPr>
              </a:p>
            </p:txBody>
          </p:sp>
          <p:sp>
            <p:nvSpPr>
              <p:cNvPr id="152" name="Freeform 42"/>
              <p:cNvSpPr/>
              <p:nvPr/>
            </p:nvSpPr>
            <p:spPr>
              <a:xfrm>
                <a:off x="6188400" y="2174040"/>
                <a:ext cx="678960" cy="261000"/>
              </a:xfrm>
              <a:custGeom>
                <a:avLst/>
                <a:gdLst/>
                <a:ahLst/>
                <a:rect l="l" t="t" r="r" b="b"/>
                <a:pathLst>
                  <a:path w="2189" h="744">
                    <a:moveTo>
                      <a:pt x="1937" y="440"/>
                    </a:moveTo>
                    <a:lnTo>
                      <a:pt x="2189" y="592"/>
                    </a:lnTo>
                    <a:lnTo>
                      <a:pt x="1937" y="744"/>
                    </a:lnTo>
                    <a:lnTo>
                      <a:pt x="1684" y="592"/>
                    </a:lnTo>
                    <a:lnTo>
                      <a:pt x="1937" y="440"/>
                    </a:lnTo>
                    <a:close/>
                    <a:moveTo>
                      <a:pt x="486" y="164"/>
                    </a:moveTo>
                    <a:lnTo>
                      <a:pt x="711" y="299"/>
                    </a:lnTo>
                    <a:lnTo>
                      <a:pt x="224" y="592"/>
                    </a:lnTo>
                    <a:lnTo>
                      <a:pt x="0" y="457"/>
                    </a:lnTo>
                    <a:lnTo>
                      <a:pt x="486" y="164"/>
                    </a:lnTo>
                    <a:close/>
                    <a:moveTo>
                      <a:pt x="1207" y="0"/>
                    </a:moveTo>
                    <a:lnTo>
                      <a:pt x="1450" y="147"/>
                    </a:lnTo>
                    <a:lnTo>
                      <a:pt x="954" y="445"/>
                    </a:lnTo>
                    <a:lnTo>
                      <a:pt x="711" y="299"/>
                    </a:lnTo>
                    <a:lnTo>
                      <a:pt x="1207" y="0"/>
                    </a:lnTo>
                    <a:close/>
                  </a:path>
                </a:pathLst>
              </a:custGeom>
              <a:solidFill>
                <a:srgbClr val="f7c23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000" spc="-1" strike="noStrike">
                  <a:solidFill>
                    <a:srgbClr val="000000"/>
                  </a:solidFill>
                  <a:latin typeface="CG Times"/>
                </a:endParaRPr>
              </a:p>
            </p:txBody>
          </p:sp>
          <p:sp>
            <p:nvSpPr>
              <p:cNvPr id="153" name="Freeform 43"/>
              <p:cNvSpPr/>
              <p:nvPr/>
            </p:nvSpPr>
            <p:spPr>
              <a:xfrm>
                <a:off x="6263280" y="2330280"/>
                <a:ext cx="447480" cy="201240"/>
              </a:xfrm>
              <a:custGeom>
                <a:avLst/>
                <a:gdLst/>
                <a:ahLst/>
                <a:rect l="l" t="t" r="r" b="b"/>
                <a:pathLst>
                  <a:path w="1441" h="575">
                    <a:moveTo>
                      <a:pt x="225" y="293"/>
                    </a:moveTo>
                    <a:lnTo>
                      <a:pt x="468" y="440"/>
                    </a:lnTo>
                    <a:lnTo>
                      <a:pt x="243" y="575"/>
                    </a:lnTo>
                    <a:lnTo>
                      <a:pt x="0" y="428"/>
                    </a:lnTo>
                    <a:lnTo>
                      <a:pt x="225" y="293"/>
                    </a:lnTo>
                    <a:close/>
                    <a:moveTo>
                      <a:pt x="1198" y="0"/>
                    </a:moveTo>
                    <a:lnTo>
                      <a:pt x="1441" y="147"/>
                    </a:lnTo>
                    <a:lnTo>
                      <a:pt x="1198" y="293"/>
                    </a:lnTo>
                    <a:lnTo>
                      <a:pt x="955" y="147"/>
                    </a:lnTo>
                    <a:lnTo>
                      <a:pt x="1198" y="0"/>
                    </a:lnTo>
                    <a:close/>
                  </a:path>
                </a:pathLst>
              </a:custGeom>
              <a:solidFill>
                <a:srgbClr val="a5fffb"/>
              </a:solidFill>
              <a:ln w="0">
                <a:solidFill>
                  <a:srgbClr val="a5fff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000" spc="-1" strike="noStrike">
                  <a:solidFill>
                    <a:srgbClr val="000000"/>
                  </a:solidFill>
                  <a:latin typeface="CG Times"/>
                </a:endParaRPr>
              </a:p>
            </p:txBody>
          </p:sp>
          <p:sp>
            <p:nvSpPr>
              <p:cNvPr id="154" name="Freeform 44"/>
              <p:cNvSpPr/>
              <p:nvPr/>
            </p:nvSpPr>
            <p:spPr>
              <a:xfrm>
                <a:off x="6333120" y="2382840"/>
                <a:ext cx="457200" cy="207000"/>
              </a:xfrm>
              <a:custGeom>
                <a:avLst/>
                <a:gdLst/>
                <a:ahLst/>
                <a:rect l="l" t="t" r="r" b="b"/>
                <a:pathLst>
                  <a:path w="1469" h="591">
                    <a:moveTo>
                      <a:pt x="730" y="293"/>
                    </a:moveTo>
                    <a:lnTo>
                      <a:pt x="982" y="444"/>
                    </a:lnTo>
                    <a:lnTo>
                      <a:pt x="739" y="591"/>
                    </a:lnTo>
                    <a:lnTo>
                      <a:pt x="486" y="440"/>
                    </a:lnTo>
                    <a:lnTo>
                      <a:pt x="730" y="293"/>
                    </a:lnTo>
                    <a:close/>
                    <a:moveTo>
                      <a:pt x="243" y="293"/>
                    </a:moveTo>
                    <a:lnTo>
                      <a:pt x="486" y="440"/>
                    </a:lnTo>
                    <a:lnTo>
                      <a:pt x="261" y="575"/>
                    </a:lnTo>
                    <a:lnTo>
                      <a:pt x="18" y="428"/>
                    </a:lnTo>
                    <a:lnTo>
                      <a:pt x="243" y="293"/>
                    </a:lnTo>
                    <a:close/>
                    <a:moveTo>
                      <a:pt x="1216" y="0"/>
                    </a:moveTo>
                    <a:lnTo>
                      <a:pt x="1469" y="152"/>
                    </a:lnTo>
                    <a:lnTo>
                      <a:pt x="1225" y="298"/>
                    </a:lnTo>
                    <a:lnTo>
                      <a:pt x="973" y="146"/>
                    </a:lnTo>
                    <a:lnTo>
                      <a:pt x="1216" y="0"/>
                    </a:lnTo>
                    <a:close/>
                    <a:moveTo>
                      <a:pt x="730" y="0"/>
                    </a:moveTo>
                    <a:lnTo>
                      <a:pt x="973" y="146"/>
                    </a:lnTo>
                    <a:lnTo>
                      <a:pt x="730" y="293"/>
                    </a:lnTo>
                    <a:lnTo>
                      <a:pt x="486" y="146"/>
                    </a:lnTo>
                    <a:lnTo>
                      <a:pt x="730" y="0"/>
                    </a:lnTo>
                    <a:close/>
                    <a:moveTo>
                      <a:pt x="243" y="0"/>
                    </a:moveTo>
                    <a:lnTo>
                      <a:pt x="486" y="146"/>
                    </a:lnTo>
                    <a:lnTo>
                      <a:pt x="243" y="293"/>
                    </a:lnTo>
                    <a:lnTo>
                      <a:pt x="0" y="146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b9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000" spc="-1" strike="noStrike">
                  <a:solidFill>
                    <a:srgbClr val="000000"/>
                  </a:solidFill>
                  <a:latin typeface="CG Times"/>
                </a:endParaRPr>
              </a:p>
            </p:txBody>
          </p:sp>
          <p:sp>
            <p:nvSpPr>
              <p:cNvPr id="155" name="Freeform 45"/>
              <p:cNvSpPr/>
              <p:nvPr/>
            </p:nvSpPr>
            <p:spPr>
              <a:xfrm>
                <a:off x="6409080" y="2433600"/>
                <a:ext cx="304920" cy="203400"/>
              </a:xfrm>
              <a:custGeom>
                <a:avLst/>
                <a:gdLst/>
                <a:ahLst/>
                <a:rect l="l" t="t" r="r" b="b"/>
                <a:pathLst>
                  <a:path w="982" h="580">
                    <a:moveTo>
                      <a:pt x="243" y="294"/>
                    </a:moveTo>
                    <a:lnTo>
                      <a:pt x="496" y="445"/>
                    </a:lnTo>
                    <a:lnTo>
                      <a:pt x="270" y="580"/>
                    </a:lnTo>
                    <a:lnTo>
                      <a:pt x="18" y="429"/>
                    </a:lnTo>
                    <a:lnTo>
                      <a:pt x="243" y="294"/>
                    </a:lnTo>
                    <a:close/>
                    <a:moveTo>
                      <a:pt x="730" y="0"/>
                    </a:moveTo>
                    <a:lnTo>
                      <a:pt x="982" y="152"/>
                    </a:lnTo>
                    <a:lnTo>
                      <a:pt x="739" y="298"/>
                    </a:lnTo>
                    <a:lnTo>
                      <a:pt x="487" y="147"/>
                    </a:lnTo>
                    <a:lnTo>
                      <a:pt x="730" y="0"/>
                    </a:lnTo>
                    <a:close/>
                    <a:moveTo>
                      <a:pt x="243" y="0"/>
                    </a:moveTo>
                    <a:lnTo>
                      <a:pt x="487" y="147"/>
                    </a:lnTo>
                    <a:lnTo>
                      <a:pt x="243" y="294"/>
                    </a:lnTo>
                    <a:lnTo>
                      <a:pt x="0" y="147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2271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000" spc="-1" strike="noStrike">
                  <a:solidFill>
                    <a:srgbClr val="000000"/>
                  </a:solidFill>
                  <a:latin typeface="CG Times"/>
                </a:endParaRPr>
              </a:p>
            </p:txBody>
          </p:sp>
          <p:sp>
            <p:nvSpPr>
              <p:cNvPr id="156" name="Freeform 46"/>
              <p:cNvSpPr/>
              <p:nvPr/>
            </p:nvSpPr>
            <p:spPr>
              <a:xfrm>
                <a:off x="6118920" y="2129040"/>
                <a:ext cx="595080" cy="304560"/>
              </a:xfrm>
              <a:custGeom>
                <a:avLst/>
                <a:gdLst/>
                <a:ahLst/>
                <a:rect l="l" t="t" r="r" b="b"/>
                <a:pathLst>
                  <a:path w="1918" h="872">
                    <a:moveTo>
                      <a:pt x="225" y="591"/>
                    </a:moveTo>
                    <a:lnTo>
                      <a:pt x="449" y="726"/>
                    </a:lnTo>
                    <a:lnTo>
                      <a:pt x="225" y="861"/>
                    </a:lnTo>
                    <a:lnTo>
                      <a:pt x="0" y="726"/>
                    </a:lnTo>
                    <a:lnTo>
                      <a:pt x="225" y="591"/>
                    </a:lnTo>
                    <a:close/>
                    <a:moveTo>
                      <a:pt x="1179" y="579"/>
                    </a:moveTo>
                    <a:lnTo>
                      <a:pt x="1423" y="726"/>
                    </a:lnTo>
                    <a:lnTo>
                      <a:pt x="1179" y="872"/>
                    </a:lnTo>
                    <a:lnTo>
                      <a:pt x="936" y="726"/>
                    </a:lnTo>
                    <a:lnTo>
                      <a:pt x="1179" y="579"/>
                    </a:lnTo>
                    <a:close/>
                    <a:moveTo>
                      <a:pt x="1675" y="281"/>
                    </a:moveTo>
                    <a:lnTo>
                      <a:pt x="1918" y="428"/>
                    </a:lnTo>
                    <a:lnTo>
                      <a:pt x="1666" y="579"/>
                    </a:lnTo>
                    <a:lnTo>
                      <a:pt x="1423" y="433"/>
                    </a:lnTo>
                    <a:lnTo>
                      <a:pt x="1675" y="281"/>
                    </a:lnTo>
                    <a:close/>
                    <a:moveTo>
                      <a:pt x="1206" y="0"/>
                    </a:moveTo>
                    <a:lnTo>
                      <a:pt x="1432" y="134"/>
                    </a:lnTo>
                    <a:lnTo>
                      <a:pt x="1179" y="287"/>
                    </a:lnTo>
                    <a:lnTo>
                      <a:pt x="954" y="151"/>
                    </a:lnTo>
                    <a:lnTo>
                      <a:pt x="1206" y="0"/>
                    </a:lnTo>
                    <a:close/>
                  </a:path>
                </a:pathLst>
              </a:custGeom>
              <a:solidFill>
                <a:srgbClr val="aad0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000" spc="-1" strike="noStrike">
                  <a:solidFill>
                    <a:srgbClr val="000000"/>
                  </a:solidFill>
                  <a:latin typeface="CG Times"/>
                </a:endParaRPr>
              </a:p>
            </p:txBody>
          </p:sp>
        </p:grpSp>
        <p:grpSp>
          <p:nvGrpSpPr>
            <p:cNvPr id="157" name="Group 36"/>
            <p:cNvGrpSpPr/>
            <p:nvPr/>
          </p:nvGrpSpPr>
          <p:grpSpPr>
            <a:xfrm>
              <a:off x="6472800" y="2025720"/>
              <a:ext cx="982440" cy="712800"/>
              <a:chOff x="6472800" y="2025720"/>
              <a:chExt cx="982440" cy="712800"/>
            </a:xfrm>
          </p:grpSpPr>
          <p:sp>
            <p:nvSpPr>
              <p:cNvPr id="158" name="Freeform 38"/>
              <p:cNvSpPr/>
              <p:nvPr/>
            </p:nvSpPr>
            <p:spPr>
              <a:xfrm>
                <a:off x="6472800" y="2025720"/>
                <a:ext cx="982440" cy="712800"/>
              </a:xfrm>
              <a:custGeom>
                <a:avLst/>
                <a:gdLst/>
                <a:ahLst/>
                <a:rect l="l" t="t" r="r" b="b"/>
                <a:pathLst>
                  <a:path w="3158" h="2033">
                    <a:moveTo>
                      <a:pt x="1578" y="0"/>
                    </a:moveTo>
                    <a:lnTo>
                      <a:pt x="1603" y="1"/>
                    </a:lnTo>
                    <a:lnTo>
                      <a:pt x="1630" y="5"/>
                    </a:lnTo>
                    <a:lnTo>
                      <a:pt x="1659" y="11"/>
                    </a:lnTo>
                    <a:lnTo>
                      <a:pt x="1688" y="20"/>
                    </a:lnTo>
                    <a:lnTo>
                      <a:pt x="1718" y="36"/>
                    </a:lnTo>
                    <a:lnTo>
                      <a:pt x="3049" y="834"/>
                    </a:lnTo>
                    <a:lnTo>
                      <a:pt x="3081" y="857"/>
                    </a:lnTo>
                    <a:lnTo>
                      <a:pt x="3107" y="884"/>
                    </a:lnTo>
                    <a:lnTo>
                      <a:pt x="3129" y="914"/>
                    </a:lnTo>
                    <a:lnTo>
                      <a:pt x="3145" y="946"/>
                    </a:lnTo>
                    <a:lnTo>
                      <a:pt x="3154" y="981"/>
                    </a:lnTo>
                    <a:lnTo>
                      <a:pt x="3158" y="1018"/>
                    </a:lnTo>
                    <a:lnTo>
                      <a:pt x="3154" y="1053"/>
                    </a:lnTo>
                    <a:lnTo>
                      <a:pt x="3145" y="1088"/>
                    </a:lnTo>
                    <a:lnTo>
                      <a:pt x="3129" y="1121"/>
                    </a:lnTo>
                    <a:lnTo>
                      <a:pt x="3107" y="1150"/>
                    </a:lnTo>
                    <a:lnTo>
                      <a:pt x="3081" y="1176"/>
                    </a:lnTo>
                    <a:lnTo>
                      <a:pt x="3049" y="1199"/>
                    </a:lnTo>
                    <a:lnTo>
                      <a:pt x="1718" y="1998"/>
                    </a:lnTo>
                    <a:lnTo>
                      <a:pt x="1689" y="2013"/>
                    </a:lnTo>
                    <a:lnTo>
                      <a:pt x="1659" y="2024"/>
                    </a:lnTo>
                    <a:lnTo>
                      <a:pt x="1630" y="2030"/>
                    </a:lnTo>
                    <a:lnTo>
                      <a:pt x="1603" y="2033"/>
                    </a:lnTo>
                    <a:lnTo>
                      <a:pt x="1578" y="2033"/>
                    </a:lnTo>
                    <a:lnTo>
                      <a:pt x="1555" y="2033"/>
                    </a:lnTo>
                    <a:lnTo>
                      <a:pt x="1528" y="2030"/>
                    </a:lnTo>
                    <a:lnTo>
                      <a:pt x="1498" y="2024"/>
                    </a:lnTo>
                    <a:lnTo>
                      <a:pt x="1469" y="2013"/>
                    </a:lnTo>
                    <a:lnTo>
                      <a:pt x="1439" y="1997"/>
                    </a:lnTo>
                    <a:lnTo>
                      <a:pt x="109" y="1199"/>
                    </a:lnTo>
                    <a:lnTo>
                      <a:pt x="77" y="1176"/>
                    </a:lnTo>
                    <a:lnTo>
                      <a:pt x="50" y="1150"/>
                    </a:lnTo>
                    <a:lnTo>
                      <a:pt x="29" y="1119"/>
                    </a:lnTo>
                    <a:lnTo>
                      <a:pt x="13" y="1087"/>
                    </a:lnTo>
                    <a:lnTo>
                      <a:pt x="4" y="1052"/>
                    </a:lnTo>
                    <a:lnTo>
                      <a:pt x="0" y="1015"/>
                    </a:lnTo>
                    <a:lnTo>
                      <a:pt x="4" y="980"/>
                    </a:lnTo>
                    <a:lnTo>
                      <a:pt x="13" y="945"/>
                    </a:lnTo>
                    <a:lnTo>
                      <a:pt x="29" y="913"/>
                    </a:lnTo>
                    <a:lnTo>
                      <a:pt x="51" y="882"/>
                    </a:lnTo>
                    <a:lnTo>
                      <a:pt x="77" y="857"/>
                    </a:lnTo>
                    <a:lnTo>
                      <a:pt x="110" y="834"/>
                    </a:lnTo>
                    <a:lnTo>
                      <a:pt x="1440" y="36"/>
                    </a:lnTo>
                    <a:lnTo>
                      <a:pt x="1469" y="20"/>
                    </a:lnTo>
                    <a:lnTo>
                      <a:pt x="1499" y="11"/>
                    </a:lnTo>
                    <a:lnTo>
                      <a:pt x="1528" y="5"/>
                    </a:lnTo>
                    <a:lnTo>
                      <a:pt x="1555" y="1"/>
                    </a:lnTo>
                    <a:lnTo>
                      <a:pt x="1578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000" spc="-1" strike="noStrike">
                  <a:solidFill>
                    <a:srgbClr val="000000"/>
                  </a:solidFill>
                  <a:latin typeface="CG Times"/>
                </a:endParaRPr>
              </a:p>
            </p:txBody>
          </p:sp>
          <p:sp>
            <p:nvSpPr>
              <p:cNvPr id="159" name="Freeform 39"/>
              <p:cNvSpPr/>
              <p:nvPr/>
            </p:nvSpPr>
            <p:spPr>
              <a:xfrm>
                <a:off x="6522480" y="2081520"/>
                <a:ext cx="882720" cy="600840"/>
              </a:xfrm>
              <a:custGeom>
                <a:avLst/>
                <a:gdLst/>
                <a:ahLst/>
                <a:rect l="l" t="t" r="r" b="b"/>
                <a:pathLst>
                  <a:path w="2837" h="1715">
                    <a:moveTo>
                      <a:pt x="1417" y="0"/>
                    </a:moveTo>
                    <a:lnTo>
                      <a:pt x="1440" y="1"/>
                    </a:lnTo>
                    <a:lnTo>
                      <a:pt x="1459" y="6"/>
                    </a:lnTo>
                    <a:lnTo>
                      <a:pt x="1475" y="14"/>
                    </a:lnTo>
                    <a:lnTo>
                      <a:pt x="2806" y="812"/>
                    </a:lnTo>
                    <a:lnTo>
                      <a:pt x="2823" y="826"/>
                    </a:lnTo>
                    <a:lnTo>
                      <a:pt x="2834" y="842"/>
                    </a:lnTo>
                    <a:lnTo>
                      <a:pt x="2837" y="858"/>
                    </a:lnTo>
                    <a:lnTo>
                      <a:pt x="2834" y="874"/>
                    </a:lnTo>
                    <a:lnTo>
                      <a:pt x="2823" y="890"/>
                    </a:lnTo>
                    <a:lnTo>
                      <a:pt x="2806" y="903"/>
                    </a:lnTo>
                    <a:lnTo>
                      <a:pt x="1475" y="1703"/>
                    </a:lnTo>
                    <a:lnTo>
                      <a:pt x="1459" y="1710"/>
                    </a:lnTo>
                    <a:lnTo>
                      <a:pt x="1440" y="1714"/>
                    </a:lnTo>
                    <a:lnTo>
                      <a:pt x="1417" y="1715"/>
                    </a:lnTo>
                    <a:lnTo>
                      <a:pt x="1396" y="1714"/>
                    </a:lnTo>
                    <a:lnTo>
                      <a:pt x="1377" y="1710"/>
                    </a:lnTo>
                    <a:lnTo>
                      <a:pt x="1361" y="1703"/>
                    </a:lnTo>
                    <a:lnTo>
                      <a:pt x="30" y="903"/>
                    </a:lnTo>
                    <a:lnTo>
                      <a:pt x="14" y="891"/>
                    </a:lnTo>
                    <a:lnTo>
                      <a:pt x="5" y="878"/>
                    </a:lnTo>
                    <a:lnTo>
                      <a:pt x="0" y="865"/>
                    </a:lnTo>
                    <a:lnTo>
                      <a:pt x="0" y="850"/>
                    </a:lnTo>
                    <a:lnTo>
                      <a:pt x="5" y="837"/>
                    </a:lnTo>
                    <a:lnTo>
                      <a:pt x="14" y="824"/>
                    </a:lnTo>
                    <a:lnTo>
                      <a:pt x="30" y="812"/>
                    </a:lnTo>
                    <a:lnTo>
                      <a:pt x="1361" y="14"/>
                    </a:lnTo>
                    <a:lnTo>
                      <a:pt x="1377" y="6"/>
                    </a:lnTo>
                    <a:lnTo>
                      <a:pt x="1396" y="1"/>
                    </a:lnTo>
                    <a:lnTo>
                      <a:pt x="1417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000" spc="-1" strike="noStrike">
                  <a:solidFill>
                    <a:srgbClr val="000000"/>
                  </a:solidFill>
                  <a:latin typeface="CG Times"/>
                </a:endParaRPr>
              </a:p>
            </p:txBody>
          </p:sp>
          <p:sp>
            <p:nvSpPr>
              <p:cNvPr id="160" name="Freeform 40"/>
              <p:cNvSpPr/>
              <p:nvPr/>
            </p:nvSpPr>
            <p:spPr>
              <a:xfrm>
                <a:off x="6658920" y="2181240"/>
                <a:ext cx="295200" cy="299520"/>
              </a:xfrm>
              <a:custGeom>
                <a:avLst/>
                <a:gdLst/>
                <a:ahLst/>
                <a:rect l="l" t="t" r="r" b="b"/>
                <a:pathLst>
                  <a:path w="954" h="856">
                    <a:moveTo>
                      <a:pt x="224" y="575"/>
                    </a:moveTo>
                    <a:lnTo>
                      <a:pt x="468" y="721"/>
                    </a:lnTo>
                    <a:lnTo>
                      <a:pt x="243" y="856"/>
                    </a:lnTo>
                    <a:lnTo>
                      <a:pt x="0" y="710"/>
                    </a:lnTo>
                    <a:lnTo>
                      <a:pt x="224" y="575"/>
                    </a:lnTo>
                    <a:close/>
                    <a:moveTo>
                      <a:pt x="711" y="282"/>
                    </a:moveTo>
                    <a:lnTo>
                      <a:pt x="954" y="428"/>
                    </a:lnTo>
                    <a:lnTo>
                      <a:pt x="711" y="575"/>
                    </a:lnTo>
                    <a:lnTo>
                      <a:pt x="468" y="428"/>
                    </a:lnTo>
                    <a:lnTo>
                      <a:pt x="711" y="282"/>
                    </a:lnTo>
                    <a:close/>
                    <a:moveTo>
                      <a:pt x="729" y="0"/>
                    </a:moveTo>
                    <a:lnTo>
                      <a:pt x="954" y="136"/>
                    </a:lnTo>
                    <a:lnTo>
                      <a:pt x="711" y="282"/>
                    </a:lnTo>
                    <a:lnTo>
                      <a:pt x="486" y="147"/>
                    </a:lnTo>
                    <a:lnTo>
                      <a:pt x="729" y="0"/>
                    </a:lnTo>
                    <a:close/>
                  </a:path>
                </a:pathLst>
              </a:custGeom>
              <a:solidFill>
                <a:srgbClr val="ddec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000" spc="-1" strike="noStrike">
                  <a:solidFill>
                    <a:srgbClr val="000000"/>
                  </a:solidFill>
                  <a:latin typeface="CG Times"/>
                </a:endParaRPr>
              </a:p>
            </p:txBody>
          </p:sp>
          <p:sp>
            <p:nvSpPr>
              <p:cNvPr id="161" name="Freeform 41"/>
              <p:cNvSpPr/>
              <p:nvPr/>
            </p:nvSpPr>
            <p:spPr>
              <a:xfrm>
                <a:off x="6727320" y="2278080"/>
                <a:ext cx="533160" cy="155520"/>
              </a:xfrm>
              <a:custGeom>
                <a:avLst/>
                <a:gdLst/>
                <a:ahLst/>
                <a:rect l="l" t="t" r="r" b="b"/>
                <a:pathLst>
                  <a:path w="1713" h="444">
                    <a:moveTo>
                      <a:pt x="244" y="151"/>
                    </a:moveTo>
                    <a:lnTo>
                      <a:pt x="487" y="298"/>
                    </a:lnTo>
                    <a:lnTo>
                      <a:pt x="244" y="444"/>
                    </a:lnTo>
                    <a:lnTo>
                      <a:pt x="0" y="298"/>
                    </a:lnTo>
                    <a:lnTo>
                      <a:pt x="244" y="151"/>
                    </a:lnTo>
                    <a:close/>
                    <a:moveTo>
                      <a:pt x="974" y="5"/>
                    </a:moveTo>
                    <a:lnTo>
                      <a:pt x="1217" y="151"/>
                    </a:lnTo>
                    <a:lnTo>
                      <a:pt x="974" y="298"/>
                    </a:lnTo>
                    <a:lnTo>
                      <a:pt x="730" y="151"/>
                    </a:lnTo>
                    <a:lnTo>
                      <a:pt x="974" y="5"/>
                    </a:lnTo>
                    <a:close/>
                    <a:moveTo>
                      <a:pt x="1469" y="0"/>
                    </a:moveTo>
                    <a:lnTo>
                      <a:pt x="1713" y="146"/>
                    </a:lnTo>
                    <a:lnTo>
                      <a:pt x="1460" y="298"/>
                    </a:lnTo>
                    <a:lnTo>
                      <a:pt x="1217" y="151"/>
                    </a:lnTo>
                    <a:lnTo>
                      <a:pt x="1469" y="0"/>
                    </a:lnTo>
                    <a:close/>
                  </a:path>
                </a:pathLst>
              </a:custGeom>
              <a:solidFill>
                <a:srgbClr val="ff863d"/>
              </a:solidFill>
              <a:ln w="0">
                <a:solidFill>
                  <a:srgbClr val="ff863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000" spc="-1" strike="noStrike">
                  <a:solidFill>
                    <a:srgbClr val="000000"/>
                  </a:solidFill>
                  <a:latin typeface="CG Times"/>
                </a:endParaRPr>
              </a:p>
            </p:txBody>
          </p:sp>
          <p:sp>
            <p:nvSpPr>
              <p:cNvPr id="162" name="Freeform 42"/>
              <p:cNvSpPr/>
              <p:nvPr/>
            </p:nvSpPr>
            <p:spPr>
              <a:xfrm>
                <a:off x="6658920" y="2174040"/>
                <a:ext cx="678960" cy="261000"/>
              </a:xfrm>
              <a:custGeom>
                <a:avLst/>
                <a:gdLst/>
                <a:ahLst/>
                <a:rect l="l" t="t" r="r" b="b"/>
                <a:pathLst>
                  <a:path w="2189" h="744">
                    <a:moveTo>
                      <a:pt x="1937" y="440"/>
                    </a:moveTo>
                    <a:lnTo>
                      <a:pt x="2189" y="592"/>
                    </a:lnTo>
                    <a:lnTo>
                      <a:pt x="1937" y="744"/>
                    </a:lnTo>
                    <a:lnTo>
                      <a:pt x="1684" y="592"/>
                    </a:lnTo>
                    <a:lnTo>
                      <a:pt x="1937" y="440"/>
                    </a:lnTo>
                    <a:close/>
                    <a:moveTo>
                      <a:pt x="486" y="164"/>
                    </a:moveTo>
                    <a:lnTo>
                      <a:pt x="711" y="299"/>
                    </a:lnTo>
                    <a:lnTo>
                      <a:pt x="224" y="592"/>
                    </a:lnTo>
                    <a:lnTo>
                      <a:pt x="0" y="457"/>
                    </a:lnTo>
                    <a:lnTo>
                      <a:pt x="486" y="164"/>
                    </a:lnTo>
                    <a:close/>
                    <a:moveTo>
                      <a:pt x="1207" y="0"/>
                    </a:moveTo>
                    <a:lnTo>
                      <a:pt x="1450" y="147"/>
                    </a:lnTo>
                    <a:lnTo>
                      <a:pt x="954" y="445"/>
                    </a:lnTo>
                    <a:lnTo>
                      <a:pt x="711" y="299"/>
                    </a:lnTo>
                    <a:lnTo>
                      <a:pt x="1207" y="0"/>
                    </a:lnTo>
                    <a:close/>
                  </a:path>
                </a:pathLst>
              </a:custGeom>
              <a:solidFill>
                <a:srgbClr val="f7c23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000" spc="-1" strike="noStrike">
                  <a:solidFill>
                    <a:srgbClr val="000000"/>
                  </a:solidFill>
                  <a:latin typeface="CG Times"/>
                </a:endParaRPr>
              </a:p>
            </p:txBody>
          </p:sp>
          <p:sp>
            <p:nvSpPr>
              <p:cNvPr id="163" name="Freeform 43"/>
              <p:cNvSpPr/>
              <p:nvPr/>
            </p:nvSpPr>
            <p:spPr>
              <a:xfrm>
                <a:off x="6733800" y="2330280"/>
                <a:ext cx="447480" cy="201240"/>
              </a:xfrm>
              <a:custGeom>
                <a:avLst/>
                <a:gdLst/>
                <a:ahLst/>
                <a:rect l="l" t="t" r="r" b="b"/>
                <a:pathLst>
                  <a:path w="1441" h="575">
                    <a:moveTo>
                      <a:pt x="225" y="293"/>
                    </a:moveTo>
                    <a:lnTo>
                      <a:pt x="468" y="440"/>
                    </a:lnTo>
                    <a:lnTo>
                      <a:pt x="243" y="575"/>
                    </a:lnTo>
                    <a:lnTo>
                      <a:pt x="0" y="428"/>
                    </a:lnTo>
                    <a:lnTo>
                      <a:pt x="225" y="293"/>
                    </a:lnTo>
                    <a:close/>
                    <a:moveTo>
                      <a:pt x="1198" y="0"/>
                    </a:moveTo>
                    <a:lnTo>
                      <a:pt x="1441" y="147"/>
                    </a:lnTo>
                    <a:lnTo>
                      <a:pt x="1198" y="293"/>
                    </a:lnTo>
                    <a:lnTo>
                      <a:pt x="955" y="147"/>
                    </a:lnTo>
                    <a:lnTo>
                      <a:pt x="1198" y="0"/>
                    </a:lnTo>
                    <a:close/>
                  </a:path>
                </a:pathLst>
              </a:custGeom>
              <a:solidFill>
                <a:srgbClr val="a5fffb"/>
              </a:solidFill>
              <a:ln w="0">
                <a:solidFill>
                  <a:srgbClr val="a5fff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000" spc="-1" strike="noStrike">
                  <a:solidFill>
                    <a:srgbClr val="000000"/>
                  </a:solidFill>
                  <a:latin typeface="CG Times"/>
                </a:endParaRPr>
              </a:p>
            </p:txBody>
          </p:sp>
          <p:sp>
            <p:nvSpPr>
              <p:cNvPr id="164" name="Freeform 44"/>
              <p:cNvSpPr/>
              <p:nvPr/>
            </p:nvSpPr>
            <p:spPr>
              <a:xfrm>
                <a:off x="6803640" y="2382840"/>
                <a:ext cx="457200" cy="207000"/>
              </a:xfrm>
              <a:custGeom>
                <a:avLst/>
                <a:gdLst/>
                <a:ahLst/>
                <a:rect l="l" t="t" r="r" b="b"/>
                <a:pathLst>
                  <a:path w="1469" h="591">
                    <a:moveTo>
                      <a:pt x="730" y="293"/>
                    </a:moveTo>
                    <a:lnTo>
                      <a:pt x="982" y="444"/>
                    </a:lnTo>
                    <a:lnTo>
                      <a:pt x="739" y="591"/>
                    </a:lnTo>
                    <a:lnTo>
                      <a:pt x="486" y="440"/>
                    </a:lnTo>
                    <a:lnTo>
                      <a:pt x="730" y="293"/>
                    </a:lnTo>
                    <a:close/>
                    <a:moveTo>
                      <a:pt x="243" y="293"/>
                    </a:moveTo>
                    <a:lnTo>
                      <a:pt x="486" y="440"/>
                    </a:lnTo>
                    <a:lnTo>
                      <a:pt x="261" y="575"/>
                    </a:lnTo>
                    <a:lnTo>
                      <a:pt x="18" y="428"/>
                    </a:lnTo>
                    <a:lnTo>
                      <a:pt x="243" y="293"/>
                    </a:lnTo>
                    <a:close/>
                    <a:moveTo>
                      <a:pt x="1216" y="0"/>
                    </a:moveTo>
                    <a:lnTo>
                      <a:pt x="1469" y="152"/>
                    </a:lnTo>
                    <a:lnTo>
                      <a:pt x="1225" y="298"/>
                    </a:lnTo>
                    <a:lnTo>
                      <a:pt x="973" y="146"/>
                    </a:lnTo>
                    <a:lnTo>
                      <a:pt x="1216" y="0"/>
                    </a:lnTo>
                    <a:close/>
                    <a:moveTo>
                      <a:pt x="730" y="0"/>
                    </a:moveTo>
                    <a:lnTo>
                      <a:pt x="973" y="146"/>
                    </a:lnTo>
                    <a:lnTo>
                      <a:pt x="730" y="293"/>
                    </a:lnTo>
                    <a:lnTo>
                      <a:pt x="486" y="146"/>
                    </a:lnTo>
                    <a:lnTo>
                      <a:pt x="730" y="0"/>
                    </a:lnTo>
                    <a:close/>
                    <a:moveTo>
                      <a:pt x="243" y="0"/>
                    </a:moveTo>
                    <a:lnTo>
                      <a:pt x="486" y="146"/>
                    </a:lnTo>
                    <a:lnTo>
                      <a:pt x="243" y="293"/>
                    </a:lnTo>
                    <a:lnTo>
                      <a:pt x="0" y="146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b9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000" spc="-1" strike="noStrike">
                  <a:solidFill>
                    <a:srgbClr val="000000"/>
                  </a:solidFill>
                  <a:latin typeface="CG Times"/>
                </a:endParaRPr>
              </a:p>
            </p:txBody>
          </p:sp>
          <p:sp>
            <p:nvSpPr>
              <p:cNvPr id="165" name="Freeform 45"/>
              <p:cNvSpPr/>
              <p:nvPr/>
            </p:nvSpPr>
            <p:spPr>
              <a:xfrm>
                <a:off x="6879600" y="2433600"/>
                <a:ext cx="304920" cy="203400"/>
              </a:xfrm>
              <a:custGeom>
                <a:avLst/>
                <a:gdLst/>
                <a:ahLst/>
                <a:rect l="l" t="t" r="r" b="b"/>
                <a:pathLst>
                  <a:path w="982" h="580">
                    <a:moveTo>
                      <a:pt x="243" y="294"/>
                    </a:moveTo>
                    <a:lnTo>
                      <a:pt x="496" y="445"/>
                    </a:lnTo>
                    <a:lnTo>
                      <a:pt x="270" y="580"/>
                    </a:lnTo>
                    <a:lnTo>
                      <a:pt x="18" y="429"/>
                    </a:lnTo>
                    <a:lnTo>
                      <a:pt x="243" y="294"/>
                    </a:lnTo>
                    <a:close/>
                    <a:moveTo>
                      <a:pt x="730" y="0"/>
                    </a:moveTo>
                    <a:lnTo>
                      <a:pt x="982" y="152"/>
                    </a:lnTo>
                    <a:lnTo>
                      <a:pt x="739" y="298"/>
                    </a:lnTo>
                    <a:lnTo>
                      <a:pt x="487" y="147"/>
                    </a:lnTo>
                    <a:lnTo>
                      <a:pt x="730" y="0"/>
                    </a:lnTo>
                    <a:close/>
                    <a:moveTo>
                      <a:pt x="243" y="0"/>
                    </a:moveTo>
                    <a:lnTo>
                      <a:pt x="487" y="147"/>
                    </a:lnTo>
                    <a:lnTo>
                      <a:pt x="243" y="294"/>
                    </a:lnTo>
                    <a:lnTo>
                      <a:pt x="0" y="147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2271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000" spc="-1" strike="noStrike">
                  <a:solidFill>
                    <a:srgbClr val="000000"/>
                  </a:solidFill>
                  <a:latin typeface="CG Times"/>
                </a:endParaRPr>
              </a:p>
            </p:txBody>
          </p:sp>
          <p:sp>
            <p:nvSpPr>
              <p:cNvPr id="166" name="Freeform 46"/>
              <p:cNvSpPr/>
              <p:nvPr/>
            </p:nvSpPr>
            <p:spPr>
              <a:xfrm>
                <a:off x="6589440" y="2129040"/>
                <a:ext cx="595080" cy="304560"/>
              </a:xfrm>
              <a:custGeom>
                <a:avLst/>
                <a:gdLst/>
                <a:ahLst/>
                <a:rect l="l" t="t" r="r" b="b"/>
                <a:pathLst>
                  <a:path w="1918" h="872">
                    <a:moveTo>
                      <a:pt x="225" y="591"/>
                    </a:moveTo>
                    <a:lnTo>
                      <a:pt x="449" y="726"/>
                    </a:lnTo>
                    <a:lnTo>
                      <a:pt x="225" y="861"/>
                    </a:lnTo>
                    <a:lnTo>
                      <a:pt x="0" y="726"/>
                    </a:lnTo>
                    <a:lnTo>
                      <a:pt x="225" y="591"/>
                    </a:lnTo>
                    <a:close/>
                    <a:moveTo>
                      <a:pt x="1179" y="579"/>
                    </a:moveTo>
                    <a:lnTo>
                      <a:pt x="1423" y="726"/>
                    </a:lnTo>
                    <a:lnTo>
                      <a:pt x="1179" y="872"/>
                    </a:lnTo>
                    <a:lnTo>
                      <a:pt x="936" y="726"/>
                    </a:lnTo>
                    <a:lnTo>
                      <a:pt x="1179" y="579"/>
                    </a:lnTo>
                    <a:close/>
                    <a:moveTo>
                      <a:pt x="1675" y="281"/>
                    </a:moveTo>
                    <a:lnTo>
                      <a:pt x="1918" y="428"/>
                    </a:lnTo>
                    <a:lnTo>
                      <a:pt x="1666" y="579"/>
                    </a:lnTo>
                    <a:lnTo>
                      <a:pt x="1423" y="433"/>
                    </a:lnTo>
                    <a:lnTo>
                      <a:pt x="1675" y="281"/>
                    </a:lnTo>
                    <a:close/>
                    <a:moveTo>
                      <a:pt x="1206" y="0"/>
                    </a:moveTo>
                    <a:lnTo>
                      <a:pt x="1432" y="134"/>
                    </a:lnTo>
                    <a:lnTo>
                      <a:pt x="1179" y="287"/>
                    </a:lnTo>
                    <a:lnTo>
                      <a:pt x="954" y="151"/>
                    </a:lnTo>
                    <a:lnTo>
                      <a:pt x="1206" y="0"/>
                    </a:lnTo>
                    <a:close/>
                  </a:path>
                </a:pathLst>
              </a:custGeom>
              <a:solidFill>
                <a:srgbClr val="aad0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000" spc="-1" strike="noStrike">
                  <a:solidFill>
                    <a:srgbClr val="000000"/>
                  </a:solidFill>
                  <a:latin typeface="CG Times"/>
                </a:endParaRPr>
              </a:p>
            </p:txBody>
          </p:sp>
        </p:grpSp>
        <p:grpSp>
          <p:nvGrpSpPr>
            <p:cNvPr id="167" name="Group 36"/>
            <p:cNvGrpSpPr/>
            <p:nvPr/>
          </p:nvGrpSpPr>
          <p:grpSpPr>
            <a:xfrm>
              <a:off x="6334560" y="2363040"/>
              <a:ext cx="982440" cy="712800"/>
              <a:chOff x="6334560" y="2363040"/>
              <a:chExt cx="982440" cy="712800"/>
            </a:xfrm>
          </p:grpSpPr>
          <p:sp>
            <p:nvSpPr>
              <p:cNvPr id="168" name="Freeform 38"/>
              <p:cNvSpPr/>
              <p:nvPr/>
            </p:nvSpPr>
            <p:spPr>
              <a:xfrm>
                <a:off x="6334560" y="2363040"/>
                <a:ext cx="982440" cy="712800"/>
              </a:xfrm>
              <a:custGeom>
                <a:avLst/>
                <a:gdLst/>
                <a:ahLst/>
                <a:rect l="l" t="t" r="r" b="b"/>
                <a:pathLst>
                  <a:path w="3158" h="2033">
                    <a:moveTo>
                      <a:pt x="1578" y="0"/>
                    </a:moveTo>
                    <a:lnTo>
                      <a:pt x="1603" y="1"/>
                    </a:lnTo>
                    <a:lnTo>
                      <a:pt x="1630" y="5"/>
                    </a:lnTo>
                    <a:lnTo>
                      <a:pt x="1659" y="11"/>
                    </a:lnTo>
                    <a:lnTo>
                      <a:pt x="1688" y="20"/>
                    </a:lnTo>
                    <a:lnTo>
                      <a:pt x="1718" y="36"/>
                    </a:lnTo>
                    <a:lnTo>
                      <a:pt x="3049" y="834"/>
                    </a:lnTo>
                    <a:lnTo>
                      <a:pt x="3081" y="857"/>
                    </a:lnTo>
                    <a:lnTo>
                      <a:pt x="3107" y="884"/>
                    </a:lnTo>
                    <a:lnTo>
                      <a:pt x="3129" y="914"/>
                    </a:lnTo>
                    <a:lnTo>
                      <a:pt x="3145" y="946"/>
                    </a:lnTo>
                    <a:lnTo>
                      <a:pt x="3154" y="981"/>
                    </a:lnTo>
                    <a:lnTo>
                      <a:pt x="3158" y="1018"/>
                    </a:lnTo>
                    <a:lnTo>
                      <a:pt x="3154" y="1053"/>
                    </a:lnTo>
                    <a:lnTo>
                      <a:pt x="3145" y="1088"/>
                    </a:lnTo>
                    <a:lnTo>
                      <a:pt x="3129" y="1121"/>
                    </a:lnTo>
                    <a:lnTo>
                      <a:pt x="3107" y="1150"/>
                    </a:lnTo>
                    <a:lnTo>
                      <a:pt x="3081" y="1176"/>
                    </a:lnTo>
                    <a:lnTo>
                      <a:pt x="3049" y="1199"/>
                    </a:lnTo>
                    <a:lnTo>
                      <a:pt x="1718" y="1998"/>
                    </a:lnTo>
                    <a:lnTo>
                      <a:pt x="1689" y="2013"/>
                    </a:lnTo>
                    <a:lnTo>
                      <a:pt x="1659" y="2024"/>
                    </a:lnTo>
                    <a:lnTo>
                      <a:pt x="1630" y="2030"/>
                    </a:lnTo>
                    <a:lnTo>
                      <a:pt x="1603" y="2033"/>
                    </a:lnTo>
                    <a:lnTo>
                      <a:pt x="1578" y="2033"/>
                    </a:lnTo>
                    <a:lnTo>
                      <a:pt x="1555" y="2033"/>
                    </a:lnTo>
                    <a:lnTo>
                      <a:pt x="1528" y="2030"/>
                    </a:lnTo>
                    <a:lnTo>
                      <a:pt x="1498" y="2024"/>
                    </a:lnTo>
                    <a:lnTo>
                      <a:pt x="1469" y="2013"/>
                    </a:lnTo>
                    <a:lnTo>
                      <a:pt x="1439" y="1997"/>
                    </a:lnTo>
                    <a:lnTo>
                      <a:pt x="109" y="1199"/>
                    </a:lnTo>
                    <a:lnTo>
                      <a:pt x="77" y="1176"/>
                    </a:lnTo>
                    <a:lnTo>
                      <a:pt x="50" y="1150"/>
                    </a:lnTo>
                    <a:lnTo>
                      <a:pt x="29" y="1119"/>
                    </a:lnTo>
                    <a:lnTo>
                      <a:pt x="13" y="1087"/>
                    </a:lnTo>
                    <a:lnTo>
                      <a:pt x="4" y="1052"/>
                    </a:lnTo>
                    <a:lnTo>
                      <a:pt x="0" y="1015"/>
                    </a:lnTo>
                    <a:lnTo>
                      <a:pt x="4" y="980"/>
                    </a:lnTo>
                    <a:lnTo>
                      <a:pt x="13" y="945"/>
                    </a:lnTo>
                    <a:lnTo>
                      <a:pt x="29" y="913"/>
                    </a:lnTo>
                    <a:lnTo>
                      <a:pt x="51" y="882"/>
                    </a:lnTo>
                    <a:lnTo>
                      <a:pt x="77" y="857"/>
                    </a:lnTo>
                    <a:lnTo>
                      <a:pt x="110" y="834"/>
                    </a:lnTo>
                    <a:lnTo>
                      <a:pt x="1440" y="36"/>
                    </a:lnTo>
                    <a:lnTo>
                      <a:pt x="1469" y="20"/>
                    </a:lnTo>
                    <a:lnTo>
                      <a:pt x="1499" y="11"/>
                    </a:lnTo>
                    <a:lnTo>
                      <a:pt x="1528" y="5"/>
                    </a:lnTo>
                    <a:lnTo>
                      <a:pt x="1555" y="1"/>
                    </a:lnTo>
                    <a:lnTo>
                      <a:pt x="1578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000" spc="-1" strike="noStrike">
                  <a:solidFill>
                    <a:srgbClr val="000000"/>
                  </a:solidFill>
                  <a:latin typeface="CG Times"/>
                </a:endParaRPr>
              </a:p>
            </p:txBody>
          </p:sp>
          <p:sp>
            <p:nvSpPr>
              <p:cNvPr id="169" name="Freeform 39"/>
              <p:cNvSpPr/>
              <p:nvPr/>
            </p:nvSpPr>
            <p:spPr>
              <a:xfrm>
                <a:off x="6384240" y="2418840"/>
                <a:ext cx="882720" cy="600840"/>
              </a:xfrm>
              <a:custGeom>
                <a:avLst/>
                <a:gdLst/>
                <a:ahLst/>
                <a:rect l="l" t="t" r="r" b="b"/>
                <a:pathLst>
                  <a:path w="2837" h="1715">
                    <a:moveTo>
                      <a:pt x="1417" y="0"/>
                    </a:moveTo>
                    <a:lnTo>
                      <a:pt x="1440" y="1"/>
                    </a:lnTo>
                    <a:lnTo>
                      <a:pt x="1459" y="6"/>
                    </a:lnTo>
                    <a:lnTo>
                      <a:pt x="1475" y="14"/>
                    </a:lnTo>
                    <a:lnTo>
                      <a:pt x="2806" y="812"/>
                    </a:lnTo>
                    <a:lnTo>
                      <a:pt x="2823" y="826"/>
                    </a:lnTo>
                    <a:lnTo>
                      <a:pt x="2834" y="842"/>
                    </a:lnTo>
                    <a:lnTo>
                      <a:pt x="2837" y="858"/>
                    </a:lnTo>
                    <a:lnTo>
                      <a:pt x="2834" y="874"/>
                    </a:lnTo>
                    <a:lnTo>
                      <a:pt x="2823" y="890"/>
                    </a:lnTo>
                    <a:lnTo>
                      <a:pt x="2806" y="903"/>
                    </a:lnTo>
                    <a:lnTo>
                      <a:pt x="1475" y="1703"/>
                    </a:lnTo>
                    <a:lnTo>
                      <a:pt x="1459" y="1710"/>
                    </a:lnTo>
                    <a:lnTo>
                      <a:pt x="1440" y="1714"/>
                    </a:lnTo>
                    <a:lnTo>
                      <a:pt x="1417" y="1715"/>
                    </a:lnTo>
                    <a:lnTo>
                      <a:pt x="1396" y="1714"/>
                    </a:lnTo>
                    <a:lnTo>
                      <a:pt x="1377" y="1710"/>
                    </a:lnTo>
                    <a:lnTo>
                      <a:pt x="1361" y="1703"/>
                    </a:lnTo>
                    <a:lnTo>
                      <a:pt x="30" y="903"/>
                    </a:lnTo>
                    <a:lnTo>
                      <a:pt x="14" y="891"/>
                    </a:lnTo>
                    <a:lnTo>
                      <a:pt x="5" y="878"/>
                    </a:lnTo>
                    <a:lnTo>
                      <a:pt x="0" y="865"/>
                    </a:lnTo>
                    <a:lnTo>
                      <a:pt x="0" y="850"/>
                    </a:lnTo>
                    <a:lnTo>
                      <a:pt x="5" y="837"/>
                    </a:lnTo>
                    <a:lnTo>
                      <a:pt x="14" y="824"/>
                    </a:lnTo>
                    <a:lnTo>
                      <a:pt x="30" y="812"/>
                    </a:lnTo>
                    <a:lnTo>
                      <a:pt x="1361" y="14"/>
                    </a:lnTo>
                    <a:lnTo>
                      <a:pt x="1377" y="6"/>
                    </a:lnTo>
                    <a:lnTo>
                      <a:pt x="1396" y="1"/>
                    </a:lnTo>
                    <a:lnTo>
                      <a:pt x="1417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000" spc="-1" strike="noStrike">
                  <a:solidFill>
                    <a:srgbClr val="000000"/>
                  </a:solidFill>
                  <a:latin typeface="CG Times"/>
                </a:endParaRPr>
              </a:p>
            </p:txBody>
          </p:sp>
          <p:sp>
            <p:nvSpPr>
              <p:cNvPr id="170" name="Freeform 40"/>
              <p:cNvSpPr/>
              <p:nvPr/>
            </p:nvSpPr>
            <p:spPr>
              <a:xfrm>
                <a:off x="6520680" y="2518560"/>
                <a:ext cx="295200" cy="299520"/>
              </a:xfrm>
              <a:custGeom>
                <a:avLst/>
                <a:gdLst/>
                <a:ahLst/>
                <a:rect l="l" t="t" r="r" b="b"/>
                <a:pathLst>
                  <a:path w="954" h="856">
                    <a:moveTo>
                      <a:pt x="224" y="575"/>
                    </a:moveTo>
                    <a:lnTo>
                      <a:pt x="468" y="721"/>
                    </a:lnTo>
                    <a:lnTo>
                      <a:pt x="243" y="856"/>
                    </a:lnTo>
                    <a:lnTo>
                      <a:pt x="0" y="710"/>
                    </a:lnTo>
                    <a:lnTo>
                      <a:pt x="224" y="575"/>
                    </a:lnTo>
                    <a:close/>
                    <a:moveTo>
                      <a:pt x="711" y="282"/>
                    </a:moveTo>
                    <a:lnTo>
                      <a:pt x="954" y="428"/>
                    </a:lnTo>
                    <a:lnTo>
                      <a:pt x="711" y="575"/>
                    </a:lnTo>
                    <a:lnTo>
                      <a:pt x="468" y="428"/>
                    </a:lnTo>
                    <a:lnTo>
                      <a:pt x="711" y="282"/>
                    </a:lnTo>
                    <a:close/>
                    <a:moveTo>
                      <a:pt x="729" y="0"/>
                    </a:moveTo>
                    <a:lnTo>
                      <a:pt x="954" y="136"/>
                    </a:lnTo>
                    <a:lnTo>
                      <a:pt x="711" y="282"/>
                    </a:lnTo>
                    <a:lnTo>
                      <a:pt x="486" y="147"/>
                    </a:lnTo>
                    <a:lnTo>
                      <a:pt x="729" y="0"/>
                    </a:lnTo>
                    <a:close/>
                  </a:path>
                </a:pathLst>
              </a:custGeom>
              <a:solidFill>
                <a:srgbClr val="ddec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000" spc="-1" strike="noStrike">
                  <a:solidFill>
                    <a:srgbClr val="000000"/>
                  </a:solidFill>
                  <a:latin typeface="CG Times"/>
                </a:endParaRPr>
              </a:p>
            </p:txBody>
          </p:sp>
          <p:sp>
            <p:nvSpPr>
              <p:cNvPr id="171" name="Freeform 41"/>
              <p:cNvSpPr/>
              <p:nvPr/>
            </p:nvSpPr>
            <p:spPr>
              <a:xfrm>
                <a:off x="6589080" y="2615400"/>
                <a:ext cx="533160" cy="155520"/>
              </a:xfrm>
              <a:custGeom>
                <a:avLst/>
                <a:gdLst/>
                <a:ahLst/>
                <a:rect l="l" t="t" r="r" b="b"/>
                <a:pathLst>
                  <a:path w="1713" h="444">
                    <a:moveTo>
                      <a:pt x="244" y="151"/>
                    </a:moveTo>
                    <a:lnTo>
                      <a:pt x="487" y="298"/>
                    </a:lnTo>
                    <a:lnTo>
                      <a:pt x="244" y="444"/>
                    </a:lnTo>
                    <a:lnTo>
                      <a:pt x="0" y="298"/>
                    </a:lnTo>
                    <a:lnTo>
                      <a:pt x="244" y="151"/>
                    </a:lnTo>
                    <a:close/>
                    <a:moveTo>
                      <a:pt x="974" y="5"/>
                    </a:moveTo>
                    <a:lnTo>
                      <a:pt x="1217" y="151"/>
                    </a:lnTo>
                    <a:lnTo>
                      <a:pt x="974" y="298"/>
                    </a:lnTo>
                    <a:lnTo>
                      <a:pt x="730" y="151"/>
                    </a:lnTo>
                    <a:lnTo>
                      <a:pt x="974" y="5"/>
                    </a:lnTo>
                    <a:close/>
                    <a:moveTo>
                      <a:pt x="1469" y="0"/>
                    </a:moveTo>
                    <a:lnTo>
                      <a:pt x="1713" y="146"/>
                    </a:lnTo>
                    <a:lnTo>
                      <a:pt x="1460" y="298"/>
                    </a:lnTo>
                    <a:lnTo>
                      <a:pt x="1217" y="151"/>
                    </a:lnTo>
                    <a:lnTo>
                      <a:pt x="1469" y="0"/>
                    </a:lnTo>
                    <a:close/>
                  </a:path>
                </a:pathLst>
              </a:custGeom>
              <a:solidFill>
                <a:srgbClr val="ff863d"/>
              </a:solidFill>
              <a:ln w="0">
                <a:solidFill>
                  <a:srgbClr val="ff863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000" spc="-1" strike="noStrike">
                  <a:solidFill>
                    <a:srgbClr val="000000"/>
                  </a:solidFill>
                  <a:latin typeface="CG Times"/>
                </a:endParaRPr>
              </a:p>
            </p:txBody>
          </p:sp>
          <p:sp>
            <p:nvSpPr>
              <p:cNvPr id="172" name="Freeform 42"/>
              <p:cNvSpPr/>
              <p:nvPr/>
            </p:nvSpPr>
            <p:spPr>
              <a:xfrm>
                <a:off x="6520680" y="2511360"/>
                <a:ext cx="678960" cy="261000"/>
              </a:xfrm>
              <a:custGeom>
                <a:avLst/>
                <a:gdLst/>
                <a:ahLst/>
                <a:rect l="l" t="t" r="r" b="b"/>
                <a:pathLst>
                  <a:path w="2189" h="744">
                    <a:moveTo>
                      <a:pt x="1937" y="440"/>
                    </a:moveTo>
                    <a:lnTo>
                      <a:pt x="2189" y="592"/>
                    </a:lnTo>
                    <a:lnTo>
                      <a:pt x="1937" y="744"/>
                    </a:lnTo>
                    <a:lnTo>
                      <a:pt x="1684" y="592"/>
                    </a:lnTo>
                    <a:lnTo>
                      <a:pt x="1937" y="440"/>
                    </a:lnTo>
                    <a:close/>
                    <a:moveTo>
                      <a:pt x="486" y="164"/>
                    </a:moveTo>
                    <a:lnTo>
                      <a:pt x="711" y="299"/>
                    </a:lnTo>
                    <a:lnTo>
                      <a:pt x="224" y="592"/>
                    </a:lnTo>
                    <a:lnTo>
                      <a:pt x="0" y="457"/>
                    </a:lnTo>
                    <a:lnTo>
                      <a:pt x="486" y="164"/>
                    </a:lnTo>
                    <a:close/>
                    <a:moveTo>
                      <a:pt x="1207" y="0"/>
                    </a:moveTo>
                    <a:lnTo>
                      <a:pt x="1450" y="147"/>
                    </a:lnTo>
                    <a:lnTo>
                      <a:pt x="954" y="445"/>
                    </a:lnTo>
                    <a:lnTo>
                      <a:pt x="711" y="299"/>
                    </a:lnTo>
                    <a:lnTo>
                      <a:pt x="1207" y="0"/>
                    </a:lnTo>
                    <a:close/>
                  </a:path>
                </a:pathLst>
              </a:custGeom>
              <a:solidFill>
                <a:srgbClr val="f7c23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000" spc="-1" strike="noStrike">
                  <a:solidFill>
                    <a:srgbClr val="000000"/>
                  </a:solidFill>
                  <a:latin typeface="CG Times"/>
                </a:endParaRPr>
              </a:p>
            </p:txBody>
          </p:sp>
          <p:sp>
            <p:nvSpPr>
              <p:cNvPr id="173" name="Freeform 43"/>
              <p:cNvSpPr/>
              <p:nvPr/>
            </p:nvSpPr>
            <p:spPr>
              <a:xfrm>
                <a:off x="6595560" y="2667600"/>
                <a:ext cx="447480" cy="201240"/>
              </a:xfrm>
              <a:custGeom>
                <a:avLst/>
                <a:gdLst/>
                <a:ahLst/>
                <a:rect l="l" t="t" r="r" b="b"/>
                <a:pathLst>
                  <a:path w="1441" h="575">
                    <a:moveTo>
                      <a:pt x="225" y="293"/>
                    </a:moveTo>
                    <a:lnTo>
                      <a:pt x="468" y="440"/>
                    </a:lnTo>
                    <a:lnTo>
                      <a:pt x="243" y="575"/>
                    </a:lnTo>
                    <a:lnTo>
                      <a:pt x="0" y="428"/>
                    </a:lnTo>
                    <a:lnTo>
                      <a:pt x="225" y="293"/>
                    </a:lnTo>
                    <a:close/>
                    <a:moveTo>
                      <a:pt x="1198" y="0"/>
                    </a:moveTo>
                    <a:lnTo>
                      <a:pt x="1441" y="147"/>
                    </a:lnTo>
                    <a:lnTo>
                      <a:pt x="1198" y="293"/>
                    </a:lnTo>
                    <a:lnTo>
                      <a:pt x="955" y="147"/>
                    </a:lnTo>
                    <a:lnTo>
                      <a:pt x="1198" y="0"/>
                    </a:lnTo>
                    <a:close/>
                  </a:path>
                </a:pathLst>
              </a:custGeom>
              <a:solidFill>
                <a:srgbClr val="a5fffb"/>
              </a:solidFill>
              <a:ln w="0">
                <a:solidFill>
                  <a:srgbClr val="a5fff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000" spc="-1" strike="noStrike">
                  <a:solidFill>
                    <a:srgbClr val="000000"/>
                  </a:solidFill>
                  <a:latin typeface="CG Times"/>
                </a:endParaRPr>
              </a:p>
            </p:txBody>
          </p:sp>
          <p:sp>
            <p:nvSpPr>
              <p:cNvPr id="174" name="Freeform 44"/>
              <p:cNvSpPr/>
              <p:nvPr/>
            </p:nvSpPr>
            <p:spPr>
              <a:xfrm>
                <a:off x="6665400" y="2720160"/>
                <a:ext cx="457200" cy="207000"/>
              </a:xfrm>
              <a:custGeom>
                <a:avLst/>
                <a:gdLst/>
                <a:ahLst/>
                <a:rect l="l" t="t" r="r" b="b"/>
                <a:pathLst>
                  <a:path w="1469" h="591">
                    <a:moveTo>
                      <a:pt x="730" y="293"/>
                    </a:moveTo>
                    <a:lnTo>
                      <a:pt x="982" y="444"/>
                    </a:lnTo>
                    <a:lnTo>
                      <a:pt x="739" y="591"/>
                    </a:lnTo>
                    <a:lnTo>
                      <a:pt x="486" y="440"/>
                    </a:lnTo>
                    <a:lnTo>
                      <a:pt x="730" y="293"/>
                    </a:lnTo>
                    <a:close/>
                    <a:moveTo>
                      <a:pt x="243" y="293"/>
                    </a:moveTo>
                    <a:lnTo>
                      <a:pt x="486" y="440"/>
                    </a:lnTo>
                    <a:lnTo>
                      <a:pt x="261" y="575"/>
                    </a:lnTo>
                    <a:lnTo>
                      <a:pt x="18" y="428"/>
                    </a:lnTo>
                    <a:lnTo>
                      <a:pt x="243" y="293"/>
                    </a:lnTo>
                    <a:close/>
                    <a:moveTo>
                      <a:pt x="1216" y="0"/>
                    </a:moveTo>
                    <a:lnTo>
                      <a:pt x="1469" y="152"/>
                    </a:lnTo>
                    <a:lnTo>
                      <a:pt x="1225" y="298"/>
                    </a:lnTo>
                    <a:lnTo>
                      <a:pt x="973" y="146"/>
                    </a:lnTo>
                    <a:lnTo>
                      <a:pt x="1216" y="0"/>
                    </a:lnTo>
                    <a:close/>
                    <a:moveTo>
                      <a:pt x="730" y="0"/>
                    </a:moveTo>
                    <a:lnTo>
                      <a:pt x="973" y="146"/>
                    </a:lnTo>
                    <a:lnTo>
                      <a:pt x="730" y="293"/>
                    </a:lnTo>
                    <a:lnTo>
                      <a:pt x="486" y="146"/>
                    </a:lnTo>
                    <a:lnTo>
                      <a:pt x="730" y="0"/>
                    </a:lnTo>
                    <a:close/>
                    <a:moveTo>
                      <a:pt x="243" y="0"/>
                    </a:moveTo>
                    <a:lnTo>
                      <a:pt x="486" y="146"/>
                    </a:lnTo>
                    <a:lnTo>
                      <a:pt x="243" y="293"/>
                    </a:lnTo>
                    <a:lnTo>
                      <a:pt x="0" y="146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b9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000" spc="-1" strike="noStrike">
                  <a:solidFill>
                    <a:srgbClr val="000000"/>
                  </a:solidFill>
                  <a:latin typeface="CG Times"/>
                </a:endParaRPr>
              </a:p>
            </p:txBody>
          </p:sp>
          <p:sp>
            <p:nvSpPr>
              <p:cNvPr id="175" name="Freeform 45"/>
              <p:cNvSpPr/>
              <p:nvPr/>
            </p:nvSpPr>
            <p:spPr>
              <a:xfrm>
                <a:off x="6741360" y="2770920"/>
                <a:ext cx="304920" cy="203400"/>
              </a:xfrm>
              <a:custGeom>
                <a:avLst/>
                <a:gdLst/>
                <a:ahLst/>
                <a:rect l="l" t="t" r="r" b="b"/>
                <a:pathLst>
                  <a:path w="982" h="580">
                    <a:moveTo>
                      <a:pt x="243" y="294"/>
                    </a:moveTo>
                    <a:lnTo>
                      <a:pt x="496" y="445"/>
                    </a:lnTo>
                    <a:lnTo>
                      <a:pt x="270" y="580"/>
                    </a:lnTo>
                    <a:lnTo>
                      <a:pt x="18" y="429"/>
                    </a:lnTo>
                    <a:lnTo>
                      <a:pt x="243" y="294"/>
                    </a:lnTo>
                    <a:close/>
                    <a:moveTo>
                      <a:pt x="730" y="0"/>
                    </a:moveTo>
                    <a:lnTo>
                      <a:pt x="982" y="152"/>
                    </a:lnTo>
                    <a:lnTo>
                      <a:pt x="739" y="298"/>
                    </a:lnTo>
                    <a:lnTo>
                      <a:pt x="487" y="147"/>
                    </a:lnTo>
                    <a:lnTo>
                      <a:pt x="730" y="0"/>
                    </a:lnTo>
                    <a:close/>
                    <a:moveTo>
                      <a:pt x="243" y="0"/>
                    </a:moveTo>
                    <a:lnTo>
                      <a:pt x="487" y="147"/>
                    </a:lnTo>
                    <a:lnTo>
                      <a:pt x="243" y="294"/>
                    </a:lnTo>
                    <a:lnTo>
                      <a:pt x="0" y="147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2271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000" spc="-1" strike="noStrike">
                  <a:solidFill>
                    <a:srgbClr val="000000"/>
                  </a:solidFill>
                  <a:latin typeface="CG Times"/>
                </a:endParaRPr>
              </a:p>
            </p:txBody>
          </p:sp>
          <p:sp>
            <p:nvSpPr>
              <p:cNvPr id="176" name="Freeform 46"/>
              <p:cNvSpPr/>
              <p:nvPr/>
            </p:nvSpPr>
            <p:spPr>
              <a:xfrm>
                <a:off x="6451200" y="2466360"/>
                <a:ext cx="595080" cy="304560"/>
              </a:xfrm>
              <a:custGeom>
                <a:avLst/>
                <a:gdLst/>
                <a:ahLst/>
                <a:rect l="l" t="t" r="r" b="b"/>
                <a:pathLst>
                  <a:path w="1918" h="872">
                    <a:moveTo>
                      <a:pt x="225" y="591"/>
                    </a:moveTo>
                    <a:lnTo>
                      <a:pt x="449" y="726"/>
                    </a:lnTo>
                    <a:lnTo>
                      <a:pt x="225" y="861"/>
                    </a:lnTo>
                    <a:lnTo>
                      <a:pt x="0" y="726"/>
                    </a:lnTo>
                    <a:lnTo>
                      <a:pt x="225" y="591"/>
                    </a:lnTo>
                    <a:close/>
                    <a:moveTo>
                      <a:pt x="1179" y="579"/>
                    </a:moveTo>
                    <a:lnTo>
                      <a:pt x="1423" y="726"/>
                    </a:lnTo>
                    <a:lnTo>
                      <a:pt x="1179" y="872"/>
                    </a:lnTo>
                    <a:lnTo>
                      <a:pt x="936" y="726"/>
                    </a:lnTo>
                    <a:lnTo>
                      <a:pt x="1179" y="579"/>
                    </a:lnTo>
                    <a:close/>
                    <a:moveTo>
                      <a:pt x="1675" y="281"/>
                    </a:moveTo>
                    <a:lnTo>
                      <a:pt x="1918" y="428"/>
                    </a:lnTo>
                    <a:lnTo>
                      <a:pt x="1666" y="579"/>
                    </a:lnTo>
                    <a:lnTo>
                      <a:pt x="1423" y="433"/>
                    </a:lnTo>
                    <a:lnTo>
                      <a:pt x="1675" y="281"/>
                    </a:lnTo>
                    <a:close/>
                    <a:moveTo>
                      <a:pt x="1206" y="0"/>
                    </a:moveTo>
                    <a:lnTo>
                      <a:pt x="1432" y="134"/>
                    </a:lnTo>
                    <a:lnTo>
                      <a:pt x="1179" y="287"/>
                    </a:lnTo>
                    <a:lnTo>
                      <a:pt x="954" y="151"/>
                    </a:lnTo>
                    <a:lnTo>
                      <a:pt x="1206" y="0"/>
                    </a:lnTo>
                    <a:close/>
                  </a:path>
                </a:pathLst>
              </a:custGeom>
              <a:solidFill>
                <a:srgbClr val="aad0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000" spc="-1" strike="noStrike">
                  <a:solidFill>
                    <a:srgbClr val="000000"/>
                  </a:solidFill>
                  <a:latin typeface="CG Times"/>
                </a:endParaRPr>
              </a:p>
            </p:txBody>
          </p:sp>
        </p:grpSp>
        <p:grpSp>
          <p:nvGrpSpPr>
            <p:cNvPr id="177" name="Group 36"/>
            <p:cNvGrpSpPr/>
            <p:nvPr/>
          </p:nvGrpSpPr>
          <p:grpSpPr>
            <a:xfrm>
              <a:off x="6986880" y="2387520"/>
              <a:ext cx="982440" cy="712800"/>
              <a:chOff x="6986880" y="2387520"/>
              <a:chExt cx="982440" cy="712800"/>
            </a:xfrm>
          </p:grpSpPr>
          <p:sp>
            <p:nvSpPr>
              <p:cNvPr id="178" name="Freeform 38"/>
              <p:cNvSpPr/>
              <p:nvPr/>
            </p:nvSpPr>
            <p:spPr>
              <a:xfrm>
                <a:off x="6986880" y="2387520"/>
                <a:ext cx="982440" cy="712800"/>
              </a:xfrm>
              <a:custGeom>
                <a:avLst/>
                <a:gdLst/>
                <a:ahLst/>
                <a:rect l="l" t="t" r="r" b="b"/>
                <a:pathLst>
                  <a:path w="3158" h="2033">
                    <a:moveTo>
                      <a:pt x="1578" y="0"/>
                    </a:moveTo>
                    <a:lnTo>
                      <a:pt x="1603" y="1"/>
                    </a:lnTo>
                    <a:lnTo>
                      <a:pt x="1630" y="5"/>
                    </a:lnTo>
                    <a:lnTo>
                      <a:pt x="1659" y="11"/>
                    </a:lnTo>
                    <a:lnTo>
                      <a:pt x="1688" y="20"/>
                    </a:lnTo>
                    <a:lnTo>
                      <a:pt x="1718" y="36"/>
                    </a:lnTo>
                    <a:lnTo>
                      <a:pt x="3049" y="834"/>
                    </a:lnTo>
                    <a:lnTo>
                      <a:pt x="3081" y="857"/>
                    </a:lnTo>
                    <a:lnTo>
                      <a:pt x="3107" y="884"/>
                    </a:lnTo>
                    <a:lnTo>
                      <a:pt x="3129" y="914"/>
                    </a:lnTo>
                    <a:lnTo>
                      <a:pt x="3145" y="946"/>
                    </a:lnTo>
                    <a:lnTo>
                      <a:pt x="3154" y="981"/>
                    </a:lnTo>
                    <a:lnTo>
                      <a:pt x="3158" y="1018"/>
                    </a:lnTo>
                    <a:lnTo>
                      <a:pt x="3154" y="1053"/>
                    </a:lnTo>
                    <a:lnTo>
                      <a:pt x="3145" y="1088"/>
                    </a:lnTo>
                    <a:lnTo>
                      <a:pt x="3129" y="1121"/>
                    </a:lnTo>
                    <a:lnTo>
                      <a:pt x="3107" y="1150"/>
                    </a:lnTo>
                    <a:lnTo>
                      <a:pt x="3081" y="1176"/>
                    </a:lnTo>
                    <a:lnTo>
                      <a:pt x="3049" y="1199"/>
                    </a:lnTo>
                    <a:lnTo>
                      <a:pt x="1718" y="1998"/>
                    </a:lnTo>
                    <a:lnTo>
                      <a:pt x="1689" y="2013"/>
                    </a:lnTo>
                    <a:lnTo>
                      <a:pt x="1659" y="2024"/>
                    </a:lnTo>
                    <a:lnTo>
                      <a:pt x="1630" y="2030"/>
                    </a:lnTo>
                    <a:lnTo>
                      <a:pt x="1603" y="2033"/>
                    </a:lnTo>
                    <a:lnTo>
                      <a:pt x="1578" y="2033"/>
                    </a:lnTo>
                    <a:lnTo>
                      <a:pt x="1555" y="2033"/>
                    </a:lnTo>
                    <a:lnTo>
                      <a:pt x="1528" y="2030"/>
                    </a:lnTo>
                    <a:lnTo>
                      <a:pt x="1498" y="2024"/>
                    </a:lnTo>
                    <a:lnTo>
                      <a:pt x="1469" y="2013"/>
                    </a:lnTo>
                    <a:lnTo>
                      <a:pt x="1439" y="1997"/>
                    </a:lnTo>
                    <a:lnTo>
                      <a:pt x="109" y="1199"/>
                    </a:lnTo>
                    <a:lnTo>
                      <a:pt x="77" y="1176"/>
                    </a:lnTo>
                    <a:lnTo>
                      <a:pt x="50" y="1150"/>
                    </a:lnTo>
                    <a:lnTo>
                      <a:pt x="29" y="1119"/>
                    </a:lnTo>
                    <a:lnTo>
                      <a:pt x="13" y="1087"/>
                    </a:lnTo>
                    <a:lnTo>
                      <a:pt x="4" y="1052"/>
                    </a:lnTo>
                    <a:lnTo>
                      <a:pt x="0" y="1015"/>
                    </a:lnTo>
                    <a:lnTo>
                      <a:pt x="4" y="980"/>
                    </a:lnTo>
                    <a:lnTo>
                      <a:pt x="13" y="945"/>
                    </a:lnTo>
                    <a:lnTo>
                      <a:pt x="29" y="913"/>
                    </a:lnTo>
                    <a:lnTo>
                      <a:pt x="51" y="882"/>
                    </a:lnTo>
                    <a:lnTo>
                      <a:pt x="77" y="857"/>
                    </a:lnTo>
                    <a:lnTo>
                      <a:pt x="110" y="834"/>
                    </a:lnTo>
                    <a:lnTo>
                      <a:pt x="1440" y="36"/>
                    </a:lnTo>
                    <a:lnTo>
                      <a:pt x="1469" y="20"/>
                    </a:lnTo>
                    <a:lnTo>
                      <a:pt x="1499" y="11"/>
                    </a:lnTo>
                    <a:lnTo>
                      <a:pt x="1528" y="5"/>
                    </a:lnTo>
                    <a:lnTo>
                      <a:pt x="1555" y="1"/>
                    </a:lnTo>
                    <a:lnTo>
                      <a:pt x="1578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000" spc="-1" strike="noStrike">
                  <a:solidFill>
                    <a:srgbClr val="000000"/>
                  </a:solidFill>
                  <a:latin typeface="CG Times"/>
                </a:endParaRPr>
              </a:p>
            </p:txBody>
          </p:sp>
          <p:sp>
            <p:nvSpPr>
              <p:cNvPr id="179" name="Freeform 39"/>
              <p:cNvSpPr/>
              <p:nvPr/>
            </p:nvSpPr>
            <p:spPr>
              <a:xfrm>
                <a:off x="7036560" y="2443320"/>
                <a:ext cx="882720" cy="600840"/>
              </a:xfrm>
              <a:custGeom>
                <a:avLst/>
                <a:gdLst/>
                <a:ahLst/>
                <a:rect l="l" t="t" r="r" b="b"/>
                <a:pathLst>
                  <a:path w="2837" h="1715">
                    <a:moveTo>
                      <a:pt x="1417" y="0"/>
                    </a:moveTo>
                    <a:lnTo>
                      <a:pt x="1440" y="1"/>
                    </a:lnTo>
                    <a:lnTo>
                      <a:pt x="1459" y="6"/>
                    </a:lnTo>
                    <a:lnTo>
                      <a:pt x="1475" y="14"/>
                    </a:lnTo>
                    <a:lnTo>
                      <a:pt x="2806" y="812"/>
                    </a:lnTo>
                    <a:lnTo>
                      <a:pt x="2823" y="826"/>
                    </a:lnTo>
                    <a:lnTo>
                      <a:pt x="2834" y="842"/>
                    </a:lnTo>
                    <a:lnTo>
                      <a:pt x="2837" y="858"/>
                    </a:lnTo>
                    <a:lnTo>
                      <a:pt x="2834" y="874"/>
                    </a:lnTo>
                    <a:lnTo>
                      <a:pt x="2823" y="890"/>
                    </a:lnTo>
                    <a:lnTo>
                      <a:pt x="2806" y="903"/>
                    </a:lnTo>
                    <a:lnTo>
                      <a:pt x="1475" y="1703"/>
                    </a:lnTo>
                    <a:lnTo>
                      <a:pt x="1459" y="1710"/>
                    </a:lnTo>
                    <a:lnTo>
                      <a:pt x="1440" y="1714"/>
                    </a:lnTo>
                    <a:lnTo>
                      <a:pt x="1417" y="1715"/>
                    </a:lnTo>
                    <a:lnTo>
                      <a:pt x="1396" y="1714"/>
                    </a:lnTo>
                    <a:lnTo>
                      <a:pt x="1377" y="1710"/>
                    </a:lnTo>
                    <a:lnTo>
                      <a:pt x="1361" y="1703"/>
                    </a:lnTo>
                    <a:lnTo>
                      <a:pt x="30" y="903"/>
                    </a:lnTo>
                    <a:lnTo>
                      <a:pt x="14" y="891"/>
                    </a:lnTo>
                    <a:lnTo>
                      <a:pt x="5" y="878"/>
                    </a:lnTo>
                    <a:lnTo>
                      <a:pt x="0" y="865"/>
                    </a:lnTo>
                    <a:lnTo>
                      <a:pt x="0" y="850"/>
                    </a:lnTo>
                    <a:lnTo>
                      <a:pt x="5" y="837"/>
                    </a:lnTo>
                    <a:lnTo>
                      <a:pt x="14" y="824"/>
                    </a:lnTo>
                    <a:lnTo>
                      <a:pt x="30" y="812"/>
                    </a:lnTo>
                    <a:lnTo>
                      <a:pt x="1361" y="14"/>
                    </a:lnTo>
                    <a:lnTo>
                      <a:pt x="1377" y="6"/>
                    </a:lnTo>
                    <a:lnTo>
                      <a:pt x="1396" y="1"/>
                    </a:lnTo>
                    <a:lnTo>
                      <a:pt x="1417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000" spc="-1" strike="noStrike">
                  <a:solidFill>
                    <a:srgbClr val="000000"/>
                  </a:solidFill>
                  <a:latin typeface="CG Times"/>
                </a:endParaRPr>
              </a:p>
            </p:txBody>
          </p:sp>
          <p:sp>
            <p:nvSpPr>
              <p:cNvPr id="180" name="Freeform 40"/>
              <p:cNvSpPr/>
              <p:nvPr/>
            </p:nvSpPr>
            <p:spPr>
              <a:xfrm>
                <a:off x="7173000" y="2543040"/>
                <a:ext cx="295200" cy="299520"/>
              </a:xfrm>
              <a:custGeom>
                <a:avLst/>
                <a:gdLst/>
                <a:ahLst/>
                <a:rect l="l" t="t" r="r" b="b"/>
                <a:pathLst>
                  <a:path w="954" h="856">
                    <a:moveTo>
                      <a:pt x="224" y="575"/>
                    </a:moveTo>
                    <a:lnTo>
                      <a:pt x="468" y="721"/>
                    </a:lnTo>
                    <a:lnTo>
                      <a:pt x="243" y="856"/>
                    </a:lnTo>
                    <a:lnTo>
                      <a:pt x="0" y="710"/>
                    </a:lnTo>
                    <a:lnTo>
                      <a:pt x="224" y="575"/>
                    </a:lnTo>
                    <a:close/>
                    <a:moveTo>
                      <a:pt x="711" y="282"/>
                    </a:moveTo>
                    <a:lnTo>
                      <a:pt x="954" y="428"/>
                    </a:lnTo>
                    <a:lnTo>
                      <a:pt x="711" y="575"/>
                    </a:lnTo>
                    <a:lnTo>
                      <a:pt x="468" y="428"/>
                    </a:lnTo>
                    <a:lnTo>
                      <a:pt x="711" y="282"/>
                    </a:lnTo>
                    <a:close/>
                    <a:moveTo>
                      <a:pt x="729" y="0"/>
                    </a:moveTo>
                    <a:lnTo>
                      <a:pt x="954" y="136"/>
                    </a:lnTo>
                    <a:lnTo>
                      <a:pt x="711" y="282"/>
                    </a:lnTo>
                    <a:lnTo>
                      <a:pt x="486" y="147"/>
                    </a:lnTo>
                    <a:lnTo>
                      <a:pt x="729" y="0"/>
                    </a:lnTo>
                    <a:close/>
                  </a:path>
                </a:pathLst>
              </a:custGeom>
              <a:solidFill>
                <a:srgbClr val="ddec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000" spc="-1" strike="noStrike">
                  <a:solidFill>
                    <a:srgbClr val="000000"/>
                  </a:solidFill>
                  <a:latin typeface="CG Times"/>
                </a:endParaRPr>
              </a:p>
            </p:txBody>
          </p:sp>
          <p:sp>
            <p:nvSpPr>
              <p:cNvPr id="181" name="Freeform 41"/>
              <p:cNvSpPr/>
              <p:nvPr/>
            </p:nvSpPr>
            <p:spPr>
              <a:xfrm>
                <a:off x="7241400" y="2639880"/>
                <a:ext cx="533160" cy="155520"/>
              </a:xfrm>
              <a:custGeom>
                <a:avLst/>
                <a:gdLst/>
                <a:ahLst/>
                <a:rect l="l" t="t" r="r" b="b"/>
                <a:pathLst>
                  <a:path w="1713" h="444">
                    <a:moveTo>
                      <a:pt x="244" y="151"/>
                    </a:moveTo>
                    <a:lnTo>
                      <a:pt x="487" y="298"/>
                    </a:lnTo>
                    <a:lnTo>
                      <a:pt x="244" y="444"/>
                    </a:lnTo>
                    <a:lnTo>
                      <a:pt x="0" y="298"/>
                    </a:lnTo>
                    <a:lnTo>
                      <a:pt x="244" y="151"/>
                    </a:lnTo>
                    <a:close/>
                    <a:moveTo>
                      <a:pt x="974" y="5"/>
                    </a:moveTo>
                    <a:lnTo>
                      <a:pt x="1217" y="151"/>
                    </a:lnTo>
                    <a:lnTo>
                      <a:pt x="974" y="298"/>
                    </a:lnTo>
                    <a:lnTo>
                      <a:pt x="730" y="151"/>
                    </a:lnTo>
                    <a:lnTo>
                      <a:pt x="974" y="5"/>
                    </a:lnTo>
                    <a:close/>
                    <a:moveTo>
                      <a:pt x="1469" y="0"/>
                    </a:moveTo>
                    <a:lnTo>
                      <a:pt x="1713" y="146"/>
                    </a:lnTo>
                    <a:lnTo>
                      <a:pt x="1460" y="298"/>
                    </a:lnTo>
                    <a:lnTo>
                      <a:pt x="1217" y="151"/>
                    </a:lnTo>
                    <a:lnTo>
                      <a:pt x="1469" y="0"/>
                    </a:lnTo>
                    <a:close/>
                  </a:path>
                </a:pathLst>
              </a:custGeom>
              <a:solidFill>
                <a:srgbClr val="ff863d"/>
              </a:solidFill>
              <a:ln w="0">
                <a:solidFill>
                  <a:srgbClr val="ff863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000" spc="-1" strike="noStrike">
                  <a:solidFill>
                    <a:srgbClr val="000000"/>
                  </a:solidFill>
                  <a:latin typeface="CG Times"/>
                </a:endParaRPr>
              </a:p>
            </p:txBody>
          </p:sp>
          <p:sp>
            <p:nvSpPr>
              <p:cNvPr id="182" name="Freeform 42"/>
              <p:cNvSpPr/>
              <p:nvPr/>
            </p:nvSpPr>
            <p:spPr>
              <a:xfrm>
                <a:off x="7173000" y="2535840"/>
                <a:ext cx="678960" cy="261000"/>
              </a:xfrm>
              <a:custGeom>
                <a:avLst/>
                <a:gdLst/>
                <a:ahLst/>
                <a:rect l="l" t="t" r="r" b="b"/>
                <a:pathLst>
                  <a:path w="2189" h="744">
                    <a:moveTo>
                      <a:pt x="1937" y="440"/>
                    </a:moveTo>
                    <a:lnTo>
                      <a:pt x="2189" y="592"/>
                    </a:lnTo>
                    <a:lnTo>
                      <a:pt x="1937" y="744"/>
                    </a:lnTo>
                    <a:lnTo>
                      <a:pt x="1684" y="592"/>
                    </a:lnTo>
                    <a:lnTo>
                      <a:pt x="1937" y="440"/>
                    </a:lnTo>
                    <a:close/>
                    <a:moveTo>
                      <a:pt x="486" y="164"/>
                    </a:moveTo>
                    <a:lnTo>
                      <a:pt x="711" y="299"/>
                    </a:lnTo>
                    <a:lnTo>
                      <a:pt x="224" y="592"/>
                    </a:lnTo>
                    <a:lnTo>
                      <a:pt x="0" y="457"/>
                    </a:lnTo>
                    <a:lnTo>
                      <a:pt x="486" y="164"/>
                    </a:lnTo>
                    <a:close/>
                    <a:moveTo>
                      <a:pt x="1207" y="0"/>
                    </a:moveTo>
                    <a:lnTo>
                      <a:pt x="1450" y="147"/>
                    </a:lnTo>
                    <a:lnTo>
                      <a:pt x="954" y="445"/>
                    </a:lnTo>
                    <a:lnTo>
                      <a:pt x="711" y="299"/>
                    </a:lnTo>
                    <a:lnTo>
                      <a:pt x="1207" y="0"/>
                    </a:lnTo>
                    <a:close/>
                  </a:path>
                </a:pathLst>
              </a:custGeom>
              <a:solidFill>
                <a:srgbClr val="f7c23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000" spc="-1" strike="noStrike">
                  <a:solidFill>
                    <a:srgbClr val="000000"/>
                  </a:solidFill>
                  <a:latin typeface="CG Times"/>
                </a:endParaRPr>
              </a:p>
            </p:txBody>
          </p:sp>
          <p:sp>
            <p:nvSpPr>
              <p:cNvPr id="183" name="Freeform 43"/>
              <p:cNvSpPr/>
              <p:nvPr/>
            </p:nvSpPr>
            <p:spPr>
              <a:xfrm>
                <a:off x="7247880" y="2692080"/>
                <a:ext cx="447480" cy="201240"/>
              </a:xfrm>
              <a:custGeom>
                <a:avLst/>
                <a:gdLst/>
                <a:ahLst/>
                <a:rect l="l" t="t" r="r" b="b"/>
                <a:pathLst>
                  <a:path w="1441" h="575">
                    <a:moveTo>
                      <a:pt x="225" y="293"/>
                    </a:moveTo>
                    <a:lnTo>
                      <a:pt x="468" y="440"/>
                    </a:lnTo>
                    <a:lnTo>
                      <a:pt x="243" y="575"/>
                    </a:lnTo>
                    <a:lnTo>
                      <a:pt x="0" y="428"/>
                    </a:lnTo>
                    <a:lnTo>
                      <a:pt x="225" y="293"/>
                    </a:lnTo>
                    <a:close/>
                    <a:moveTo>
                      <a:pt x="1198" y="0"/>
                    </a:moveTo>
                    <a:lnTo>
                      <a:pt x="1441" y="147"/>
                    </a:lnTo>
                    <a:lnTo>
                      <a:pt x="1198" y="293"/>
                    </a:lnTo>
                    <a:lnTo>
                      <a:pt x="955" y="147"/>
                    </a:lnTo>
                    <a:lnTo>
                      <a:pt x="1198" y="0"/>
                    </a:lnTo>
                    <a:close/>
                  </a:path>
                </a:pathLst>
              </a:custGeom>
              <a:solidFill>
                <a:srgbClr val="a5fffb"/>
              </a:solidFill>
              <a:ln w="0">
                <a:solidFill>
                  <a:srgbClr val="a5fff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000" spc="-1" strike="noStrike">
                  <a:solidFill>
                    <a:srgbClr val="000000"/>
                  </a:solidFill>
                  <a:latin typeface="CG Times"/>
                </a:endParaRPr>
              </a:p>
            </p:txBody>
          </p:sp>
          <p:sp>
            <p:nvSpPr>
              <p:cNvPr id="184" name="Freeform 44"/>
              <p:cNvSpPr/>
              <p:nvPr/>
            </p:nvSpPr>
            <p:spPr>
              <a:xfrm>
                <a:off x="7317720" y="2744640"/>
                <a:ext cx="457200" cy="207000"/>
              </a:xfrm>
              <a:custGeom>
                <a:avLst/>
                <a:gdLst/>
                <a:ahLst/>
                <a:rect l="l" t="t" r="r" b="b"/>
                <a:pathLst>
                  <a:path w="1469" h="591">
                    <a:moveTo>
                      <a:pt x="730" y="293"/>
                    </a:moveTo>
                    <a:lnTo>
                      <a:pt x="982" y="444"/>
                    </a:lnTo>
                    <a:lnTo>
                      <a:pt x="739" y="591"/>
                    </a:lnTo>
                    <a:lnTo>
                      <a:pt x="486" y="440"/>
                    </a:lnTo>
                    <a:lnTo>
                      <a:pt x="730" y="293"/>
                    </a:lnTo>
                    <a:close/>
                    <a:moveTo>
                      <a:pt x="243" y="293"/>
                    </a:moveTo>
                    <a:lnTo>
                      <a:pt x="486" y="440"/>
                    </a:lnTo>
                    <a:lnTo>
                      <a:pt x="261" y="575"/>
                    </a:lnTo>
                    <a:lnTo>
                      <a:pt x="18" y="428"/>
                    </a:lnTo>
                    <a:lnTo>
                      <a:pt x="243" y="293"/>
                    </a:lnTo>
                    <a:close/>
                    <a:moveTo>
                      <a:pt x="1216" y="0"/>
                    </a:moveTo>
                    <a:lnTo>
                      <a:pt x="1469" y="152"/>
                    </a:lnTo>
                    <a:lnTo>
                      <a:pt x="1225" y="298"/>
                    </a:lnTo>
                    <a:lnTo>
                      <a:pt x="973" y="146"/>
                    </a:lnTo>
                    <a:lnTo>
                      <a:pt x="1216" y="0"/>
                    </a:lnTo>
                    <a:close/>
                    <a:moveTo>
                      <a:pt x="730" y="0"/>
                    </a:moveTo>
                    <a:lnTo>
                      <a:pt x="973" y="146"/>
                    </a:lnTo>
                    <a:lnTo>
                      <a:pt x="730" y="293"/>
                    </a:lnTo>
                    <a:lnTo>
                      <a:pt x="486" y="146"/>
                    </a:lnTo>
                    <a:lnTo>
                      <a:pt x="730" y="0"/>
                    </a:lnTo>
                    <a:close/>
                    <a:moveTo>
                      <a:pt x="243" y="0"/>
                    </a:moveTo>
                    <a:lnTo>
                      <a:pt x="486" y="146"/>
                    </a:lnTo>
                    <a:lnTo>
                      <a:pt x="243" y="293"/>
                    </a:lnTo>
                    <a:lnTo>
                      <a:pt x="0" y="146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b9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000" spc="-1" strike="noStrike">
                  <a:solidFill>
                    <a:srgbClr val="000000"/>
                  </a:solidFill>
                  <a:latin typeface="CG Times"/>
                </a:endParaRPr>
              </a:p>
            </p:txBody>
          </p:sp>
          <p:sp>
            <p:nvSpPr>
              <p:cNvPr id="185" name="Freeform 45"/>
              <p:cNvSpPr/>
              <p:nvPr/>
            </p:nvSpPr>
            <p:spPr>
              <a:xfrm>
                <a:off x="7393680" y="2795400"/>
                <a:ext cx="304920" cy="203400"/>
              </a:xfrm>
              <a:custGeom>
                <a:avLst/>
                <a:gdLst/>
                <a:ahLst/>
                <a:rect l="l" t="t" r="r" b="b"/>
                <a:pathLst>
                  <a:path w="982" h="580">
                    <a:moveTo>
                      <a:pt x="243" y="294"/>
                    </a:moveTo>
                    <a:lnTo>
                      <a:pt x="496" y="445"/>
                    </a:lnTo>
                    <a:lnTo>
                      <a:pt x="270" y="580"/>
                    </a:lnTo>
                    <a:lnTo>
                      <a:pt x="18" y="429"/>
                    </a:lnTo>
                    <a:lnTo>
                      <a:pt x="243" y="294"/>
                    </a:lnTo>
                    <a:close/>
                    <a:moveTo>
                      <a:pt x="730" y="0"/>
                    </a:moveTo>
                    <a:lnTo>
                      <a:pt x="982" y="152"/>
                    </a:lnTo>
                    <a:lnTo>
                      <a:pt x="739" y="298"/>
                    </a:lnTo>
                    <a:lnTo>
                      <a:pt x="487" y="147"/>
                    </a:lnTo>
                    <a:lnTo>
                      <a:pt x="730" y="0"/>
                    </a:lnTo>
                    <a:close/>
                    <a:moveTo>
                      <a:pt x="243" y="0"/>
                    </a:moveTo>
                    <a:lnTo>
                      <a:pt x="487" y="147"/>
                    </a:lnTo>
                    <a:lnTo>
                      <a:pt x="243" y="294"/>
                    </a:lnTo>
                    <a:lnTo>
                      <a:pt x="0" y="147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2271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000" spc="-1" strike="noStrike">
                  <a:solidFill>
                    <a:srgbClr val="000000"/>
                  </a:solidFill>
                  <a:latin typeface="CG Times"/>
                </a:endParaRPr>
              </a:p>
            </p:txBody>
          </p:sp>
          <p:sp>
            <p:nvSpPr>
              <p:cNvPr id="186" name="Freeform 46"/>
              <p:cNvSpPr/>
              <p:nvPr/>
            </p:nvSpPr>
            <p:spPr>
              <a:xfrm>
                <a:off x="7103520" y="2490840"/>
                <a:ext cx="595080" cy="304560"/>
              </a:xfrm>
              <a:custGeom>
                <a:avLst/>
                <a:gdLst/>
                <a:ahLst/>
                <a:rect l="l" t="t" r="r" b="b"/>
                <a:pathLst>
                  <a:path w="1918" h="872">
                    <a:moveTo>
                      <a:pt x="225" y="591"/>
                    </a:moveTo>
                    <a:lnTo>
                      <a:pt x="449" y="726"/>
                    </a:lnTo>
                    <a:lnTo>
                      <a:pt x="225" y="861"/>
                    </a:lnTo>
                    <a:lnTo>
                      <a:pt x="0" y="726"/>
                    </a:lnTo>
                    <a:lnTo>
                      <a:pt x="225" y="591"/>
                    </a:lnTo>
                    <a:close/>
                    <a:moveTo>
                      <a:pt x="1179" y="579"/>
                    </a:moveTo>
                    <a:lnTo>
                      <a:pt x="1423" y="726"/>
                    </a:lnTo>
                    <a:lnTo>
                      <a:pt x="1179" y="872"/>
                    </a:lnTo>
                    <a:lnTo>
                      <a:pt x="936" y="726"/>
                    </a:lnTo>
                    <a:lnTo>
                      <a:pt x="1179" y="579"/>
                    </a:lnTo>
                    <a:close/>
                    <a:moveTo>
                      <a:pt x="1675" y="281"/>
                    </a:moveTo>
                    <a:lnTo>
                      <a:pt x="1918" y="428"/>
                    </a:lnTo>
                    <a:lnTo>
                      <a:pt x="1666" y="579"/>
                    </a:lnTo>
                    <a:lnTo>
                      <a:pt x="1423" y="433"/>
                    </a:lnTo>
                    <a:lnTo>
                      <a:pt x="1675" y="281"/>
                    </a:lnTo>
                    <a:close/>
                    <a:moveTo>
                      <a:pt x="1206" y="0"/>
                    </a:moveTo>
                    <a:lnTo>
                      <a:pt x="1432" y="134"/>
                    </a:lnTo>
                    <a:lnTo>
                      <a:pt x="1179" y="287"/>
                    </a:lnTo>
                    <a:lnTo>
                      <a:pt x="954" y="151"/>
                    </a:lnTo>
                    <a:lnTo>
                      <a:pt x="1206" y="0"/>
                    </a:lnTo>
                    <a:close/>
                  </a:path>
                </a:pathLst>
              </a:custGeom>
              <a:solidFill>
                <a:srgbClr val="aad0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000" spc="-1" strike="noStrike">
                  <a:solidFill>
                    <a:srgbClr val="000000"/>
                  </a:solidFill>
                  <a:latin typeface="CG Times"/>
                </a:endParaRPr>
              </a:p>
            </p:txBody>
          </p:sp>
        </p:grpSp>
        <p:grpSp>
          <p:nvGrpSpPr>
            <p:cNvPr id="187" name="Group 36"/>
            <p:cNvGrpSpPr/>
            <p:nvPr/>
          </p:nvGrpSpPr>
          <p:grpSpPr>
            <a:xfrm>
              <a:off x="6863400" y="2801520"/>
              <a:ext cx="982440" cy="712800"/>
              <a:chOff x="6863400" y="2801520"/>
              <a:chExt cx="982440" cy="712800"/>
            </a:xfrm>
          </p:grpSpPr>
          <p:sp>
            <p:nvSpPr>
              <p:cNvPr id="188" name="Freeform 38"/>
              <p:cNvSpPr/>
              <p:nvPr/>
            </p:nvSpPr>
            <p:spPr>
              <a:xfrm>
                <a:off x="6863400" y="2801520"/>
                <a:ext cx="982440" cy="712800"/>
              </a:xfrm>
              <a:custGeom>
                <a:avLst/>
                <a:gdLst/>
                <a:ahLst/>
                <a:rect l="l" t="t" r="r" b="b"/>
                <a:pathLst>
                  <a:path w="3158" h="2033">
                    <a:moveTo>
                      <a:pt x="1578" y="0"/>
                    </a:moveTo>
                    <a:lnTo>
                      <a:pt x="1603" y="1"/>
                    </a:lnTo>
                    <a:lnTo>
                      <a:pt x="1630" y="5"/>
                    </a:lnTo>
                    <a:lnTo>
                      <a:pt x="1659" y="11"/>
                    </a:lnTo>
                    <a:lnTo>
                      <a:pt x="1688" y="20"/>
                    </a:lnTo>
                    <a:lnTo>
                      <a:pt x="1718" y="36"/>
                    </a:lnTo>
                    <a:lnTo>
                      <a:pt x="3049" y="834"/>
                    </a:lnTo>
                    <a:lnTo>
                      <a:pt x="3081" y="857"/>
                    </a:lnTo>
                    <a:lnTo>
                      <a:pt x="3107" y="884"/>
                    </a:lnTo>
                    <a:lnTo>
                      <a:pt x="3129" y="914"/>
                    </a:lnTo>
                    <a:lnTo>
                      <a:pt x="3145" y="946"/>
                    </a:lnTo>
                    <a:lnTo>
                      <a:pt x="3154" y="981"/>
                    </a:lnTo>
                    <a:lnTo>
                      <a:pt x="3158" y="1018"/>
                    </a:lnTo>
                    <a:lnTo>
                      <a:pt x="3154" y="1053"/>
                    </a:lnTo>
                    <a:lnTo>
                      <a:pt x="3145" y="1088"/>
                    </a:lnTo>
                    <a:lnTo>
                      <a:pt x="3129" y="1121"/>
                    </a:lnTo>
                    <a:lnTo>
                      <a:pt x="3107" y="1150"/>
                    </a:lnTo>
                    <a:lnTo>
                      <a:pt x="3081" y="1176"/>
                    </a:lnTo>
                    <a:lnTo>
                      <a:pt x="3049" y="1199"/>
                    </a:lnTo>
                    <a:lnTo>
                      <a:pt x="1718" y="1998"/>
                    </a:lnTo>
                    <a:lnTo>
                      <a:pt x="1689" y="2013"/>
                    </a:lnTo>
                    <a:lnTo>
                      <a:pt x="1659" y="2024"/>
                    </a:lnTo>
                    <a:lnTo>
                      <a:pt x="1630" y="2030"/>
                    </a:lnTo>
                    <a:lnTo>
                      <a:pt x="1603" y="2033"/>
                    </a:lnTo>
                    <a:lnTo>
                      <a:pt x="1578" y="2033"/>
                    </a:lnTo>
                    <a:lnTo>
                      <a:pt x="1555" y="2033"/>
                    </a:lnTo>
                    <a:lnTo>
                      <a:pt x="1528" y="2030"/>
                    </a:lnTo>
                    <a:lnTo>
                      <a:pt x="1498" y="2024"/>
                    </a:lnTo>
                    <a:lnTo>
                      <a:pt x="1469" y="2013"/>
                    </a:lnTo>
                    <a:lnTo>
                      <a:pt x="1439" y="1997"/>
                    </a:lnTo>
                    <a:lnTo>
                      <a:pt x="109" y="1199"/>
                    </a:lnTo>
                    <a:lnTo>
                      <a:pt x="77" y="1176"/>
                    </a:lnTo>
                    <a:lnTo>
                      <a:pt x="50" y="1150"/>
                    </a:lnTo>
                    <a:lnTo>
                      <a:pt x="29" y="1119"/>
                    </a:lnTo>
                    <a:lnTo>
                      <a:pt x="13" y="1087"/>
                    </a:lnTo>
                    <a:lnTo>
                      <a:pt x="4" y="1052"/>
                    </a:lnTo>
                    <a:lnTo>
                      <a:pt x="0" y="1015"/>
                    </a:lnTo>
                    <a:lnTo>
                      <a:pt x="4" y="980"/>
                    </a:lnTo>
                    <a:lnTo>
                      <a:pt x="13" y="945"/>
                    </a:lnTo>
                    <a:lnTo>
                      <a:pt x="29" y="913"/>
                    </a:lnTo>
                    <a:lnTo>
                      <a:pt x="51" y="882"/>
                    </a:lnTo>
                    <a:lnTo>
                      <a:pt x="77" y="857"/>
                    </a:lnTo>
                    <a:lnTo>
                      <a:pt x="110" y="834"/>
                    </a:lnTo>
                    <a:lnTo>
                      <a:pt x="1440" y="36"/>
                    </a:lnTo>
                    <a:lnTo>
                      <a:pt x="1469" y="20"/>
                    </a:lnTo>
                    <a:lnTo>
                      <a:pt x="1499" y="11"/>
                    </a:lnTo>
                    <a:lnTo>
                      <a:pt x="1528" y="5"/>
                    </a:lnTo>
                    <a:lnTo>
                      <a:pt x="1555" y="1"/>
                    </a:lnTo>
                    <a:lnTo>
                      <a:pt x="1578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000" spc="-1" strike="noStrike">
                  <a:solidFill>
                    <a:srgbClr val="000000"/>
                  </a:solidFill>
                  <a:latin typeface="CG Times"/>
                </a:endParaRPr>
              </a:p>
            </p:txBody>
          </p:sp>
          <p:sp>
            <p:nvSpPr>
              <p:cNvPr id="189" name="Freeform 39"/>
              <p:cNvSpPr/>
              <p:nvPr/>
            </p:nvSpPr>
            <p:spPr>
              <a:xfrm>
                <a:off x="6913080" y="2857320"/>
                <a:ext cx="882720" cy="600840"/>
              </a:xfrm>
              <a:custGeom>
                <a:avLst/>
                <a:gdLst/>
                <a:ahLst/>
                <a:rect l="l" t="t" r="r" b="b"/>
                <a:pathLst>
                  <a:path w="2837" h="1715">
                    <a:moveTo>
                      <a:pt x="1417" y="0"/>
                    </a:moveTo>
                    <a:lnTo>
                      <a:pt x="1440" y="1"/>
                    </a:lnTo>
                    <a:lnTo>
                      <a:pt x="1459" y="6"/>
                    </a:lnTo>
                    <a:lnTo>
                      <a:pt x="1475" y="14"/>
                    </a:lnTo>
                    <a:lnTo>
                      <a:pt x="2806" y="812"/>
                    </a:lnTo>
                    <a:lnTo>
                      <a:pt x="2823" y="826"/>
                    </a:lnTo>
                    <a:lnTo>
                      <a:pt x="2834" y="842"/>
                    </a:lnTo>
                    <a:lnTo>
                      <a:pt x="2837" y="858"/>
                    </a:lnTo>
                    <a:lnTo>
                      <a:pt x="2834" y="874"/>
                    </a:lnTo>
                    <a:lnTo>
                      <a:pt x="2823" y="890"/>
                    </a:lnTo>
                    <a:lnTo>
                      <a:pt x="2806" y="903"/>
                    </a:lnTo>
                    <a:lnTo>
                      <a:pt x="1475" y="1703"/>
                    </a:lnTo>
                    <a:lnTo>
                      <a:pt x="1459" y="1710"/>
                    </a:lnTo>
                    <a:lnTo>
                      <a:pt x="1440" y="1714"/>
                    </a:lnTo>
                    <a:lnTo>
                      <a:pt x="1417" y="1715"/>
                    </a:lnTo>
                    <a:lnTo>
                      <a:pt x="1396" y="1714"/>
                    </a:lnTo>
                    <a:lnTo>
                      <a:pt x="1377" y="1710"/>
                    </a:lnTo>
                    <a:lnTo>
                      <a:pt x="1361" y="1703"/>
                    </a:lnTo>
                    <a:lnTo>
                      <a:pt x="30" y="903"/>
                    </a:lnTo>
                    <a:lnTo>
                      <a:pt x="14" y="891"/>
                    </a:lnTo>
                    <a:lnTo>
                      <a:pt x="5" y="878"/>
                    </a:lnTo>
                    <a:lnTo>
                      <a:pt x="0" y="865"/>
                    </a:lnTo>
                    <a:lnTo>
                      <a:pt x="0" y="850"/>
                    </a:lnTo>
                    <a:lnTo>
                      <a:pt x="5" y="837"/>
                    </a:lnTo>
                    <a:lnTo>
                      <a:pt x="14" y="824"/>
                    </a:lnTo>
                    <a:lnTo>
                      <a:pt x="30" y="812"/>
                    </a:lnTo>
                    <a:lnTo>
                      <a:pt x="1361" y="14"/>
                    </a:lnTo>
                    <a:lnTo>
                      <a:pt x="1377" y="6"/>
                    </a:lnTo>
                    <a:lnTo>
                      <a:pt x="1396" y="1"/>
                    </a:lnTo>
                    <a:lnTo>
                      <a:pt x="1417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000" spc="-1" strike="noStrike">
                  <a:solidFill>
                    <a:srgbClr val="000000"/>
                  </a:solidFill>
                  <a:latin typeface="CG Times"/>
                </a:endParaRPr>
              </a:p>
            </p:txBody>
          </p:sp>
          <p:sp>
            <p:nvSpPr>
              <p:cNvPr id="190" name="Freeform 40"/>
              <p:cNvSpPr/>
              <p:nvPr/>
            </p:nvSpPr>
            <p:spPr>
              <a:xfrm>
                <a:off x="7049520" y="2957040"/>
                <a:ext cx="295200" cy="299520"/>
              </a:xfrm>
              <a:custGeom>
                <a:avLst/>
                <a:gdLst/>
                <a:ahLst/>
                <a:rect l="l" t="t" r="r" b="b"/>
                <a:pathLst>
                  <a:path w="954" h="856">
                    <a:moveTo>
                      <a:pt x="224" y="575"/>
                    </a:moveTo>
                    <a:lnTo>
                      <a:pt x="468" y="721"/>
                    </a:lnTo>
                    <a:lnTo>
                      <a:pt x="243" y="856"/>
                    </a:lnTo>
                    <a:lnTo>
                      <a:pt x="0" y="710"/>
                    </a:lnTo>
                    <a:lnTo>
                      <a:pt x="224" y="575"/>
                    </a:lnTo>
                    <a:close/>
                    <a:moveTo>
                      <a:pt x="711" y="282"/>
                    </a:moveTo>
                    <a:lnTo>
                      <a:pt x="954" y="428"/>
                    </a:lnTo>
                    <a:lnTo>
                      <a:pt x="711" y="575"/>
                    </a:lnTo>
                    <a:lnTo>
                      <a:pt x="468" y="428"/>
                    </a:lnTo>
                    <a:lnTo>
                      <a:pt x="711" y="282"/>
                    </a:lnTo>
                    <a:close/>
                    <a:moveTo>
                      <a:pt x="729" y="0"/>
                    </a:moveTo>
                    <a:lnTo>
                      <a:pt x="954" y="136"/>
                    </a:lnTo>
                    <a:lnTo>
                      <a:pt x="711" y="282"/>
                    </a:lnTo>
                    <a:lnTo>
                      <a:pt x="486" y="147"/>
                    </a:lnTo>
                    <a:lnTo>
                      <a:pt x="729" y="0"/>
                    </a:lnTo>
                    <a:close/>
                  </a:path>
                </a:pathLst>
              </a:custGeom>
              <a:solidFill>
                <a:srgbClr val="ddec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000" spc="-1" strike="noStrike">
                  <a:solidFill>
                    <a:srgbClr val="000000"/>
                  </a:solidFill>
                  <a:latin typeface="CG Times"/>
                </a:endParaRPr>
              </a:p>
            </p:txBody>
          </p:sp>
          <p:sp>
            <p:nvSpPr>
              <p:cNvPr id="191" name="Freeform 41"/>
              <p:cNvSpPr/>
              <p:nvPr/>
            </p:nvSpPr>
            <p:spPr>
              <a:xfrm>
                <a:off x="7117920" y="3053880"/>
                <a:ext cx="533160" cy="155520"/>
              </a:xfrm>
              <a:custGeom>
                <a:avLst/>
                <a:gdLst/>
                <a:ahLst/>
                <a:rect l="l" t="t" r="r" b="b"/>
                <a:pathLst>
                  <a:path w="1713" h="444">
                    <a:moveTo>
                      <a:pt x="244" y="151"/>
                    </a:moveTo>
                    <a:lnTo>
                      <a:pt x="487" y="298"/>
                    </a:lnTo>
                    <a:lnTo>
                      <a:pt x="244" y="444"/>
                    </a:lnTo>
                    <a:lnTo>
                      <a:pt x="0" y="298"/>
                    </a:lnTo>
                    <a:lnTo>
                      <a:pt x="244" y="151"/>
                    </a:lnTo>
                    <a:close/>
                    <a:moveTo>
                      <a:pt x="974" y="5"/>
                    </a:moveTo>
                    <a:lnTo>
                      <a:pt x="1217" y="151"/>
                    </a:lnTo>
                    <a:lnTo>
                      <a:pt x="974" y="298"/>
                    </a:lnTo>
                    <a:lnTo>
                      <a:pt x="730" y="151"/>
                    </a:lnTo>
                    <a:lnTo>
                      <a:pt x="974" y="5"/>
                    </a:lnTo>
                    <a:close/>
                    <a:moveTo>
                      <a:pt x="1469" y="0"/>
                    </a:moveTo>
                    <a:lnTo>
                      <a:pt x="1713" y="146"/>
                    </a:lnTo>
                    <a:lnTo>
                      <a:pt x="1460" y="298"/>
                    </a:lnTo>
                    <a:lnTo>
                      <a:pt x="1217" y="151"/>
                    </a:lnTo>
                    <a:lnTo>
                      <a:pt x="1469" y="0"/>
                    </a:lnTo>
                    <a:close/>
                  </a:path>
                </a:pathLst>
              </a:custGeom>
              <a:solidFill>
                <a:srgbClr val="ff863d"/>
              </a:solidFill>
              <a:ln w="0">
                <a:solidFill>
                  <a:srgbClr val="ff863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000" spc="-1" strike="noStrike">
                  <a:solidFill>
                    <a:srgbClr val="000000"/>
                  </a:solidFill>
                  <a:latin typeface="CG Times"/>
                </a:endParaRPr>
              </a:p>
            </p:txBody>
          </p:sp>
          <p:sp>
            <p:nvSpPr>
              <p:cNvPr id="192" name="Freeform 42"/>
              <p:cNvSpPr/>
              <p:nvPr/>
            </p:nvSpPr>
            <p:spPr>
              <a:xfrm>
                <a:off x="7049520" y="2949840"/>
                <a:ext cx="678960" cy="261000"/>
              </a:xfrm>
              <a:custGeom>
                <a:avLst/>
                <a:gdLst/>
                <a:ahLst/>
                <a:rect l="l" t="t" r="r" b="b"/>
                <a:pathLst>
                  <a:path w="2189" h="744">
                    <a:moveTo>
                      <a:pt x="1937" y="440"/>
                    </a:moveTo>
                    <a:lnTo>
                      <a:pt x="2189" y="592"/>
                    </a:lnTo>
                    <a:lnTo>
                      <a:pt x="1937" y="744"/>
                    </a:lnTo>
                    <a:lnTo>
                      <a:pt x="1684" y="592"/>
                    </a:lnTo>
                    <a:lnTo>
                      <a:pt x="1937" y="440"/>
                    </a:lnTo>
                    <a:close/>
                    <a:moveTo>
                      <a:pt x="486" y="164"/>
                    </a:moveTo>
                    <a:lnTo>
                      <a:pt x="711" y="299"/>
                    </a:lnTo>
                    <a:lnTo>
                      <a:pt x="224" y="592"/>
                    </a:lnTo>
                    <a:lnTo>
                      <a:pt x="0" y="457"/>
                    </a:lnTo>
                    <a:lnTo>
                      <a:pt x="486" y="164"/>
                    </a:lnTo>
                    <a:close/>
                    <a:moveTo>
                      <a:pt x="1207" y="0"/>
                    </a:moveTo>
                    <a:lnTo>
                      <a:pt x="1450" y="147"/>
                    </a:lnTo>
                    <a:lnTo>
                      <a:pt x="954" y="445"/>
                    </a:lnTo>
                    <a:lnTo>
                      <a:pt x="711" y="299"/>
                    </a:lnTo>
                    <a:lnTo>
                      <a:pt x="1207" y="0"/>
                    </a:lnTo>
                    <a:close/>
                  </a:path>
                </a:pathLst>
              </a:custGeom>
              <a:solidFill>
                <a:srgbClr val="f7c23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000" spc="-1" strike="noStrike">
                  <a:solidFill>
                    <a:srgbClr val="000000"/>
                  </a:solidFill>
                  <a:latin typeface="CG Times"/>
                </a:endParaRPr>
              </a:p>
            </p:txBody>
          </p:sp>
          <p:sp>
            <p:nvSpPr>
              <p:cNvPr id="193" name="Freeform 43"/>
              <p:cNvSpPr/>
              <p:nvPr/>
            </p:nvSpPr>
            <p:spPr>
              <a:xfrm>
                <a:off x="7124400" y="3106080"/>
                <a:ext cx="447480" cy="201240"/>
              </a:xfrm>
              <a:custGeom>
                <a:avLst/>
                <a:gdLst/>
                <a:ahLst/>
                <a:rect l="l" t="t" r="r" b="b"/>
                <a:pathLst>
                  <a:path w="1441" h="575">
                    <a:moveTo>
                      <a:pt x="225" y="293"/>
                    </a:moveTo>
                    <a:lnTo>
                      <a:pt x="468" y="440"/>
                    </a:lnTo>
                    <a:lnTo>
                      <a:pt x="243" y="575"/>
                    </a:lnTo>
                    <a:lnTo>
                      <a:pt x="0" y="428"/>
                    </a:lnTo>
                    <a:lnTo>
                      <a:pt x="225" y="293"/>
                    </a:lnTo>
                    <a:close/>
                    <a:moveTo>
                      <a:pt x="1198" y="0"/>
                    </a:moveTo>
                    <a:lnTo>
                      <a:pt x="1441" y="147"/>
                    </a:lnTo>
                    <a:lnTo>
                      <a:pt x="1198" y="293"/>
                    </a:lnTo>
                    <a:lnTo>
                      <a:pt x="955" y="147"/>
                    </a:lnTo>
                    <a:lnTo>
                      <a:pt x="1198" y="0"/>
                    </a:lnTo>
                    <a:close/>
                  </a:path>
                </a:pathLst>
              </a:custGeom>
              <a:solidFill>
                <a:srgbClr val="a5fffb"/>
              </a:solidFill>
              <a:ln w="0">
                <a:solidFill>
                  <a:srgbClr val="a5fff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000" spc="-1" strike="noStrike">
                  <a:solidFill>
                    <a:srgbClr val="000000"/>
                  </a:solidFill>
                  <a:latin typeface="CG Times"/>
                </a:endParaRPr>
              </a:p>
            </p:txBody>
          </p:sp>
          <p:sp>
            <p:nvSpPr>
              <p:cNvPr id="194" name="Freeform 44"/>
              <p:cNvSpPr/>
              <p:nvPr/>
            </p:nvSpPr>
            <p:spPr>
              <a:xfrm>
                <a:off x="7194240" y="3158640"/>
                <a:ext cx="457200" cy="207000"/>
              </a:xfrm>
              <a:custGeom>
                <a:avLst/>
                <a:gdLst/>
                <a:ahLst/>
                <a:rect l="l" t="t" r="r" b="b"/>
                <a:pathLst>
                  <a:path w="1469" h="591">
                    <a:moveTo>
                      <a:pt x="730" y="293"/>
                    </a:moveTo>
                    <a:lnTo>
                      <a:pt x="982" y="444"/>
                    </a:lnTo>
                    <a:lnTo>
                      <a:pt x="739" y="591"/>
                    </a:lnTo>
                    <a:lnTo>
                      <a:pt x="486" y="440"/>
                    </a:lnTo>
                    <a:lnTo>
                      <a:pt x="730" y="293"/>
                    </a:lnTo>
                    <a:close/>
                    <a:moveTo>
                      <a:pt x="243" y="293"/>
                    </a:moveTo>
                    <a:lnTo>
                      <a:pt x="486" y="440"/>
                    </a:lnTo>
                    <a:lnTo>
                      <a:pt x="261" y="575"/>
                    </a:lnTo>
                    <a:lnTo>
                      <a:pt x="18" y="428"/>
                    </a:lnTo>
                    <a:lnTo>
                      <a:pt x="243" y="293"/>
                    </a:lnTo>
                    <a:close/>
                    <a:moveTo>
                      <a:pt x="1216" y="0"/>
                    </a:moveTo>
                    <a:lnTo>
                      <a:pt x="1469" y="152"/>
                    </a:lnTo>
                    <a:lnTo>
                      <a:pt x="1225" y="298"/>
                    </a:lnTo>
                    <a:lnTo>
                      <a:pt x="973" y="146"/>
                    </a:lnTo>
                    <a:lnTo>
                      <a:pt x="1216" y="0"/>
                    </a:lnTo>
                    <a:close/>
                    <a:moveTo>
                      <a:pt x="730" y="0"/>
                    </a:moveTo>
                    <a:lnTo>
                      <a:pt x="973" y="146"/>
                    </a:lnTo>
                    <a:lnTo>
                      <a:pt x="730" y="293"/>
                    </a:lnTo>
                    <a:lnTo>
                      <a:pt x="486" y="146"/>
                    </a:lnTo>
                    <a:lnTo>
                      <a:pt x="730" y="0"/>
                    </a:lnTo>
                    <a:close/>
                    <a:moveTo>
                      <a:pt x="243" y="0"/>
                    </a:moveTo>
                    <a:lnTo>
                      <a:pt x="486" y="146"/>
                    </a:lnTo>
                    <a:lnTo>
                      <a:pt x="243" y="293"/>
                    </a:lnTo>
                    <a:lnTo>
                      <a:pt x="0" y="146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b9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000" spc="-1" strike="noStrike">
                  <a:solidFill>
                    <a:srgbClr val="000000"/>
                  </a:solidFill>
                  <a:latin typeface="CG Times"/>
                </a:endParaRPr>
              </a:p>
            </p:txBody>
          </p:sp>
          <p:sp>
            <p:nvSpPr>
              <p:cNvPr id="195" name="Freeform 45"/>
              <p:cNvSpPr/>
              <p:nvPr/>
            </p:nvSpPr>
            <p:spPr>
              <a:xfrm>
                <a:off x="7270200" y="3209400"/>
                <a:ext cx="304920" cy="203400"/>
              </a:xfrm>
              <a:custGeom>
                <a:avLst/>
                <a:gdLst/>
                <a:ahLst/>
                <a:rect l="l" t="t" r="r" b="b"/>
                <a:pathLst>
                  <a:path w="982" h="580">
                    <a:moveTo>
                      <a:pt x="243" y="294"/>
                    </a:moveTo>
                    <a:lnTo>
                      <a:pt x="496" y="445"/>
                    </a:lnTo>
                    <a:lnTo>
                      <a:pt x="270" y="580"/>
                    </a:lnTo>
                    <a:lnTo>
                      <a:pt x="18" y="429"/>
                    </a:lnTo>
                    <a:lnTo>
                      <a:pt x="243" y="294"/>
                    </a:lnTo>
                    <a:close/>
                    <a:moveTo>
                      <a:pt x="730" y="0"/>
                    </a:moveTo>
                    <a:lnTo>
                      <a:pt x="982" y="152"/>
                    </a:lnTo>
                    <a:lnTo>
                      <a:pt x="739" y="298"/>
                    </a:lnTo>
                    <a:lnTo>
                      <a:pt x="487" y="147"/>
                    </a:lnTo>
                    <a:lnTo>
                      <a:pt x="730" y="0"/>
                    </a:lnTo>
                    <a:close/>
                    <a:moveTo>
                      <a:pt x="243" y="0"/>
                    </a:moveTo>
                    <a:lnTo>
                      <a:pt x="487" y="147"/>
                    </a:lnTo>
                    <a:lnTo>
                      <a:pt x="243" y="294"/>
                    </a:lnTo>
                    <a:lnTo>
                      <a:pt x="0" y="147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2271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000" spc="-1" strike="noStrike">
                  <a:solidFill>
                    <a:srgbClr val="000000"/>
                  </a:solidFill>
                  <a:latin typeface="CG Times"/>
                </a:endParaRPr>
              </a:p>
            </p:txBody>
          </p:sp>
          <p:sp>
            <p:nvSpPr>
              <p:cNvPr id="196" name="Freeform 46"/>
              <p:cNvSpPr/>
              <p:nvPr/>
            </p:nvSpPr>
            <p:spPr>
              <a:xfrm>
                <a:off x="6980040" y="2904840"/>
                <a:ext cx="595080" cy="304560"/>
              </a:xfrm>
              <a:custGeom>
                <a:avLst/>
                <a:gdLst/>
                <a:ahLst/>
                <a:rect l="l" t="t" r="r" b="b"/>
                <a:pathLst>
                  <a:path w="1918" h="872">
                    <a:moveTo>
                      <a:pt x="225" y="591"/>
                    </a:moveTo>
                    <a:lnTo>
                      <a:pt x="449" y="726"/>
                    </a:lnTo>
                    <a:lnTo>
                      <a:pt x="225" y="861"/>
                    </a:lnTo>
                    <a:lnTo>
                      <a:pt x="0" y="726"/>
                    </a:lnTo>
                    <a:lnTo>
                      <a:pt x="225" y="591"/>
                    </a:lnTo>
                    <a:close/>
                    <a:moveTo>
                      <a:pt x="1179" y="579"/>
                    </a:moveTo>
                    <a:lnTo>
                      <a:pt x="1423" y="726"/>
                    </a:lnTo>
                    <a:lnTo>
                      <a:pt x="1179" y="872"/>
                    </a:lnTo>
                    <a:lnTo>
                      <a:pt x="936" y="726"/>
                    </a:lnTo>
                    <a:lnTo>
                      <a:pt x="1179" y="579"/>
                    </a:lnTo>
                    <a:close/>
                    <a:moveTo>
                      <a:pt x="1675" y="281"/>
                    </a:moveTo>
                    <a:lnTo>
                      <a:pt x="1918" y="428"/>
                    </a:lnTo>
                    <a:lnTo>
                      <a:pt x="1666" y="579"/>
                    </a:lnTo>
                    <a:lnTo>
                      <a:pt x="1423" y="433"/>
                    </a:lnTo>
                    <a:lnTo>
                      <a:pt x="1675" y="281"/>
                    </a:lnTo>
                    <a:close/>
                    <a:moveTo>
                      <a:pt x="1206" y="0"/>
                    </a:moveTo>
                    <a:lnTo>
                      <a:pt x="1432" y="134"/>
                    </a:lnTo>
                    <a:lnTo>
                      <a:pt x="1179" y="287"/>
                    </a:lnTo>
                    <a:lnTo>
                      <a:pt x="954" y="151"/>
                    </a:lnTo>
                    <a:lnTo>
                      <a:pt x="1206" y="0"/>
                    </a:lnTo>
                    <a:close/>
                  </a:path>
                </a:pathLst>
              </a:custGeom>
              <a:solidFill>
                <a:srgbClr val="aad0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000" spc="-1" strike="noStrike">
                  <a:solidFill>
                    <a:srgbClr val="000000"/>
                  </a:solidFill>
                  <a:latin typeface="CG Times"/>
                </a:endParaRPr>
              </a:p>
            </p:txBody>
          </p:sp>
        </p:grpSp>
        <p:grpSp>
          <p:nvGrpSpPr>
            <p:cNvPr id="197" name="Group 36"/>
            <p:cNvGrpSpPr/>
            <p:nvPr/>
          </p:nvGrpSpPr>
          <p:grpSpPr>
            <a:xfrm>
              <a:off x="6373440" y="2652480"/>
              <a:ext cx="982440" cy="712800"/>
              <a:chOff x="6373440" y="2652480"/>
              <a:chExt cx="982440" cy="712800"/>
            </a:xfrm>
          </p:grpSpPr>
          <p:sp>
            <p:nvSpPr>
              <p:cNvPr id="198" name="Freeform 38"/>
              <p:cNvSpPr/>
              <p:nvPr/>
            </p:nvSpPr>
            <p:spPr>
              <a:xfrm>
                <a:off x="6373440" y="2652480"/>
                <a:ext cx="982440" cy="712800"/>
              </a:xfrm>
              <a:custGeom>
                <a:avLst/>
                <a:gdLst/>
                <a:ahLst/>
                <a:rect l="l" t="t" r="r" b="b"/>
                <a:pathLst>
                  <a:path w="3158" h="2033">
                    <a:moveTo>
                      <a:pt x="1578" y="0"/>
                    </a:moveTo>
                    <a:lnTo>
                      <a:pt x="1603" y="1"/>
                    </a:lnTo>
                    <a:lnTo>
                      <a:pt x="1630" y="5"/>
                    </a:lnTo>
                    <a:lnTo>
                      <a:pt x="1659" y="11"/>
                    </a:lnTo>
                    <a:lnTo>
                      <a:pt x="1688" y="20"/>
                    </a:lnTo>
                    <a:lnTo>
                      <a:pt x="1718" y="36"/>
                    </a:lnTo>
                    <a:lnTo>
                      <a:pt x="3049" y="834"/>
                    </a:lnTo>
                    <a:lnTo>
                      <a:pt x="3081" y="857"/>
                    </a:lnTo>
                    <a:lnTo>
                      <a:pt x="3107" y="884"/>
                    </a:lnTo>
                    <a:lnTo>
                      <a:pt x="3129" y="914"/>
                    </a:lnTo>
                    <a:lnTo>
                      <a:pt x="3145" y="946"/>
                    </a:lnTo>
                    <a:lnTo>
                      <a:pt x="3154" y="981"/>
                    </a:lnTo>
                    <a:lnTo>
                      <a:pt x="3158" y="1018"/>
                    </a:lnTo>
                    <a:lnTo>
                      <a:pt x="3154" y="1053"/>
                    </a:lnTo>
                    <a:lnTo>
                      <a:pt x="3145" y="1088"/>
                    </a:lnTo>
                    <a:lnTo>
                      <a:pt x="3129" y="1121"/>
                    </a:lnTo>
                    <a:lnTo>
                      <a:pt x="3107" y="1150"/>
                    </a:lnTo>
                    <a:lnTo>
                      <a:pt x="3081" y="1176"/>
                    </a:lnTo>
                    <a:lnTo>
                      <a:pt x="3049" y="1199"/>
                    </a:lnTo>
                    <a:lnTo>
                      <a:pt x="1718" y="1998"/>
                    </a:lnTo>
                    <a:lnTo>
                      <a:pt x="1689" y="2013"/>
                    </a:lnTo>
                    <a:lnTo>
                      <a:pt x="1659" y="2024"/>
                    </a:lnTo>
                    <a:lnTo>
                      <a:pt x="1630" y="2030"/>
                    </a:lnTo>
                    <a:lnTo>
                      <a:pt x="1603" y="2033"/>
                    </a:lnTo>
                    <a:lnTo>
                      <a:pt x="1578" y="2033"/>
                    </a:lnTo>
                    <a:lnTo>
                      <a:pt x="1555" y="2033"/>
                    </a:lnTo>
                    <a:lnTo>
                      <a:pt x="1528" y="2030"/>
                    </a:lnTo>
                    <a:lnTo>
                      <a:pt x="1498" y="2024"/>
                    </a:lnTo>
                    <a:lnTo>
                      <a:pt x="1469" y="2013"/>
                    </a:lnTo>
                    <a:lnTo>
                      <a:pt x="1439" y="1997"/>
                    </a:lnTo>
                    <a:lnTo>
                      <a:pt x="109" y="1199"/>
                    </a:lnTo>
                    <a:lnTo>
                      <a:pt x="77" y="1176"/>
                    </a:lnTo>
                    <a:lnTo>
                      <a:pt x="50" y="1150"/>
                    </a:lnTo>
                    <a:lnTo>
                      <a:pt x="29" y="1119"/>
                    </a:lnTo>
                    <a:lnTo>
                      <a:pt x="13" y="1087"/>
                    </a:lnTo>
                    <a:lnTo>
                      <a:pt x="4" y="1052"/>
                    </a:lnTo>
                    <a:lnTo>
                      <a:pt x="0" y="1015"/>
                    </a:lnTo>
                    <a:lnTo>
                      <a:pt x="4" y="980"/>
                    </a:lnTo>
                    <a:lnTo>
                      <a:pt x="13" y="945"/>
                    </a:lnTo>
                    <a:lnTo>
                      <a:pt x="29" y="913"/>
                    </a:lnTo>
                    <a:lnTo>
                      <a:pt x="51" y="882"/>
                    </a:lnTo>
                    <a:lnTo>
                      <a:pt x="77" y="857"/>
                    </a:lnTo>
                    <a:lnTo>
                      <a:pt x="110" y="834"/>
                    </a:lnTo>
                    <a:lnTo>
                      <a:pt x="1440" y="36"/>
                    </a:lnTo>
                    <a:lnTo>
                      <a:pt x="1469" y="20"/>
                    </a:lnTo>
                    <a:lnTo>
                      <a:pt x="1499" y="11"/>
                    </a:lnTo>
                    <a:lnTo>
                      <a:pt x="1528" y="5"/>
                    </a:lnTo>
                    <a:lnTo>
                      <a:pt x="1555" y="1"/>
                    </a:lnTo>
                    <a:lnTo>
                      <a:pt x="1578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000" spc="-1" strike="noStrike">
                  <a:solidFill>
                    <a:srgbClr val="000000"/>
                  </a:solidFill>
                  <a:latin typeface="CG Times"/>
                </a:endParaRPr>
              </a:p>
            </p:txBody>
          </p:sp>
          <p:sp>
            <p:nvSpPr>
              <p:cNvPr id="199" name="Freeform 39"/>
              <p:cNvSpPr/>
              <p:nvPr/>
            </p:nvSpPr>
            <p:spPr>
              <a:xfrm>
                <a:off x="6423120" y="2708280"/>
                <a:ext cx="882720" cy="600840"/>
              </a:xfrm>
              <a:custGeom>
                <a:avLst/>
                <a:gdLst/>
                <a:ahLst/>
                <a:rect l="l" t="t" r="r" b="b"/>
                <a:pathLst>
                  <a:path w="2837" h="1715">
                    <a:moveTo>
                      <a:pt x="1417" y="0"/>
                    </a:moveTo>
                    <a:lnTo>
                      <a:pt x="1440" y="1"/>
                    </a:lnTo>
                    <a:lnTo>
                      <a:pt x="1459" y="6"/>
                    </a:lnTo>
                    <a:lnTo>
                      <a:pt x="1475" y="14"/>
                    </a:lnTo>
                    <a:lnTo>
                      <a:pt x="2806" y="812"/>
                    </a:lnTo>
                    <a:lnTo>
                      <a:pt x="2823" y="826"/>
                    </a:lnTo>
                    <a:lnTo>
                      <a:pt x="2834" y="842"/>
                    </a:lnTo>
                    <a:lnTo>
                      <a:pt x="2837" y="858"/>
                    </a:lnTo>
                    <a:lnTo>
                      <a:pt x="2834" y="874"/>
                    </a:lnTo>
                    <a:lnTo>
                      <a:pt x="2823" y="890"/>
                    </a:lnTo>
                    <a:lnTo>
                      <a:pt x="2806" y="903"/>
                    </a:lnTo>
                    <a:lnTo>
                      <a:pt x="1475" y="1703"/>
                    </a:lnTo>
                    <a:lnTo>
                      <a:pt x="1459" y="1710"/>
                    </a:lnTo>
                    <a:lnTo>
                      <a:pt x="1440" y="1714"/>
                    </a:lnTo>
                    <a:lnTo>
                      <a:pt x="1417" y="1715"/>
                    </a:lnTo>
                    <a:lnTo>
                      <a:pt x="1396" y="1714"/>
                    </a:lnTo>
                    <a:lnTo>
                      <a:pt x="1377" y="1710"/>
                    </a:lnTo>
                    <a:lnTo>
                      <a:pt x="1361" y="1703"/>
                    </a:lnTo>
                    <a:lnTo>
                      <a:pt x="30" y="903"/>
                    </a:lnTo>
                    <a:lnTo>
                      <a:pt x="14" y="891"/>
                    </a:lnTo>
                    <a:lnTo>
                      <a:pt x="5" y="878"/>
                    </a:lnTo>
                    <a:lnTo>
                      <a:pt x="0" y="865"/>
                    </a:lnTo>
                    <a:lnTo>
                      <a:pt x="0" y="850"/>
                    </a:lnTo>
                    <a:lnTo>
                      <a:pt x="5" y="837"/>
                    </a:lnTo>
                    <a:lnTo>
                      <a:pt x="14" y="824"/>
                    </a:lnTo>
                    <a:lnTo>
                      <a:pt x="30" y="812"/>
                    </a:lnTo>
                    <a:lnTo>
                      <a:pt x="1361" y="14"/>
                    </a:lnTo>
                    <a:lnTo>
                      <a:pt x="1377" y="6"/>
                    </a:lnTo>
                    <a:lnTo>
                      <a:pt x="1396" y="1"/>
                    </a:lnTo>
                    <a:lnTo>
                      <a:pt x="1417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000" spc="-1" strike="noStrike">
                  <a:solidFill>
                    <a:srgbClr val="000000"/>
                  </a:solidFill>
                  <a:latin typeface="CG Times"/>
                </a:endParaRPr>
              </a:p>
            </p:txBody>
          </p:sp>
          <p:sp>
            <p:nvSpPr>
              <p:cNvPr id="200" name="Freeform 40"/>
              <p:cNvSpPr/>
              <p:nvPr/>
            </p:nvSpPr>
            <p:spPr>
              <a:xfrm>
                <a:off x="6559560" y="2808000"/>
                <a:ext cx="295200" cy="299520"/>
              </a:xfrm>
              <a:custGeom>
                <a:avLst/>
                <a:gdLst/>
                <a:ahLst/>
                <a:rect l="l" t="t" r="r" b="b"/>
                <a:pathLst>
                  <a:path w="954" h="856">
                    <a:moveTo>
                      <a:pt x="224" y="575"/>
                    </a:moveTo>
                    <a:lnTo>
                      <a:pt x="468" y="721"/>
                    </a:lnTo>
                    <a:lnTo>
                      <a:pt x="243" y="856"/>
                    </a:lnTo>
                    <a:lnTo>
                      <a:pt x="0" y="710"/>
                    </a:lnTo>
                    <a:lnTo>
                      <a:pt x="224" y="575"/>
                    </a:lnTo>
                    <a:close/>
                    <a:moveTo>
                      <a:pt x="711" y="282"/>
                    </a:moveTo>
                    <a:lnTo>
                      <a:pt x="954" y="428"/>
                    </a:lnTo>
                    <a:lnTo>
                      <a:pt x="711" y="575"/>
                    </a:lnTo>
                    <a:lnTo>
                      <a:pt x="468" y="428"/>
                    </a:lnTo>
                    <a:lnTo>
                      <a:pt x="711" y="282"/>
                    </a:lnTo>
                    <a:close/>
                    <a:moveTo>
                      <a:pt x="729" y="0"/>
                    </a:moveTo>
                    <a:lnTo>
                      <a:pt x="954" y="136"/>
                    </a:lnTo>
                    <a:lnTo>
                      <a:pt x="711" y="282"/>
                    </a:lnTo>
                    <a:lnTo>
                      <a:pt x="486" y="147"/>
                    </a:lnTo>
                    <a:lnTo>
                      <a:pt x="729" y="0"/>
                    </a:lnTo>
                    <a:close/>
                  </a:path>
                </a:pathLst>
              </a:custGeom>
              <a:solidFill>
                <a:srgbClr val="ddec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000" spc="-1" strike="noStrike">
                  <a:solidFill>
                    <a:srgbClr val="000000"/>
                  </a:solidFill>
                  <a:latin typeface="CG Times"/>
                </a:endParaRPr>
              </a:p>
            </p:txBody>
          </p:sp>
          <p:sp>
            <p:nvSpPr>
              <p:cNvPr id="201" name="Freeform 41"/>
              <p:cNvSpPr/>
              <p:nvPr/>
            </p:nvSpPr>
            <p:spPr>
              <a:xfrm>
                <a:off x="6627960" y="2904840"/>
                <a:ext cx="533160" cy="155520"/>
              </a:xfrm>
              <a:custGeom>
                <a:avLst/>
                <a:gdLst/>
                <a:ahLst/>
                <a:rect l="l" t="t" r="r" b="b"/>
                <a:pathLst>
                  <a:path w="1713" h="444">
                    <a:moveTo>
                      <a:pt x="244" y="151"/>
                    </a:moveTo>
                    <a:lnTo>
                      <a:pt x="487" y="298"/>
                    </a:lnTo>
                    <a:lnTo>
                      <a:pt x="244" y="444"/>
                    </a:lnTo>
                    <a:lnTo>
                      <a:pt x="0" y="298"/>
                    </a:lnTo>
                    <a:lnTo>
                      <a:pt x="244" y="151"/>
                    </a:lnTo>
                    <a:close/>
                    <a:moveTo>
                      <a:pt x="974" y="5"/>
                    </a:moveTo>
                    <a:lnTo>
                      <a:pt x="1217" y="151"/>
                    </a:lnTo>
                    <a:lnTo>
                      <a:pt x="974" y="298"/>
                    </a:lnTo>
                    <a:lnTo>
                      <a:pt x="730" y="151"/>
                    </a:lnTo>
                    <a:lnTo>
                      <a:pt x="974" y="5"/>
                    </a:lnTo>
                    <a:close/>
                    <a:moveTo>
                      <a:pt x="1469" y="0"/>
                    </a:moveTo>
                    <a:lnTo>
                      <a:pt x="1713" y="146"/>
                    </a:lnTo>
                    <a:lnTo>
                      <a:pt x="1460" y="298"/>
                    </a:lnTo>
                    <a:lnTo>
                      <a:pt x="1217" y="151"/>
                    </a:lnTo>
                    <a:lnTo>
                      <a:pt x="1469" y="0"/>
                    </a:lnTo>
                    <a:close/>
                  </a:path>
                </a:pathLst>
              </a:custGeom>
              <a:solidFill>
                <a:srgbClr val="ff863d"/>
              </a:solidFill>
              <a:ln w="0">
                <a:solidFill>
                  <a:srgbClr val="ff863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000" spc="-1" strike="noStrike">
                  <a:solidFill>
                    <a:srgbClr val="000000"/>
                  </a:solidFill>
                  <a:latin typeface="CG Times"/>
                </a:endParaRPr>
              </a:p>
            </p:txBody>
          </p:sp>
          <p:sp>
            <p:nvSpPr>
              <p:cNvPr id="202" name="Freeform 42"/>
              <p:cNvSpPr/>
              <p:nvPr/>
            </p:nvSpPr>
            <p:spPr>
              <a:xfrm>
                <a:off x="6559560" y="2800800"/>
                <a:ext cx="678960" cy="261000"/>
              </a:xfrm>
              <a:custGeom>
                <a:avLst/>
                <a:gdLst/>
                <a:ahLst/>
                <a:rect l="l" t="t" r="r" b="b"/>
                <a:pathLst>
                  <a:path w="2189" h="744">
                    <a:moveTo>
                      <a:pt x="1937" y="440"/>
                    </a:moveTo>
                    <a:lnTo>
                      <a:pt x="2189" y="592"/>
                    </a:lnTo>
                    <a:lnTo>
                      <a:pt x="1937" y="744"/>
                    </a:lnTo>
                    <a:lnTo>
                      <a:pt x="1684" y="592"/>
                    </a:lnTo>
                    <a:lnTo>
                      <a:pt x="1937" y="440"/>
                    </a:lnTo>
                    <a:close/>
                    <a:moveTo>
                      <a:pt x="486" y="164"/>
                    </a:moveTo>
                    <a:lnTo>
                      <a:pt x="711" y="299"/>
                    </a:lnTo>
                    <a:lnTo>
                      <a:pt x="224" y="592"/>
                    </a:lnTo>
                    <a:lnTo>
                      <a:pt x="0" y="457"/>
                    </a:lnTo>
                    <a:lnTo>
                      <a:pt x="486" y="164"/>
                    </a:lnTo>
                    <a:close/>
                    <a:moveTo>
                      <a:pt x="1207" y="0"/>
                    </a:moveTo>
                    <a:lnTo>
                      <a:pt x="1450" y="147"/>
                    </a:lnTo>
                    <a:lnTo>
                      <a:pt x="954" y="445"/>
                    </a:lnTo>
                    <a:lnTo>
                      <a:pt x="711" y="299"/>
                    </a:lnTo>
                    <a:lnTo>
                      <a:pt x="1207" y="0"/>
                    </a:lnTo>
                    <a:close/>
                  </a:path>
                </a:pathLst>
              </a:custGeom>
              <a:solidFill>
                <a:srgbClr val="f7c23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000" spc="-1" strike="noStrike">
                  <a:solidFill>
                    <a:srgbClr val="000000"/>
                  </a:solidFill>
                  <a:latin typeface="CG Times"/>
                </a:endParaRPr>
              </a:p>
            </p:txBody>
          </p:sp>
          <p:sp>
            <p:nvSpPr>
              <p:cNvPr id="203" name="Freeform 43"/>
              <p:cNvSpPr/>
              <p:nvPr/>
            </p:nvSpPr>
            <p:spPr>
              <a:xfrm>
                <a:off x="6634440" y="2957040"/>
                <a:ext cx="447480" cy="201240"/>
              </a:xfrm>
              <a:custGeom>
                <a:avLst/>
                <a:gdLst/>
                <a:ahLst/>
                <a:rect l="l" t="t" r="r" b="b"/>
                <a:pathLst>
                  <a:path w="1441" h="575">
                    <a:moveTo>
                      <a:pt x="225" y="293"/>
                    </a:moveTo>
                    <a:lnTo>
                      <a:pt x="468" y="440"/>
                    </a:lnTo>
                    <a:lnTo>
                      <a:pt x="243" y="575"/>
                    </a:lnTo>
                    <a:lnTo>
                      <a:pt x="0" y="428"/>
                    </a:lnTo>
                    <a:lnTo>
                      <a:pt x="225" y="293"/>
                    </a:lnTo>
                    <a:close/>
                    <a:moveTo>
                      <a:pt x="1198" y="0"/>
                    </a:moveTo>
                    <a:lnTo>
                      <a:pt x="1441" y="147"/>
                    </a:lnTo>
                    <a:lnTo>
                      <a:pt x="1198" y="293"/>
                    </a:lnTo>
                    <a:lnTo>
                      <a:pt x="955" y="147"/>
                    </a:lnTo>
                    <a:lnTo>
                      <a:pt x="1198" y="0"/>
                    </a:lnTo>
                    <a:close/>
                  </a:path>
                </a:pathLst>
              </a:custGeom>
              <a:solidFill>
                <a:srgbClr val="a5fffb"/>
              </a:solidFill>
              <a:ln w="0">
                <a:solidFill>
                  <a:srgbClr val="a5fff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000" spc="-1" strike="noStrike">
                  <a:solidFill>
                    <a:srgbClr val="000000"/>
                  </a:solidFill>
                  <a:latin typeface="CG Times"/>
                </a:endParaRPr>
              </a:p>
            </p:txBody>
          </p:sp>
          <p:sp>
            <p:nvSpPr>
              <p:cNvPr id="204" name="Freeform 44"/>
              <p:cNvSpPr/>
              <p:nvPr/>
            </p:nvSpPr>
            <p:spPr>
              <a:xfrm>
                <a:off x="6704280" y="3009600"/>
                <a:ext cx="457200" cy="207000"/>
              </a:xfrm>
              <a:custGeom>
                <a:avLst/>
                <a:gdLst/>
                <a:ahLst/>
                <a:rect l="l" t="t" r="r" b="b"/>
                <a:pathLst>
                  <a:path w="1469" h="591">
                    <a:moveTo>
                      <a:pt x="730" y="293"/>
                    </a:moveTo>
                    <a:lnTo>
                      <a:pt x="982" y="444"/>
                    </a:lnTo>
                    <a:lnTo>
                      <a:pt x="739" y="591"/>
                    </a:lnTo>
                    <a:lnTo>
                      <a:pt x="486" y="440"/>
                    </a:lnTo>
                    <a:lnTo>
                      <a:pt x="730" y="293"/>
                    </a:lnTo>
                    <a:close/>
                    <a:moveTo>
                      <a:pt x="243" y="293"/>
                    </a:moveTo>
                    <a:lnTo>
                      <a:pt x="486" y="440"/>
                    </a:lnTo>
                    <a:lnTo>
                      <a:pt x="261" y="575"/>
                    </a:lnTo>
                    <a:lnTo>
                      <a:pt x="18" y="428"/>
                    </a:lnTo>
                    <a:lnTo>
                      <a:pt x="243" y="293"/>
                    </a:lnTo>
                    <a:close/>
                    <a:moveTo>
                      <a:pt x="1216" y="0"/>
                    </a:moveTo>
                    <a:lnTo>
                      <a:pt x="1469" y="152"/>
                    </a:lnTo>
                    <a:lnTo>
                      <a:pt x="1225" y="298"/>
                    </a:lnTo>
                    <a:lnTo>
                      <a:pt x="973" y="146"/>
                    </a:lnTo>
                    <a:lnTo>
                      <a:pt x="1216" y="0"/>
                    </a:lnTo>
                    <a:close/>
                    <a:moveTo>
                      <a:pt x="730" y="0"/>
                    </a:moveTo>
                    <a:lnTo>
                      <a:pt x="973" y="146"/>
                    </a:lnTo>
                    <a:lnTo>
                      <a:pt x="730" y="293"/>
                    </a:lnTo>
                    <a:lnTo>
                      <a:pt x="486" y="146"/>
                    </a:lnTo>
                    <a:lnTo>
                      <a:pt x="730" y="0"/>
                    </a:lnTo>
                    <a:close/>
                    <a:moveTo>
                      <a:pt x="243" y="0"/>
                    </a:moveTo>
                    <a:lnTo>
                      <a:pt x="486" y="146"/>
                    </a:lnTo>
                    <a:lnTo>
                      <a:pt x="243" y="293"/>
                    </a:lnTo>
                    <a:lnTo>
                      <a:pt x="0" y="146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b9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000" spc="-1" strike="noStrike">
                  <a:solidFill>
                    <a:srgbClr val="000000"/>
                  </a:solidFill>
                  <a:latin typeface="CG Times"/>
                </a:endParaRPr>
              </a:p>
            </p:txBody>
          </p:sp>
          <p:sp>
            <p:nvSpPr>
              <p:cNvPr id="205" name="Freeform 45"/>
              <p:cNvSpPr/>
              <p:nvPr/>
            </p:nvSpPr>
            <p:spPr>
              <a:xfrm>
                <a:off x="6780240" y="3060360"/>
                <a:ext cx="304920" cy="203400"/>
              </a:xfrm>
              <a:custGeom>
                <a:avLst/>
                <a:gdLst/>
                <a:ahLst/>
                <a:rect l="l" t="t" r="r" b="b"/>
                <a:pathLst>
                  <a:path w="982" h="580">
                    <a:moveTo>
                      <a:pt x="243" y="294"/>
                    </a:moveTo>
                    <a:lnTo>
                      <a:pt x="496" y="445"/>
                    </a:lnTo>
                    <a:lnTo>
                      <a:pt x="270" y="580"/>
                    </a:lnTo>
                    <a:lnTo>
                      <a:pt x="18" y="429"/>
                    </a:lnTo>
                    <a:lnTo>
                      <a:pt x="243" y="294"/>
                    </a:lnTo>
                    <a:close/>
                    <a:moveTo>
                      <a:pt x="730" y="0"/>
                    </a:moveTo>
                    <a:lnTo>
                      <a:pt x="982" y="152"/>
                    </a:lnTo>
                    <a:lnTo>
                      <a:pt x="739" y="298"/>
                    </a:lnTo>
                    <a:lnTo>
                      <a:pt x="487" y="147"/>
                    </a:lnTo>
                    <a:lnTo>
                      <a:pt x="730" y="0"/>
                    </a:lnTo>
                    <a:close/>
                    <a:moveTo>
                      <a:pt x="243" y="0"/>
                    </a:moveTo>
                    <a:lnTo>
                      <a:pt x="487" y="147"/>
                    </a:lnTo>
                    <a:lnTo>
                      <a:pt x="243" y="294"/>
                    </a:lnTo>
                    <a:lnTo>
                      <a:pt x="0" y="147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2271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000" spc="-1" strike="noStrike">
                  <a:solidFill>
                    <a:srgbClr val="000000"/>
                  </a:solidFill>
                  <a:latin typeface="CG Times"/>
                </a:endParaRPr>
              </a:p>
            </p:txBody>
          </p:sp>
          <p:sp>
            <p:nvSpPr>
              <p:cNvPr id="206" name="Freeform 46"/>
              <p:cNvSpPr/>
              <p:nvPr/>
            </p:nvSpPr>
            <p:spPr>
              <a:xfrm>
                <a:off x="6490080" y="2755800"/>
                <a:ext cx="595080" cy="304560"/>
              </a:xfrm>
              <a:custGeom>
                <a:avLst/>
                <a:gdLst/>
                <a:ahLst/>
                <a:rect l="l" t="t" r="r" b="b"/>
                <a:pathLst>
                  <a:path w="1918" h="872">
                    <a:moveTo>
                      <a:pt x="225" y="591"/>
                    </a:moveTo>
                    <a:lnTo>
                      <a:pt x="449" y="726"/>
                    </a:lnTo>
                    <a:lnTo>
                      <a:pt x="225" y="861"/>
                    </a:lnTo>
                    <a:lnTo>
                      <a:pt x="0" y="726"/>
                    </a:lnTo>
                    <a:lnTo>
                      <a:pt x="225" y="591"/>
                    </a:lnTo>
                    <a:close/>
                    <a:moveTo>
                      <a:pt x="1179" y="579"/>
                    </a:moveTo>
                    <a:lnTo>
                      <a:pt x="1423" y="726"/>
                    </a:lnTo>
                    <a:lnTo>
                      <a:pt x="1179" y="872"/>
                    </a:lnTo>
                    <a:lnTo>
                      <a:pt x="936" y="726"/>
                    </a:lnTo>
                    <a:lnTo>
                      <a:pt x="1179" y="579"/>
                    </a:lnTo>
                    <a:close/>
                    <a:moveTo>
                      <a:pt x="1675" y="281"/>
                    </a:moveTo>
                    <a:lnTo>
                      <a:pt x="1918" y="428"/>
                    </a:lnTo>
                    <a:lnTo>
                      <a:pt x="1666" y="579"/>
                    </a:lnTo>
                    <a:lnTo>
                      <a:pt x="1423" y="433"/>
                    </a:lnTo>
                    <a:lnTo>
                      <a:pt x="1675" y="281"/>
                    </a:lnTo>
                    <a:close/>
                    <a:moveTo>
                      <a:pt x="1206" y="0"/>
                    </a:moveTo>
                    <a:lnTo>
                      <a:pt x="1432" y="134"/>
                    </a:lnTo>
                    <a:lnTo>
                      <a:pt x="1179" y="287"/>
                    </a:lnTo>
                    <a:lnTo>
                      <a:pt x="954" y="151"/>
                    </a:lnTo>
                    <a:lnTo>
                      <a:pt x="1206" y="0"/>
                    </a:lnTo>
                    <a:close/>
                  </a:path>
                </a:pathLst>
              </a:custGeom>
              <a:solidFill>
                <a:srgbClr val="aad0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000" spc="-1" strike="noStrike">
                  <a:solidFill>
                    <a:srgbClr val="000000"/>
                  </a:solidFill>
                  <a:latin typeface="CG Times"/>
                </a:endParaRPr>
              </a:p>
            </p:txBody>
          </p:sp>
        </p:grpSp>
        <p:grpSp>
          <p:nvGrpSpPr>
            <p:cNvPr id="207" name="Group 36"/>
            <p:cNvGrpSpPr/>
            <p:nvPr/>
          </p:nvGrpSpPr>
          <p:grpSpPr>
            <a:xfrm>
              <a:off x="6984720" y="1897200"/>
              <a:ext cx="982440" cy="712800"/>
              <a:chOff x="6984720" y="1897200"/>
              <a:chExt cx="982440" cy="712800"/>
            </a:xfrm>
          </p:grpSpPr>
          <p:sp>
            <p:nvSpPr>
              <p:cNvPr id="208" name="Freeform 38"/>
              <p:cNvSpPr/>
              <p:nvPr/>
            </p:nvSpPr>
            <p:spPr>
              <a:xfrm>
                <a:off x="6984720" y="1897200"/>
                <a:ext cx="982440" cy="712800"/>
              </a:xfrm>
              <a:custGeom>
                <a:avLst/>
                <a:gdLst/>
                <a:ahLst/>
                <a:rect l="l" t="t" r="r" b="b"/>
                <a:pathLst>
                  <a:path w="3158" h="2033">
                    <a:moveTo>
                      <a:pt x="1578" y="0"/>
                    </a:moveTo>
                    <a:lnTo>
                      <a:pt x="1603" y="1"/>
                    </a:lnTo>
                    <a:lnTo>
                      <a:pt x="1630" y="5"/>
                    </a:lnTo>
                    <a:lnTo>
                      <a:pt x="1659" y="11"/>
                    </a:lnTo>
                    <a:lnTo>
                      <a:pt x="1688" y="20"/>
                    </a:lnTo>
                    <a:lnTo>
                      <a:pt x="1718" y="36"/>
                    </a:lnTo>
                    <a:lnTo>
                      <a:pt x="3049" y="834"/>
                    </a:lnTo>
                    <a:lnTo>
                      <a:pt x="3081" y="857"/>
                    </a:lnTo>
                    <a:lnTo>
                      <a:pt x="3107" y="884"/>
                    </a:lnTo>
                    <a:lnTo>
                      <a:pt x="3129" y="914"/>
                    </a:lnTo>
                    <a:lnTo>
                      <a:pt x="3145" y="946"/>
                    </a:lnTo>
                    <a:lnTo>
                      <a:pt x="3154" y="981"/>
                    </a:lnTo>
                    <a:lnTo>
                      <a:pt x="3158" y="1018"/>
                    </a:lnTo>
                    <a:lnTo>
                      <a:pt x="3154" y="1053"/>
                    </a:lnTo>
                    <a:lnTo>
                      <a:pt x="3145" y="1088"/>
                    </a:lnTo>
                    <a:lnTo>
                      <a:pt x="3129" y="1121"/>
                    </a:lnTo>
                    <a:lnTo>
                      <a:pt x="3107" y="1150"/>
                    </a:lnTo>
                    <a:lnTo>
                      <a:pt x="3081" y="1176"/>
                    </a:lnTo>
                    <a:lnTo>
                      <a:pt x="3049" y="1199"/>
                    </a:lnTo>
                    <a:lnTo>
                      <a:pt x="1718" y="1998"/>
                    </a:lnTo>
                    <a:lnTo>
                      <a:pt x="1689" y="2013"/>
                    </a:lnTo>
                    <a:lnTo>
                      <a:pt x="1659" y="2024"/>
                    </a:lnTo>
                    <a:lnTo>
                      <a:pt x="1630" y="2030"/>
                    </a:lnTo>
                    <a:lnTo>
                      <a:pt x="1603" y="2033"/>
                    </a:lnTo>
                    <a:lnTo>
                      <a:pt x="1578" y="2033"/>
                    </a:lnTo>
                    <a:lnTo>
                      <a:pt x="1555" y="2033"/>
                    </a:lnTo>
                    <a:lnTo>
                      <a:pt x="1528" y="2030"/>
                    </a:lnTo>
                    <a:lnTo>
                      <a:pt x="1498" y="2024"/>
                    </a:lnTo>
                    <a:lnTo>
                      <a:pt x="1469" y="2013"/>
                    </a:lnTo>
                    <a:lnTo>
                      <a:pt x="1439" y="1997"/>
                    </a:lnTo>
                    <a:lnTo>
                      <a:pt x="109" y="1199"/>
                    </a:lnTo>
                    <a:lnTo>
                      <a:pt x="77" y="1176"/>
                    </a:lnTo>
                    <a:lnTo>
                      <a:pt x="50" y="1150"/>
                    </a:lnTo>
                    <a:lnTo>
                      <a:pt x="29" y="1119"/>
                    </a:lnTo>
                    <a:lnTo>
                      <a:pt x="13" y="1087"/>
                    </a:lnTo>
                    <a:lnTo>
                      <a:pt x="4" y="1052"/>
                    </a:lnTo>
                    <a:lnTo>
                      <a:pt x="0" y="1015"/>
                    </a:lnTo>
                    <a:lnTo>
                      <a:pt x="4" y="980"/>
                    </a:lnTo>
                    <a:lnTo>
                      <a:pt x="13" y="945"/>
                    </a:lnTo>
                    <a:lnTo>
                      <a:pt x="29" y="913"/>
                    </a:lnTo>
                    <a:lnTo>
                      <a:pt x="51" y="882"/>
                    </a:lnTo>
                    <a:lnTo>
                      <a:pt x="77" y="857"/>
                    </a:lnTo>
                    <a:lnTo>
                      <a:pt x="110" y="834"/>
                    </a:lnTo>
                    <a:lnTo>
                      <a:pt x="1440" y="36"/>
                    </a:lnTo>
                    <a:lnTo>
                      <a:pt x="1469" y="20"/>
                    </a:lnTo>
                    <a:lnTo>
                      <a:pt x="1499" y="11"/>
                    </a:lnTo>
                    <a:lnTo>
                      <a:pt x="1528" y="5"/>
                    </a:lnTo>
                    <a:lnTo>
                      <a:pt x="1555" y="1"/>
                    </a:lnTo>
                    <a:lnTo>
                      <a:pt x="1578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000" spc="-1" strike="noStrike">
                  <a:solidFill>
                    <a:srgbClr val="000000"/>
                  </a:solidFill>
                  <a:latin typeface="CG Times"/>
                </a:endParaRPr>
              </a:p>
            </p:txBody>
          </p:sp>
          <p:sp>
            <p:nvSpPr>
              <p:cNvPr id="209" name="Freeform 39"/>
              <p:cNvSpPr/>
              <p:nvPr/>
            </p:nvSpPr>
            <p:spPr>
              <a:xfrm>
                <a:off x="7034400" y="1953000"/>
                <a:ext cx="882720" cy="600840"/>
              </a:xfrm>
              <a:custGeom>
                <a:avLst/>
                <a:gdLst/>
                <a:ahLst/>
                <a:rect l="l" t="t" r="r" b="b"/>
                <a:pathLst>
                  <a:path w="2837" h="1715">
                    <a:moveTo>
                      <a:pt x="1417" y="0"/>
                    </a:moveTo>
                    <a:lnTo>
                      <a:pt x="1440" y="1"/>
                    </a:lnTo>
                    <a:lnTo>
                      <a:pt x="1459" y="6"/>
                    </a:lnTo>
                    <a:lnTo>
                      <a:pt x="1475" y="14"/>
                    </a:lnTo>
                    <a:lnTo>
                      <a:pt x="2806" y="812"/>
                    </a:lnTo>
                    <a:lnTo>
                      <a:pt x="2823" y="826"/>
                    </a:lnTo>
                    <a:lnTo>
                      <a:pt x="2834" y="842"/>
                    </a:lnTo>
                    <a:lnTo>
                      <a:pt x="2837" y="858"/>
                    </a:lnTo>
                    <a:lnTo>
                      <a:pt x="2834" y="874"/>
                    </a:lnTo>
                    <a:lnTo>
                      <a:pt x="2823" y="890"/>
                    </a:lnTo>
                    <a:lnTo>
                      <a:pt x="2806" y="903"/>
                    </a:lnTo>
                    <a:lnTo>
                      <a:pt x="1475" y="1703"/>
                    </a:lnTo>
                    <a:lnTo>
                      <a:pt x="1459" y="1710"/>
                    </a:lnTo>
                    <a:lnTo>
                      <a:pt x="1440" y="1714"/>
                    </a:lnTo>
                    <a:lnTo>
                      <a:pt x="1417" y="1715"/>
                    </a:lnTo>
                    <a:lnTo>
                      <a:pt x="1396" y="1714"/>
                    </a:lnTo>
                    <a:lnTo>
                      <a:pt x="1377" y="1710"/>
                    </a:lnTo>
                    <a:lnTo>
                      <a:pt x="1361" y="1703"/>
                    </a:lnTo>
                    <a:lnTo>
                      <a:pt x="30" y="903"/>
                    </a:lnTo>
                    <a:lnTo>
                      <a:pt x="14" y="891"/>
                    </a:lnTo>
                    <a:lnTo>
                      <a:pt x="5" y="878"/>
                    </a:lnTo>
                    <a:lnTo>
                      <a:pt x="0" y="865"/>
                    </a:lnTo>
                    <a:lnTo>
                      <a:pt x="0" y="850"/>
                    </a:lnTo>
                    <a:lnTo>
                      <a:pt x="5" y="837"/>
                    </a:lnTo>
                    <a:lnTo>
                      <a:pt x="14" y="824"/>
                    </a:lnTo>
                    <a:lnTo>
                      <a:pt x="30" y="812"/>
                    </a:lnTo>
                    <a:lnTo>
                      <a:pt x="1361" y="14"/>
                    </a:lnTo>
                    <a:lnTo>
                      <a:pt x="1377" y="6"/>
                    </a:lnTo>
                    <a:lnTo>
                      <a:pt x="1396" y="1"/>
                    </a:lnTo>
                    <a:lnTo>
                      <a:pt x="1417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000" spc="-1" strike="noStrike">
                  <a:solidFill>
                    <a:srgbClr val="000000"/>
                  </a:solidFill>
                  <a:latin typeface="CG Times"/>
                </a:endParaRPr>
              </a:p>
            </p:txBody>
          </p:sp>
          <p:sp>
            <p:nvSpPr>
              <p:cNvPr id="210" name="Freeform 40"/>
              <p:cNvSpPr/>
              <p:nvPr/>
            </p:nvSpPr>
            <p:spPr>
              <a:xfrm>
                <a:off x="7170840" y="2052720"/>
                <a:ext cx="295200" cy="299520"/>
              </a:xfrm>
              <a:custGeom>
                <a:avLst/>
                <a:gdLst/>
                <a:ahLst/>
                <a:rect l="l" t="t" r="r" b="b"/>
                <a:pathLst>
                  <a:path w="954" h="856">
                    <a:moveTo>
                      <a:pt x="224" y="575"/>
                    </a:moveTo>
                    <a:lnTo>
                      <a:pt x="468" y="721"/>
                    </a:lnTo>
                    <a:lnTo>
                      <a:pt x="243" y="856"/>
                    </a:lnTo>
                    <a:lnTo>
                      <a:pt x="0" y="710"/>
                    </a:lnTo>
                    <a:lnTo>
                      <a:pt x="224" y="575"/>
                    </a:lnTo>
                    <a:close/>
                    <a:moveTo>
                      <a:pt x="711" y="282"/>
                    </a:moveTo>
                    <a:lnTo>
                      <a:pt x="954" y="428"/>
                    </a:lnTo>
                    <a:lnTo>
                      <a:pt x="711" y="575"/>
                    </a:lnTo>
                    <a:lnTo>
                      <a:pt x="468" y="428"/>
                    </a:lnTo>
                    <a:lnTo>
                      <a:pt x="711" y="282"/>
                    </a:lnTo>
                    <a:close/>
                    <a:moveTo>
                      <a:pt x="729" y="0"/>
                    </a:moveTo>
                    <a:lnTo>
                      <a:pt x="954" y="136"/>
                    </a:lnTo>
                    <a:lnTo>
                      <a:pt x="711" y="282"/>
                    </a:lnTo>
                    <a:lnTo>
                      <a:pt x="486" y="147"/>
                    </a:lnTo>
                    <a:lnTo>
                      <a:pt x="729" y="0"/>
                    </a:lnTo>
                    <a:close/>
                  </a:path>
                </a:pathLst>
              </a:custGeom>
              <a:solidFill>
                <a:srgbClr val="ddec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000" spc="-1" strike="noStrike">
                  <a:solidFill>
                    <a:srgbClr val="000000"/>
                  </a:solidFill>
                  <a:latin typeface="CG Times"/>
                </a:endParaRPr>
              </a:p>
            </p:txBody>
          </p:sp>
          <p:sp>
            <p:nvSpPr>
              <p:cNvPr id="211" name="Freeform 41"/>
              <p:cNvSpPr/>
              <p:nvPr/>
            </p:nvSpPr>
            <p:spPr>
              <a:xfrm>
                <a:off x="7239240" y="2149560"/>
                <a:ext cx="533160" cy="155520"/>
              </a:xfrm>
              <a:custGeom>
                <a:avLst/>
                <a:gdLst/>
                <a:ahLst/>
                <a:rect l="l" t="t" r="r" b="b"/>
                <a:pathLst>
                  <a:path w="1713" h="444">
                    <a:moveTo>
                      <a:pt x="244" y="151"/>
                    </a:moveTo>
                    <a:lnTo>
                      <a:pt x="487" y="298"/>
                    </a:lnTo>
                    <a:lnTo>
                      <a:pt x="244" y="444"/>
                    </a:lnTo>
                    <a:lnTo>
                      <a:pt x="0" y="298"/>
                    </a:lnTo>
                    <a:lnTo>
                      <a:pt x="244" y="151"/>
                    </a:lnTo>
                    <a:close/>
                    <a:moveTo>
                      <a:pt x="974" y="5"/>
                    </a:moveTo>
                    <a:lnTo>
                      <a:pt x="1217" y="151"/>
                    </a:lnTo>
                    <a:lnTo>
                      <a:pt x="974" y="298"/>
                    </a:lnTo>
                    <a:lnTo>
                      <a:pt x="730" y="151"/>
                    </a:lnTo>
                    <a:lnTo>
                      <a:pt x="974" y="5"/>
                    </a:lnTo>
                    <a:close/>
                    <a:moveTo>
                      <a:pt x="1469" y="0"/>
                    </a:moveTo>
                    <a:lnTo>
                      <a:pt x="1713" y="146"/>
                    </a:lnTo>
                    <a:lnTo>
                      <a:pt x="1460" y="298"/>
                    </a:lnTo>
                    <a:lnTo>
                      <a:pt x="1217" y="151"/>
                    </a:lnTo>
                    <a:lnTo>
                      <a:pt x="1469" y="0"/>
                    </a:lnTo>
                    <a:close/>
                  </a:path>
                </a:pathLst>
              </a:custGeom>
              <a:solidFill>
                <a:srgbClr val="ff863d"/>
              </a:solidFill>
              <a:ln w="0">
                <a:solidFill>
                  <a:srgbClr val="ff863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000" spc="-1" strike="noStrike">
                  <a:solidFill>
                    <a:srgbClr val="000000"/>
                  </a:solidFill>
                  <a:latin typeface="CG Times"/>
                </a:endParaRPr>
              </a:p>
            </p:txBody>
          </p:sp>
          <p:sp>
            <p:nvSpPr>
              <p:cNvPr id="212" name="Freeform 42"/>
              <p:cNvSpPr/>
              <p:nvPr/>
            </p:nvSpPr>
            <p:spPr>
              <a:xfrm>
                <a:off x="7170840" y="2045520"/>
                <a:ext cx="678960" cy="261000"/>
              </a:xfrm>
              <a:custGeom>
                <a:avLst/>
                <a:gdLst/>
                <a:ahLst/>
                <a:rect l="l" t="t" r="r" b="b"/>
                <a:pathLst>
                  <a:path w="2189" h="744">
                    <a:moveTo>
                      <a:pt x="1937" y="440"/>
                    </a:moveTo>
                    <a:lnTo>
                      <a:pt x="2189" y="592"/>
                    </a:lnTo>
                    <a:lnTo>
                      <a:pt x="1937" y="744"/>
                    </a:lnTo>
                    <a:lnTo>
                      <a:pt x="1684" y="592"/>
                    </a:lnTo>
                    <a:lnTo>
                      <a:pt x="1937" y="440"/>
                    </a:lnTo>
                    <a:close/>
                    <a:moveTo>
                      <a:pt x="486" y="164"/>
                    </a:moveTo>
                    <a:lnTo>
                      <a:pt x="711" y="299"/>
                    </a:lnTo>
                    <a:lnTo>
                      <a:pt x="224" y="592"/>
                    </a:lnTo>
                    <a:lnTo>
                      <a:pt x="0" y="457"/>
                    </a:lnTo>
                    <a:lnTo>
                      <a:pt x="486" y="164"/>
                    </a:lnTo>
                    <a:close/>
                    <a:moveTo>
                      <a:pt x="1207" y="0"/>
                    </a:moveTo>
                    <a:lnTo>
                      <a:pt x="1450" y="147"/>
                    </a:lnTo>
                    <a:lnTo>
                      <a:pt x="954" y="445"/>
                    </a:lnTo>
                    <a:lnTo>
                      <a:pt x="711" y="299"/>
                    </a:lnTo>
                    <a:lnTo>
                      <a:pt x="1207" y="0"/>
                    </a:lnTo>
                    <a:close/>
                  </a:path>
                </a:pathLst>
              </a:custGeom>
              <a:solidFill>
                <a:srgbClr val="f7c23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000" spc="-1" strike="noStrike">
                  <a:solidFill>
                    <a:srgbClr val="000000"/>
                  </a:solidFill>
                  <a:latin typeface="CG Times"/>
                </a:endParaRPr>
              </a:p>
            </p:txBody>
          </p:sp>
          <p:sp>
            <p:nvSpPr>
              <p:cNvPr id="213" name="Freeform 43"/>
              <p:cNvSpPr/>
              <p:nvPr/>
            </p:nvSpPr>
            <p:spPr>
              <a:xfrm>
                <a:off x="7245720" y="2201760"/>
                <a:ext cx="447480" cy="201240"/>
              </a:xfrm>
              <a:custGeom>
                <a:avLst/>
                <a:gdLst/>
                <a:ahLst/>
                <a:rect l="l" t="t" r="r" b="b"/>
                <a:pathLst>
                  <a:path w="1441" h="575">
                    <a:moveTo>
                      <a:pt x="225" y="293"/>
                    </a:moveTo>
                    <a:lnTo>
                      <a:pt x="468" y="440"/>
                    </a:lnTo>
                    <a:lnTo>
                      <a:pt x="243" y="575"/>
                    </a:lnTo>
                    <a:lnTo>
                      <a:pt x="0" y="428"/>
                    </a:lnTo>
                    <a:lnTo>
                      <a:pt x="225" y="293"/>
                    </a:lnTo>
                    <a:close/>
                    <a:moveTo>
                      <a:pt x="1198" y="0"/>
                    </a:moveTo>
                    <a:lnTo>
                      <a:pt x="1441" y="147"/>
                    </a:lnTo>
                    <a:lnTo>
                      <a:pt x="1198" y="293"/>
                    </a:lnTo>
                    <a:lnTo>
                      <a:pt x="955" y="147"/>
                    </a:lnTo>
                    <a:lnTo>
                      <a:pt x="1198" y="0"/>
                    </a:lnTo>
                    <a:close/>
                  </a:path>
                </a:pathLst>
              </a:custGeom>
              <a:solidFill>
                <a:srgbClr val="a5fffb"/>
              </a:solidFill>
              <a:ln w="0">
                <a:solidFill>
                  <a:srgbClr val="a5fff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000" spc="-1" strike="noStrike">
                  <a:solidFill>
                    <a:srgbClr val="000000"/>
                  </a:solidFill>
                  <a:latin typeface="CG Times"/>
                </a:endParaRPr>
              </a:p>
            </p:txBody>
          </p:sp>
          <p:sp>
            <p:nvSpPr>
              <p:cNvPr id="214" name="Freeform 44"/>
              <p:cNvSpPr/>
              <p:nvPr/>
            </p:nvSpPr>
            <p:spPr>
              <a:xfrm>
                <a:off x="7315560" y="2254320"/>
                <a:ext cx="457200" cy="207000"/>
              </a:xfrm>
              <a:custGeom>
                <a:avLst/>
                <a:gdLst/>
                <a:ahLst/>
                <a:rect l="l" t="t" r="r" b="b"/>
                <a:pathLst>
                  <a:path w="1469" h="591">
                    <a:moveTo>
                      <a:pt x="730" y="293"/>
                    </a:moveTo>
                    <a:lnTo>
                      <a:pt x="982" y="444"/>
                    </a:lnTo>
                    <a:lnTo>
                      <a:pt x="739" y="591"/>
                    </a:lnTo>
                    <a:lnTo>
                      <a:pt x="486" y="440"/>
                    </a:lnTo>
                    <a:lnTo>
                      <a:pt x="730" y="293"/>
                    </a:lnTo>
                    <a:close/>
                    <a:moveTo>
                      <a:pt x="243" y="293"/>
                    </a:moveTo>
                    <a:lnTo>
                      <a:pt x="486" y="440"/>
                    </a:lnTo>
                    <a:lnTo>
                      <a:pt x="261" y="575"/>
                    </a:lnTo>
                    <a:lnTo>
                      <a:pt x="18" y="428"/>
                    </a:lnTo>
                    <a:lnTo>
                      <a:pt x="243" y="293"/>
                    </a:lnTo>
                    <a:close/>
                    <a:moveTo>
                      <a:pt x="1216" y="0"/>
                    </a:moveTo>
                    <a:lnTo>
                      <a:pt x="1469" y="152"/>
                    </a:lnTo>
                    <a:lnTo>
                      <a:pt x="1225" y="298"/>
                    </a:lnTo>
                    <a:lnTo>
                      <a:pt x="973" y="146"/>
                    </a:lnTo>
                    <a:lnTo>
                      <a:pt x="1216" y="0"/>
                    </a:lnTo>
                    <a:close/>
                    <a:moveTo>
                      <a:pt x="730" y="0"/>
                    </a:moveTo>
                    <a:lnTo>
                      <a:pt x="973" y="146"/>
                    </a:lnTo>
                    <a:lnTo>
                      <a:pt x="730" y="293"/>
                    </a:lnTo>
                    <a:lnTo>
                      <a:pt x="486" y="146"/>
                    </a:lnTo>
                    <a:lnTo>
                      <a:pt x="730" y="0"/>
                    </a:lnTo>
                    <a:close/>
                    <a:moveTo>
                      <a:pt x="243" y="0"/>
                    </a:moveTo>
                    <a:lnTo>
                      <a:pt x="486" y="146"/>
                    </a:lnTo>
                    <a:lnTo>
                      <a:pt x="243" y="293"/>
                    </a:lnTo>
                    <a:lnTo>
                      <a:pt x="0" y="146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b9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000" spc="-1" strike="noStrike">
                  <a:solidFill>
                    <a:srgbClr val="000000"/>
                  </a:solidFill>
                  <a:latin typeface="CG Times"/>
                </a:endParaRPr>
              </a:p>
            </p:txBody>
          </p:sp>
          <p:sp>
            <p:nvSpPr>
              <p:cNvPr id="215" name="Freeform 45"/>
              <p:cNvSpPr/>
              <p:nvPr/>
            </p:nvSpPr>
            <p:spPr>
              <a:xfrm>
                <a:off x="7391520" y="2305080"/>
                <a:ext cx="304920" cy="203400"/>
              </a:xfrm>
              <a:custGeom>
                <a:avLst/>
                <a:gdLst/>
                <a:ahLst/>
                <a:rect l="l" t="t" r="r" b="b"/>
                <a:pathLst>
                  <a:path w="982" h="580">
                    <a:moveTo>
                      <a:pt x="243" y="294"/>
                    </a:moveTo>
                    <a:lnTo>
                      <a:pt x="496" y="445"/>
                    </a:lnTo>
                    <a:lnTo>
                      <a:pt x="270" y="580"/>
                    </a:lnTo>
                    <a:lnTo>
                      <a:pt x="18" y="429"/>
                    </a:lnTo>
                    <a:lnTo>
                      <a:pt x="243" y="294"/>
                    </a:lnTo>
                    <a:close/>
                    <a:moveTo>
                      <a:pt x="730" y="0"/>
                    </a:moveTo>
                    <a:lnTo>
                      <a:pt x="982" y="152"/>
                    </a:lnTo>
                    <a:lnTo>
                      <a:pt x="739" y="298"/>
                    </a:lnTo>
                    <a:lnTo>
                      <a:pt x="487" y="147"/>
                    </a:lnTo>
                    <a:lnTo>
                      <a:pt x="730" y="0"/>
                    </a:lnTo>
                    <a:close/>
                    <a:moveTo>
                      <a:pt x="243" y="0"/>
                    </a:moveTo>
                    <a:lnTo>
                      <a:pt x="487" y="147"/>
                    </a:lnTo>
                    <a:lnTo>
                      <a:pt x="243" y="294"/>
                    </a:lnTo>
                    <a:lnTo>
                      <a:pt x="0" y="147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2271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000" spc="-1" strike="noStrike">
                  <a:solidFill>
                    <a:srgbClr val="000000"/>
                  </a:solidFill>
                  <a:latin typeface="CG Times"/>
                </a:endParaRPr>
              </a:p>
            </p:txBody>
          </p:sp>
          <p:sp>
            <p:nvSpPr>
              <p:cNvPr id="216" name="Freeform 46"/>
              <p:cNvSpPr/>
              <p:nvPr/>
            </p:nvSpPr>
            <p:spPr>
              <a:xfrm>
                <a:off x="7101360" y="2000520"/>
                <a:ext cx="595080" cy="304560"/>
              </a:xfrm>
              <a:custGeom>
                <a:avLst/>
                <a:gdLst/>
                <a:ahLst/>
                <a:rect l="l" t="t" r="r" b="b"/>
                <a:pathLst>
                  <a:path w="1918" h="872">
                    <a:moveTo>
                      <a:pt x="225" y="591"/>
                    </a:moveTo>
                    <a:lnTo>
                      <a:pt x="449" y="726"/>
                    </a:lnTo>
                    <a:lnTo>
                      <a:pt x="225" y="861"/>
                    </a:lnTo>
                    <a:lnTo>
                      <a:pt x="0" y="726"/>
                    </a:lnTo>
                    <a:lnTo>
                      <a:pt x="225" y="591"/>
                    </a:lnTo>
                    <a:close/>
                    <a:moveTo>
                      <a:pt x="1179" y="579"/>
                    </a:moveTo>
                    <a:lnTo>
                      <a:pt x="1423" y="726"/>
                    </a:lnTo>
                    <a:lnTo>
                      <a:pt x="1179" y="872"/>
                    </a:lnTo>
                    <a:lnTo>
                      <a:pt x="936" y="726"/>
                    </a:lnTo>
                    <a:lnTo>
                      <a:pt x="1179" y="579"/>
                    </a:lnTo>
                    <a:close/>
                    <a:moveTo>
                      <a:pt x="1675" y="281"/>
                    </a:moveTo>
                    <a:lnTo>
                      <a:pt x="1918" y="428"/>
                    </a:lnTo>
                    <a:lnTo>
                      <a:pt x="1666" y="579"/>
                    </a:lnTo>
                    <a:lnTo>
                      <a:pt x="1423" y="433"/>
                    </a:lnTo>
                    <a:lnTo>
                      <a:pt x="1675" y="281"/>
                    </a:lnTo>
                    <a:close/>
                    <a:moveTo>
                      <a:pt x="1206" y="0"/>
                    </a:moveTo>
                    <a:lnTo>
                      <a:pt x="1432" y="134"/>
                    </a:lnTo>
                    <a:lnTo>
                      <a:pt x="1179" y="287"/>
                    </a:lnTo>
                    <a:lnTo>
                      <a:pt x="954" y="151"/>
                    </a:lnTo>
                    <a:lnTo>
                      <a:pt x="1206" y="0"/>
                    </a:lnTo>
                    <a:close/>
                  </a:path>
                </a:pathLst>
              </a:custGeom>
              <a:solidFill>
                <a:srgbClr val="aad0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000" spc="-1" strike="noStrike">
                  <a:solidFill>
                    <a:srgbClr val="000000"/>
                  </a:solidFill>
                  <a:latin typeface="CG Times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2e5c"/>
                </a:solidFill>
                <a:latin typeface="Arial"/>
              </a:rPr>
              <a:t>LAS Data</a:t>
            </a: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345600" y="1279080"/>
            <a:ext cx="8458200" cy="48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3280" indent="-233280">
              <a:spcBef>
                <a:spcPts val="601"/>
              </a:spcBef>
              <a:buClr>
                <a:srgbClr val="092e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2e5c"/>
                </a:solidFill>
                <a:latin typeface="Arial"/>
              </a:rPr>
              <a:t>The LAS format is a data transfer/exchange format</a:t>
            </a: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  <a:p>
            <a:pPr lvl="1" marL="569880" indent="-222120">
              <a:spcBef>
                <a:spcPts val="499"/>
              </a:spcBef>
              <a:buClr>
                <a:srgbClr val="092e5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2e5c"/>
                </a:solidFill>
                <a:latin typeface="Arial"/>
              </a:rPr>
              <a:t>Well understood, and widely supported</a:t>
            </a:r>
            <a:endParaRPr b="0" lang="en-US" sz="2000" spc="-1" strike="noStrike">
              <a:solidFill>
                <a:srgbClr val="092e5c"/>
              </a:solidFill>
              <a:latin typeface="Arial"/>
            </a:endParaRPr>
          </a:p>
          <a:p>
            <a:pPr lvl="1" marL="569880" indent="-222120">
              <a:spcBef>
                <a:spcPts val="499"/>
              </a:spcBef>
              <a:buClr>
                <a:srgbClr val="092e5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2e5c"/>
                </a:solidFill>
                <a:latin typeface="Arial"/>
              </a:rPr>
              <a:t>Not originally designed for direct use/exploitation</a:t>
            </a:r>
            <a:endParaRPr b="0" lang="en-US" sz="2000" spc="-1" strike="noStrike">
              <a:solidFill>
                <a:srgbClr val="092e5c"/>
              </a:solidFill>
              <a:latin typeface="Arial"/>
            </a:endParaRPr>
          </a:p>
          <a:p>
            <a:pPr marL="233280" indent="-233280">
              <a:spcBef>
                <a:spcPts val="601"/>
              </a:spcBef>
              <a:buClr>
                <a:srgbClr val="092e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2e5c"/>
                </a:solidFill>
                <a:latin typeface="Arial"/>
              </a:rPr>
              <a:t>Issues when accessed directly include</a:t>
            </a: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  <a:p>
            <a:pPr lvl="1" marL="569880" indent="-222120">
              <a:spcBef>
                <a:spcPts val="499"/>
              </a:spcBef>
              <a:buClr>
                <a:srgbClr val="092e5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2e5c"/>
                </a:solidFill>
                <a:latin typeface="Arial"/>
              </a:rPr>
              <a:t>Simple format (a plus) but becomes an I/O bottleneck</a:t>
            </a:r>
            <a:endParaRPr b="0" lang="en-US" sz="2000" spc="-1" strike="noStrike">
              <a:solidFill>
                <a:srgbClr val="092e5c"/>
              </a:solidFill>
              <a:latin typeface="Arial"/>
            </a:endParaRPr>
          </a:p>
          <a:p>
            <a:pPr lvl="1" marL="569880" indent="-222120">
              <a:spcBef>
                <a:spcPts val="499"/>
              </a:spcBef>
              <a:buClr>
                <a:srgbClr val="092e5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2e5c"/>
                </a:solidFill>
                <a:latin typeface="Arial"/>
              </a:rPr>
              <a:t>Lack of spatial index</a:t>
            </a:r>
            <a:endParaRPr b="0" lang="en-US" sz="2000" spc="-1" strike="noStrike">
              <a:solidFill>
                <a:srgbClr val="092e5c"/>
              </a:solidFill>
              <a:latin typeface="Arial"/>
            </a:endParaRPr>
          </a:p>
          <a:p>
            <a:pPr lvl="1" marL="569880" indent="-222120">
              <a:spcBef>
                <a:spcPts val="499"/>
              </a:spcBef>
              <a:buClr>
                <a:srgbClr val="092e5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2e5c"/>
                </a:solidFill>
                <a:latin typeface="Arial"/>
              </a:rPr>
              <a:t>Lack of dataset statistics</a:t>
            </a:r>
            <a:endParaRPr b="0" lang="en-US" sz="2000" spc="-1" strike="noStrike">
              <a:solidFill>
                <a:srgbClr val="092e5c"/>
              </a:solidFill>
              <a:latin typeface="Arial"/>
            </a:endParaRPr>
          </a:p>
          <a:p>
            <a:pPr lvl="1" marL="569880" indent="-222120">
              <a:spcBef>
                <a:spcPts val="499"/>
              </a:spcBef>
              <a:buClr>
                <a:srgbClr val="092e5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2e5c"/>
                </a:solidFill>
                <a:latin typeface="Arial"/>
              </a:rPr>
              <a:t>Uncompressed</a:t>
            </a:r>
            <a:endParaRPr b="0" lang="en-US" sz="2000" spc="-1" strike="noStrike">
              <a:solidFill>
                <a:srgbClr val="092e5c"/>
              </a:solidFill>
              <a:latin typeface="Arial"/>
            </a:endParaRPr>
          </a:p>
          <a:p>
            <a:pPr lvl="1" marL="569880" indent="-222120">
              <a:spcBef>
                <a:spcPts val="499"/>
              </a:spcBef>
              <a:buClr>
                <a:srgbClr val="092e5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2e5c"/>
                </a:solidFill>
                <a:latin typeface="Arial"/>
              </a:rPr>
              <a:t>Huge files – even when compressed</a:t>
            </a:r>
            <a:endParaRPr b="0" lang="en-US" sz="2000" spc="-1" strike="noStrike">
              <a:solidFill>
                <a:srgbClr val="092e5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2e5c"/>
                </a:solidFill>
                <a:latin typeface="Arial"/>
              </a:rPr>
              <a:t>Improving Access To LAS</a:t>
            </a: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345600" y="1279080"/>
            <a:ext cx="8458200" cy="48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3280" indent="-233280">
              <a:spcBef>
                <a:spcPts val="601"/>
              </a:spcBef>
              <a:buClr>
                <a:srgbClr val="092e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2e5c"/>
                </a:solidFill>
                <a:latin typeface="Arial"/>
              </a:rPr>
              <a:t>Start simple – </a:t>
            </a: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  <a:p>
            <a:pPr lvl="1" marL="569880" indent="-222120">
              <a:spcBef>
                <a:spcPts val="499"/>
              </a:spcBef>
              <a:buClr>
                <a:srgbClr val="092e5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2e5c"/>
                </a:solidFill>
                <a:latin typeface="Arial"/>
              </a:rPr>
              <a:t>No changes to the LAS file</a:t>
            </a:r>
            <a:endParaRPr b="0" lang="en-US" sz="2000" spc="-1" strike="noStrike">
              <a:solidFill>
                <a:srgbClr val="092e5c"/>
              </a:solidFill>
              <a:latin typeface="Arial"/>
            </a:endParaRPr>
          </a:p>
          <a:p>
            <a:pPr lvl="1" marL="569880" indent="-222120">
              <a:spcBef>
                <a:spcPts val="499"/>
              </a:spcBef>
              <a:buClr>
                <a:srgbClr val="092e5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2e5c"/>
                </a:solidFill>
                <a:latin typeface="Arial"/>
              </a:rPr>
              <a:t>Add a “sidecar” file that has all the optimization information in it</a:t>
            </a:r>
            <a:endParaRPr b="0" lang="en-US" sz="2000" spc="-1" strike="noStrike">
              <a:solidFill>
                <a:srgbClr val="092e5c"/>
              </a:solidFill>
              <a:latin typeface="Arial"/>
            </a:endParaRPr>
          </a:p>
          <a:p>
            <a:pPr lvl="2" marL="912960" indent="-228600">
              <a:spcBef>
                <a:spcPts val="451"/>
              </a:spcBef>
              <a:buClr>
                <a:srgbClr val="092e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92e5c"/>
                </a:solidFill>
                <a:latin typeface="Arial"/>
              </a:rPr>
              <a:t>Metadata</a:t>
            </a:r>
            <a:endParaRPr b="0" lang="en-US" sz="1800" spc="-1" strike="noStrike">
              <a:solidFill>
                <a:srgbClr val="092e5c"/>
              </a:solidFill>
              <a:latin typeface="Arial"/>
            </a:endParaRPr>
          </a:p>
          <a:p>
            <a:pPr lvl="2" marL="912960" indent="-228600">
              <a:spcBef>
                <a:spcPts val="451"/>
              </a:spcBef>
              <a:buClr>
                <a:srgbClr val="092e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92e5c"/>
                </a:solidFill>
                <a:latin typeface="Arial"/>
              </a:rPr>
              <a:t>Classification</a:t>
            </a:r>
            <a:endParaRPr b="0" lang="en-US" sz="1800" spc="-1" strike="noStrike">
              <a:solidFill>
                <a:srgbClr val="092e5c"/>
              </a:solidFill>
              <a:latin typeface="Arial"/>
            </a:endParaRPr>
          </a:p>
          <a:p>
            <a:pPr lvl="2" marL="912960" indent="-228600">
              <a:spcBef>
                <a:spcPts val="451"/>
              </a:spcBef>
              <a:buClr>
                <a:srgbClr val="092e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92e5c"/>
                </a:solidFill>
                <a:latin typeface="Arial"/>
              </a:rPr>
              <a:t>Statistics</a:t>
            </a:r>
            <a:endParaRPr b="0" lang="en-US" sz="1800" spc="-1" strike="noStrike">
              <a:solidFill>
                <a:srgbClr val="092e5c"/>
              </a:solidFill>
              <a:latin typeface="Arial"/>
            </a:endParaRPr>
          </a:p>
          <a:p>
            <a:pPr lvl="2" marL="912960" indent="-228600">
              <a:spcBef>
                <a:spcPts val="451"/>
              </a:spcBef>
              <a:buClr>
                <a:srgbClr val="092e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92e5c"/>
                </a:solidFill>
                <a:latin typeface="Arial"/>
              </a:rPr>
              <a:t>Spatial Indexing</a:t>
            </a:r>
            <a:endParaRPr b="0" lang="en-US" sz="1800" spc="-1" strike="noStrike">
              <a:solidFill>
                <a:srgbClr val="092e5c"/>
              </a:solidFill>
              <a:latin typeface="Arial"/>
            </a:endParaRPr>
          </a:p>
          <a:p>
            <a:pPr lvl="2" marL="912960" indent="-228600">
              <a:spcBef>
                <a:spcPts val="451"/>
              </a:spcBef>
              <a:buClr>
                <a:srgbClr val="092e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92e5c"/>
                </a:solidFill>
                <a:latin typeface="Arial"/>
              </a:rPr>
              <a:t>Reorganize records</a:t>
            </a:r>
            <a:endParaRPr b="0" lang="en-US" sz="1800" spc="-1" strike="noStrike">
              <a:solidFill>
                <a:srgbClr val="092e5c"/>
              </a:solidFill>
              <a:latin typeface="Arial"/>
            </a:endParaRPr>
          </a:p>
          <a:p>
            <a:pPr marL="233280" indent="-233280">
              <a:spcBef>
                <a:spcPts val="601"/>
              </a:spcBef>
              <a:buClr>
                <a:srgbClr val="092e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2e5c"/>
                </a:solidFill>
                <a:latin typeface="Arial"/>
              </a:rPr>
              <a:t>Get more complicated later – </a:t>
            </a: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  <a:p>
            <a:pPr lvl="1" marL="569880" indent="-222120">
              <a:spcBef>
                <a:spcPts val="499"/>
              </a:spcBef>
              <a:buClr>
                <a:srgbClr val="092e5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2e5c"/>
                </a:solidFill>
                <a:latin typeface="Arial"/>
              </a:rPr>
              <a:t>Redefine the LAS file storage</a:t>
            </a:r>
            <a:endParaRPr b="0" lang="en-US" sz="2000" spc="-1" strike="noStrike">
              <a:solidFill>
                <a:srgbClr val="092e5c"/>
              </a:solidFill>
              <a:latin typeface="Arial"/>
            </a:endParaRPr>
          </a:p>
          <a:p>
            <a:pPr lvl="2" marL="912960" indent="-228600">
              <a:spcBef>
                <a:spcPts val="451"/>
              </a:spcBef>
              <a:buClr>
                <a:srgbClr val="092e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92e5c"/>
                </a:solidFill>
                <a:latin typeface="Arial"/>
              </a:rPr>
              <a:t>SQL is your friend – RDBMS and SQLite</a:t>
            </a:r>
            <a:endParaRPr b="0" lang="en-US" sz="1800" spc="-1" strike="noStrike">
              <a:solidFill>
                <a:srgbClr val="092e5c"/>
              </a:solidFill>
              <a:latin typeface="Arial"/>
            </a:endParaRPr>
          </a:p>
          <a:p>
            <a:pPr lvl="2" marL="912960" indent="-228600">
              <a:spcBef>
                <a:spcPts val="451"/>
              </a:spcBef>
              <a:buClr>
                <a:srgbClr val="092e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92e5c"/>
                </a:solidFill>
                <a:latin typeface="Arial"/>
              </a:rPr>
              <a:t>Make it continuous and scalable</a:t>
            </a:r>
            <a:endParaRPr b="0" lang="en-US" sz="1800" spc="-1" strike="noStrike">
              <a:solidFill>
                <a:srgbClr val="092e5c"/>
              </a:solidFill>
              <a:latin typeface="Arial"/>
            </a:endParaRPr>
          </a:p>
          <a:p>
            <a:pPr lvl="2" marL="912960" indent="-228600">
              <a:spcBef>
                <a:spcPts val="451"/>
              </a:spcBef>
              <a:buClr>
                <a:srgbClr val="092e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92e5c"/>
                </a:solidFill>
                <a:latin typeface="Arial"/>
              </a:rPr>
              <a:t>Compression</a:t>
            </a:r>
            <a:endParaRPr b="0" lang="en-US" sz="18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221" name="Footer Placeholder 3"/>
          <p:cNvSpPr/>
          <p:nvPr/>
        </p:nvSpPr>
        <p:spPr>
          <a:xfrm>
            <a:off x="2973240" y="6553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92e5c"/>
                </a:solidFill>
                <a:latin typeface="Arial"/>
              </a:rPr>
              <a:t>Copyright © 2016 Open Geospatial Consortium</a:t>
            </a:r>
            <a:endParaRPr b="1" lang="en-US" sz="900" spc="-1" strike="noStrike">
              <a:solidFill>
                <a:srgbClr val="000000"/>
              </a:solidFill>
              <a:latin typeface="CG Time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2e5c"/>
                </a:solidFill>
                <a:latin typeface="Arial"/>
              </a:rPr>
              <a:t>Sidecar File</a:t>
            </a: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223" name="Footer Placeholder 3"/>
          <p:cNvSpPr/>
          <p:nvPr/>
        </p:nvSpPr>
        <p:spPr>
          <a:xfrm>
            <a:off x="2973240" y="6553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92e5c"/>
                </a:solidFill>
                <a:latin typeface="Arial"/>
              </a:rPr>
              <a:t>Copyright © 2016 Open Geospatial Consortium</a:t>
            </a:r>
            <a:endParaRPr b="1" lang="en-US" sz="900" spc="-1" strike="noStrike">
              <a:solidFill>
                <a:srgbClr val="000000"/>
              </a:solidFill>
              <a:latin typeface="CG Times"/>
            </a:endParaRPr>
          </a:p>
        </p:txBody>
      </p:sp>
      <p:sp>
        <p:nvSpPr>
          <p:cNvPr id="224" name="TextBox 8"/>
          <p:cNvSpPr/>
          <p:nvPr/>
        </p:nvSpPr>
        <p:spPr>
          <a:xfrm>
            <a:off x="2819520" y="106668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1000" spc="-1" strike="noStrike">
              <a:solidFill>
                <a:srgbClr val="000000"/>
              </a:solidFill>
              <a:latin typeface="CG Times"/>
            </a:endParaRPr>
          </a:p>
        </p:txBody>
      </p:sp>
      <p:grpSp>
        <p:nvGrpSpPr>
          <p:cNvPr id="225" name="Group 11"/>
          <p:cNvGrpSpPr/>
          <p:nvPr/>
        </p:nvGrpSpPr>
        <p:grpSpPr>
          <a:xfrm>
            <a:off x="2192400" y="3759120"/>
            <a:ext cx="1749240" cy="2594160"/>
            <a:chOff x="2192400" y="3759120"/>
            <a:chExt cx="1749240" cy="2594160"/>
          </a:xfrm>
        </p:grpSpPr>
        <p:sp>
          <p:nvSpPr>
            <p:cNvPr id="226" name="Rectangle 4"/>
            <p:cNvSpPr/>
            <p:nvPr/>
          </p:nvSpPr>
          <p:spPr>
            <a:xfrm>
              <a:off x="2192400" y="3992400"/>
              <a:ext cx="1676520" cy="2360880"/>
            </a:xfrm>
            <a:prstGeom prst="rect">
              <a:avLst/>
            </a:prstGeom>
            <a:solidFill>
              <a:srgbClr val="d1f0d1"/>
            </a:solidFill>
            <a:ln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000000"/>
                </a:solidFill>
                <a:latin typeface="CG Times"/>
              </a:endParaRPr>
            </a:p>
          </p:txBody>
        </p:sp>
        <p:sp>
          <p:nvSpPr>
            <p:cNvPr id="227" name="TextBox 5"/>
            <p:cNvSpPr/>
            <p:nvPr/>
          </p:nvSpPr>
          <p:spPr>
            <a:xfrm>
              <a:off x="2573280" y="4440240"/>
              <a:ext cx="914400" cy="91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G Times"/>
                </a:rPr>
                <a:t>Existing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CG Times"/>
                </a:rPr>
                <a:t>LAS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CG Times"/>
                </a:rPr>
                <a:t>Data file</a:t>
              </a:r>
              <a:endParaRPr b="1" lang="en-US" sz="2400" spc="-1" strike="noStrike">
                <a:solidFill>
                  <a:srgbClr val="000000"/>
                </a:solidFill>
                <a:latin typeface="CG Times"/>
              </a:endParaRPr>
            </a:p>
          </p:txBody>
        </p:sp>
        <p:sp>
          <p:nvSpPr>
            <p:cNvPr id="228" name="TextBox 9"/>
            <p:cNvSpPr/>
            <p:nvPr/>
          </p:nvSpPr>
          <p:spPr>
            <a:xfrm>
              <a:off x="2192400" y="3759120"/>
              <a:ext cx="1749240" cy="91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G Times"/>
                </a:rPr>
                <a:t>MyLidarData.las</a:t>
              </a:r>
              <a:endParaRPr b="1" lang="en-US" sz="1400" spc="-1" strike="noStrike">
                <a:solidFill>
                  <a:srgbClr val="000000"/>
                </a:solidFill>
                <a:latin typeface="CG Times"/>
              </a:endParaRPr>
            </a:p>
          </p:txBody>
        </p:sp>
      </p:grpSp>
      <p:grpSp>
        <p:nvGrpSpPr>
          <p:cNvPr id="229" name="Group 12"/>
          <p:cNvGrpSpPr/>
          <p:nvPr/>
        </p:nvGrpSpPr>
        <p:grpSpPr>
          <a:xfrm>
            <a:off x="4886280" y="3759120"/>
            <a:ext cx="1751040" cy="1595520"/>
            <a:chOff x="4886280" y="3759120"/>
            <a:chExt cx="1751040" cy="1595520"/>
          </a:xfrm>
        </p:grpSpPr>
        <p:sp>
          <p:nvSpPr>
            <p:cNvPr id="230" name="Rectangle 6"/>
            <p:cNvSpPr/>
            <p:nvPr/>
          </p:nvSpPr>
          <p:spPr>
            <a:xfrm>
              <a:off x="4957560" y="3992400"/>
              <a:ext cx="1525680" cy="1362240"/>
            </a:xfrm>
            <a:prstGeom prst="rect">
              <a:avLst/>
            </a:prstGeom>
            <a:solidFill>
              <a:srgbClr val="d1f0d1"/>
            </a:solidFill>
            <a:ln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000000"/>
                </a:solidFill>
                <a:latin typeface="CG Times"/>
              </a:endParaRPr>
            </a:p>
          </p:txBody>
        </p:sp>
        <p:sp>
          <p:nvSpPr>
            <p:cNvPr id="231" name="TextBox 7"/>
            <p:cNvSpPr/>
            <p:nvPr/>
          </p:nvSpPr>
          <p:spPr>
            <a:xfrm flipV="1" rot="10800000">
              <a:off x="4957200" y="3992040"/>
              <a:ext cx="1525320" cy="94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G Times"/>
                </a:rPr>
                <a:t>Metadata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CG Times"/>
                </a:rPr>
                <a:t>Classification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CG Times"/>
                </a:rPr>
                <a:t>Statistics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CG Times"/>
                </a:rPr>
                <a:t>Spatial Index</a:t>
              </a:r>
              <a:endParaRPr b="1" lang="en-US" sz="1600" spc="-1" strike="noStrike">
                <a:solidFill>
                  <a:srgbClr val="000000"/>
                </a:solidFill>
                <a:latin typeface="CG Times"/>
              </a:endParaRPr>
            </a:p>
          </p:txBody>
        </p:sp>
        <p:sp>
          <p:nvSpPr>
            <p:cNvPr id="232" name="TextBox 10"/>
            <p:cNvSpPr/>
            <p:nvPr/>
          </p:nvSpPr>
          <p:spPr>
            <a:xfrm>
              <a:off x="4886280" y="3759120"/>
              <a:ext cx="175104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G Times"/>
                </a:rPr>
                <a:t>MyLidarData.lasX</a:t>
              </a:r>
              <a:endParaRPr b="1" lang="en-US" sz="1400" spc="-1" strike="noStrike">
                <a:solidFill>
                  <a:srgbClr val="000000"/>
                </a:solidFill>
                <a:latin typeface="CG Times"/>
              </a:endParaRPr>
            </a:p>
          </p:txBody>
        </p:sp>
      </p:grpSp>
      <p:cxnSp>
        <p:nvCxnSpPr>
          <p:cNvPr id="233" name="Straight Arrow Connector 14"/>
          <p:cNvCxnSpPr/>
          <p:nvPr/>
        </p:nvCxnSpPr>
        <p:spPr>
          <a:xfrm flipH="1">
            <a:off x="3940920" y="4673160"/>
            <a:ext cx="972360" cy="1080"/>
          </a:xfrm>
          <a:prstGeom prst="straightConnector1">
            <a:avLst/>
          </a:prstGeom>
          <a:ln w="63360">
            <a:solidFill>
              <a:srgbClr val="ff1212"/>
            </a:solidFill>
            <a:miter/>
            <a:tailEnd len="med" type="triangle" w="med"/>
          </a:ln>
        </p:spPr>
      </p:cxnSp>
      <p:sp>
        <p:nvSpPr>
          <p:cNvPr id="234" name="TextBox 15"/>
          <p:cNvSpPr/>
          <p:nvPr/>
        </p:nvSpPr>
        <p:spPr>
          <a:xfrm>
            <a:off x="457200" y="1247760"/>
            <a:ext cx="7620120" cy="14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S Data File is not modified – allows us to support all existing LAS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visions without compatibility problems</a:t>
            </a:r>
            <a:endParaRPr b="1" lang="en-US" sz="2000" spc="-1" strike="noStrike">
              <a:solidFill>
                <a:srgbClr val="000000"/>
              </a:solidFill>
              <a:latin typeface="CG Time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itional information is stored in the sidecar file, and used by th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to configure the user interface and optimize data access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uld be XML, CSV, Binary, or a well defined mix for efficiency</a:t>
            </a:r>
            <a:endParaRPr b="1" lang="en-US" sz="2000" spc="-1" strike="noStrike">
              <a:solidFill>
                <a:srgbClr val="000000"/>
              </a:solidFill>
              <a:latin typeface="CG Time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15T20:11:27Z</dcterms:created>
  <dc:creator>Scott Simmons</dc:creator>
  <dc:description/>
  <dc:language>en-US</dc:language>
  <cp:lastModifiedBy>Keith Ryden</cp:lastModifiedBy>
  <cp:lastPrinted>2003-02-03T21:59:32Z</cp:lastPrinted>
  <dcterms:modified xsi:type="dcterms:W3CDTF">2016-03-05T21:27:22Z</dcterms:modified>
  <cp:revision>23</cp:revision>
  <dc:subject>OGC TC/PC</dc:subject>
  <dc:title>Presentation Template</dc:title>
</cp:coreProperties>
</file>