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90403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9048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923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911760" y="-360"/>
            <a:ext cx="29923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7680" y="692280"/>
            <a:ext cx="461016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20880" y="4379400"/>
            <a:ext cx="506232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0" y="8759520"/>
            <a:ext cx="29923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911760" y="8759520"/>
            <a:ext cx="29923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B4501A8-1AE5-43F4-BE37-4BA8D04C1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7680" y="692280"/>
            <a:ext cx="4608720" cy="34574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20880" y="4379400"/>
            <a:ext cx="506232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911760" y="8759880"/>
            <a:ext cx="29923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3A6A453-86EE-46A0-AACA-2CD3C65BC34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7680" y="692280"/>
            <a:ext cx="4608720" cy="34574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0880" y="4379400"/>
            <a:ext cx="506232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911760" y="8759880"/>
            <a:ext cx="29923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B5EA17C-196C-402A-ABC1-959162E4A94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8E811-DFF4-46C8-BCBA-C600C0EE54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84582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45600" y="3834000"/>
            <a:ext cx="84582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753EB-DE72-4D8E-8AF7-0F3AAF611F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560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964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6F932-48E2-4E8D-BABA-C82BD2420A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05440" y="127908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5640" y="127908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45600" y="383400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05440" y="383400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5640" y="383400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9F76E-00C1-4EB0-AAFC-3C01BE6118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31480" y="136080"/>
            <a:ext cx="86835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4560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488F1-7CA6-4228-A13A-E1090210BB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964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45600" y="3834000"/>
            <a:ext cx="84582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84582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45600" y="3834000"/>
            <a:ext cx="84582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4560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964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05440" y="127908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65640" y="127908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45600" y="383400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05440" y="383400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65640" y="383400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A3373-B0D5-4433-8FF4-F2A1B1B62C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3F858-1278-499D-A8E5-6E7E0803EB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EEB96-0C0F-4B8F-8974-9136549211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31480" y="136080"/>
            <a:ext cx="86835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5DD37-A9DA-4A97-ACBE-C973215972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4560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5E48C-71B4-40B5-82AA-0FC3F53802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964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43CCA-7753-4014-87A2-0F6B84C060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5600" y="3834000"/>
            <a:ext cx="84582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C5E87-BC2B-4353-A636-BDD9462EBE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"/>
          <p:cNvPicPr/>
          <p:nvPr/>
        </p:nvPicPr>
        <p:blipFill>
          <a:blip r:embed="rId2"/>
          <a:stretch/>
        </p:blipFill>
        <p:spPr>
          <a:xfrm>
            <a:off x="365040" y="776160"/>
            <a:ext cx="8454960" cy="490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2" marL="912960" indent="-22860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3" marL="1255680" indent="-22860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4" marL="1598760" indent="-228600">
              <a:spcBef>
                <a:spcPts val="601"/>
              </a:spcBef>
              <a:buClr>
                <a:srgbClr val="092e5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5" marL="15987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6" marL="15987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973240" y="6552720"/>
            <a:ext cx="3200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92e5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896160" y="65527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92e5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0C1AA-D622-4356-A7BB-D4A38DB429FE}" type="slidenum">
              <a:rPr b="0" lang="en-US" sz="900" spc="-1" strike="noStrike">
                <a:solidFill>
                  <a:srgbClr val="092e5c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6"/>
          <p:cNvSpPr/>
          <p:nvPr/>
        </p:nvSpPr>
        <p:spPr>
          <a:xfrm>
            <a:off x="334080" y="6219720"/>
            <a:ext cx="1155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92e5c"/>
                </a:solidFill>
                <a:latin typeface="Times New Roman"/>
                <a:ea typeface="MS PGothic"/>
              </a:rPr>
              <a:t>OGC</a:t>
            </a:r>
            <a:endParaRPr b="1" lang="en-US" sz="4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6" name="Text Box 20"/>
          <p:cNvSpPr/>
          <p:nvPr/>
        </p:nvSpPr>
        <p:spPr>
          <a:xfrm>
            <a:off x="1498680" y="6270480"/>
            <a:ext cx="9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92e5c"/>
                </a:solidFill>
                <a:latin typeface="Arial"/>
              </a:rPr>
              <a:t>®</a:t>
            </a: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18"/>
          <p:cNvSpPr/>
          <p:nvPr/>
        </p:nvSpPr>
        <p:spPr>
          <a:xfrm>
            <a:off x="8739000" y="214200"/>
            <a:ext cx="7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®</a:t>
            </a:r>
            <a:endParaRPr b="1" lang="en-US" sz="800" spc="-1" strike="noStrike">
              <a:solidFill>
                <a:srgbClr val="000000"/>
              </a:solidFill>
              <a:latin typeface="CG Times"/>
            </a:endParaRPr>
          </a:p>
        </p:txBody>
      </p:sp>
      <p:pic>
        <p:nvPicPr>
          <p:cNvPr id="44" name="Picture 10" descr="OGC header 20101220.png"/>
          <p:cNvPicPr/>
          <p:nvPr/>
        </p:nvPicPr>
        <p:blipFill>
          <a:blip r:embed="rId2"/>
          <a:stretch/>
        </p:blipFill>
        <p:spPr>
          <a:xfrm>
            <a:off x="0" y="0"/>
            <a:ext cx="9144000" cy="2247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Picture 7.png"/>
          <p:cNvPicPr/>
          <p:nvPr/>
        </p:nvPicPr>
        <p:blipFill>
          <a:blip r:embed="rId3"/>
          <a:stretch/>
        </p:blipFill>
        <p:spPr>
          <a:xfrm>
            <a:off x="380880" y="6095880"/>
            <a:ext cx="1381320" cy="6098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4149360" y="1219320"/>
            <a:ext cx="84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Sponsored by</a:t>
            </a: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pic>
        <p:nvPicPr>
          <p:cNvPr id="47" name="Picture 12" descr=""/>
          <p:cNvPicPr/>
          <p:nvPr/>
        </p:nvPicPr>
        <p:blipFill>
          <a:blip r:embed="rId4"/>
          <a:stretch/>
        </p:blipFill>
        <p:spPr>
          <a:xfrm>
            <a:off x="3060720" y="1943280"/>
            <a:ext cx="3022560" cy="6094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2" marL="912960" indent="-22860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3" marL="1255680" indent="-22860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4" marL="1598760" indent="-228600">
              <a:spcBef>
                <a:spcPts val="601"/>
              </a:spcBef>
              <a:buClr>
                <a:srgbClr val="092e5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5" marL="15987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6" marL="15987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3"/>
          </p:nvPr>
        </p:nvSpPr>
        <p:spPr>
          <a:xfrm>
            <a:off x="3009960" y="640044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92e5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3.png"/><Relationship Id="rId3" Type="http://schemas.openxmlformats.org/officeDocument/2006/relationships/image" Target="../media/image25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26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 Black"/>
              </a:rPr>
              <a:t>Improving Access to Point Cloud Data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47920" y="45720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92e5c"/>
                </a:solidFill>
                <a:latin typeface="Arial"/>
                <a:ea typeface="Arial"/>
              </a:rPr>
              <a:t>98th OGC Technical Committee</a:t>
            </a:r>
            <a:endParaRPr b="0" lang="en-US" sz="1100" spc="-1" strike="noStrike">
              <a:solidFill>
                <a:srgbClr val="092e5c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92e5c"/>
                </a:solidFill>
                <a:latin typeface="Arial"/>
                <a:ea typeface="Arial"/>
              </a:rPr>
              <a:t>Washington DC, USA</a:t>
            </a:r>
            <a:endParaRPr b="0" lang="en-US" sz="1100" spc="-1" strike="noStrike">
              <a:solidFill>
                <a:srgbClr val="092e5c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92e5c"/>
                </a:solidFill>
                <a:latin typeface="Arial"/>
                <a:ea typeface="Arial"/>
              </a:rPr>
              <a:t>8 March 2016</a:t>
            </a:r>
            <a:endParaRPr b="0" lang="en-US" sz="1100" spc="-1" strike="noStrike">
              <a:solidFill>
                <a:srgbClr val="092e5c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92e5c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92e5c"/>
                </a:solidFill>
                <a:latin typeface="Arial"/>
              </a:rPr>
              <a:t>Keith Ryden</a:t>
            </a:r>
            <a:endParaRPr b="0" lang="en-US" sz="1100" spc="-1" strike="noStrike">
              <a:solidFill>
                <a:srgbClr val="092e5c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92e5c"/>
                </a:solidFill>
                <a:latin typeface="Arial"/>
              </a:rPr>
              <a:t>Esri Software Development</a:t>
            </a:r>
            <a:endParaRPr b="0" lang="en-US" sz="1100" spc="-1" strike="noStrike">
              <a:solidFill>
                <a:srgbClr val="092e5c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92e5c"/>
                </a:solidFill>
                <a:latin typeface="Arial"/>
              </a:rPr>
              <a:t>kryden@esri.com</a:t>
            </a:r>
            <a:endParaRPr b="0" lang="en-US" sz="1100" spc="-1" strike="noStrike">
              <a:solidFill>
                <a:srgbClr val="092e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Point Classification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pic>
        <p:nvPicPr>
          <p:cNvPr id="236" name="Content Placeholder 4" descr=""/>
          <p:cNvPicPr/>
          <p:nvPr/>
        </p:nvPicPr>
        <p:blipFill>
          <a:blip r:embed="rId1"/>
          <a:stretch/>
        </p:blipFill>
        <p:spPr>
          <a:xfrm>
            <a:off x="4462560" y="1089000"/>
            <a:ext cx="4092480" cy="2021040"/>
          </a:xfrm>
          <a:prstGeom prst="rect">
            <a:avLst/>
          </a:prstGeom>
          <a:ln w="0">
            <a:noFill/>
          </a:ln>
        </p:spPr>
      </p:pic>
      <p:sp>
        <p:nvSpPr>
          <p:cNvPr id="237" name="Footer Placehold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  <p:pic>
        <p:nvPicPr>
          <p:cNvPr id="238" name="Picture 5" descr=""/>
          <p:cNvPicPr/>
          <p:nvPr/>
        </p:nvPicPr>
        <p:blipFill>
          <a:blip r:embed="rId2"/>
          <a:stretch/>
        </p:blipFill>
        <p:spPr>
          <a:xfrm>
            <a:off x="4438800" y="3124080"/>
            <a:ext cx="4170240" cy="3124440"/>
          </a:xfrm>
          <a:prstGeom prst="rect">
            <a:avLst/>
          </a:prstGeom>
          <a:ln w="0">
            <a:noFill/>
          </a:ln>
        </p:spPr>
      </p:pic>
      <p:sp>
        <p:nvSpPr>
          <p:cNvPr id="239" name="TextBox 6"/>
          <p:cNvSpPr/>
          <p:nvPr/>
        </p:nvSpPr>
        <p:spPr>
          <a:xfrm>
            <a:off x="4438800" y="61912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G Times"/>
              </a:rPr>
              <a:t>From ASPRS LAS Specification Version 1.4-R13</a:t>
            </a:r>
            <a:endParaRPr b="1" lang="en-US" sz="8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240" name="TextBox 7"/>
          <p:cNvSpPr/>
          <p:nvPr/>
        </p:nvSpPr>
        <p:spPr>
          <a:xfrm>
            <a:off x="533520" y="1481040"/>
            <a:ext cx="35049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defines a se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ification values</a:t>
            </a:r>
            <a:endParaRPr b="1" lang="en-US" sz="2400" spc="-1" strike="noStrike">
              <a:solidFill>
                <a:srgbClr val="000000"/>
              </a:solidFill>
              <a:latin typeface="CG Time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G Time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der format values 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ubset of newer values</a:t>
            </a:r>
            <a:endParaRPr b="1" lang="en-US" sz="2400" spc="-1" strike="noStrike">
              <a:solidFill>
                <a:srgbClr val="000000"/>
              </a:solidFill>
              <a:latin typeface="CG Time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G Time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reserved or us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able values 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, where are the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d?</a:t>
            </a:r>
            <a:endParaRPr b="1" lang="en-US" sz="24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Point Classification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pic>
        <p:nvPicPr>
          <p:cNvPr id="242" name="Content Placeholder 4" descr=""/>
          <p:cNvPicPr/>
          <p:nvPr/>
        </p:nvPicPr>
        <p:blipFill>
          <a:blip r:embed="rId1"/>
          <a:stretch/>
        </p:blipFill>
        <p:spPr>
          <a:xfrm>
            <a:off x="344520" y="2362320"/>
            <a:ext cx="8458200" cy="3674880"/>
          </a:xfrm>
          <a:prstGeom prst="rect">
            <a:avLst/>
          </a:prstGeom>
          <a:ln w="0">
            <a:noFill/>
          </a:ln>
        </p:spPr>
      </p:pic>
      <p:sp>
        <p:nvSpPr>
          <p:cNvPr id="243" name="Footer Placehold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244" name="TextBox 5"/>
          <p:cNvSpPr/>
          <p:nvPr/>
        </p:nvSpPr>
        <p:spPr>
          <a:xfrm>
            <a:off x="344520" y="14479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G Times"/>
              </a:rPr>
              <a:t>User defined classification values probably end up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G Times"/>
              </a:rPr>
              <a:t>being recorded in spreadsheets….</a:t>
            </a:r>
            <a:endParaRPr b="1" lang="en-US" sz="24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Point Classification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Data Point Classification is easily defined in a portable format – possible info might include: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Classification Value (integer)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Classification Name (short string)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Classification Description (optional, longer description)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Classification URL (optional, URL to external descriptive resource)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Point Count (integer)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Well suited for either XML or CSV format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47" name="Footer Placehold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Fast Spatial Access to Point Records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LAS files consist of variable length records full of individual fixed format point records.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Each record has it’s length and ID encoded in its’ header.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End up scanning the file to find stuff…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We can optimize access to LAS data by spatially indexing the variable length point records based on the extent of the points, using the point record ID as the key.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Now you know which variable length point records are of interest…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Read only those, and scan the internal points.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50" name="Footer Placehold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Spatial Index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52" name="TextBox 2"/>
          <p:cNvSpPr/>
          <p:nvPr/>
        </p:nvSpPr>
        <p:spPr>
          <a:xfrm>
            <a:off x="624240" y="2301840"/>
            <a:ext cx="4042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tial indexing for fast access to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by extent/location.  There are</a:t>
            </a:r>
            <a:endParaRPr b="1" lang="en-US" sz="2000" spc="-1" strike="noStrike">
              <a:solidFill>
                <a:srgbClr val="000000"/>
              </a:solidFill>
              <a:latin typeface="CG Time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indexing possibilities </a:t>
            </a:r>
            <a:endParaRPr b="1" lang="en-US" sz="2000" spc="-1" strike="noStrike">
              <a:solidFill>
                <a:srgbClr val="000000"/>
              </a:solidFill>
              <a:latin typeface="CG Time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s </a:t>
            </a:r>
            <a:endParaRPr b="1" lang="en-US" sz="2000" spc="-1" strike="noStrike">
              <a:solidFill>
                <a:srgbClr val="000000"/>
              </a:solidFill>
              <a:latin typeface="CG Time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d Trees </a:t>
            </a:r>
            <a:endParaRPr b="1" lang="en-US" sz="2000" spc="-1" strike="noStrike">
              <a:solidFill>
                <a:srgbClr val="000000"/>
              </a:solidFill>
              <a:latin typeface="CG Time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Trees</a:t>
            </a:r>
            <a:endParaRPr b="1" lang="en-US" sz="2000" spc="-1" strike="noStrike">
              <a:solidFill>
                <a:srgbClr val="000000"/>
              </a:solidFill>
              <a:latin typeface="CG Times"/>
            </a:endParaRPr>
          </a:p>
        </p:txBody>
      </p:sp>
      <p:pic>
        <p:nvPicPr>
          <p:cNvPr id="253" name="Picture 3" descr=""/>
          <p:cNvPicPr/>
          <p:nvPr/>
        </p:nvPicPr>
        <p:blipFill>
          <a:blip r:embed="rId1"/>
          <a:stretch/>
        </p:blipFill>
        <p:spPr>
          <a:xfrm>
            <a:off x="5334120" y="1600200"/>
            <a:ext cx="2743200" cy="4664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54" name="Straight Connector 5"/>
          <p:cNvSpPr/>
          <p:nvPr/>
        </p:nvSpPr>
        <p:spPr>
          <a:xfrm>
            <a:off x="6705720" y="1600200"/>
            <a:ext cx="0" cy="4664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255" name="Straight Connector 6"/>
          <p:cNvSpPr/>
          <p:nvPr/>
        </p:nvSpPr>
        <p:spPr>
          <a:xfrm>
            <a:off x="6705720" y="1600200"/>
            <a:ext cx="0" cy="4664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256" name="Straight Connector 7"/>
          <p:cNvSpPr/>
          <p:nvPr/>
        </p:nvSpPr>
        <p:spPr>
          <a:xfrm>
            <a:off x="6248520" y="1600200"/>
            <a:ext cx="0" cy="4664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257" name="Straight Connector 8"/>
          <p:cNvSpPr/>
          <p:nvPr/>
        </p:nvSpPr>
        <p:spPr>
          <a:xfrm>
            <a:off x="7162920" y="1600200"/>
            <a:ext cx="0" cy="4664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258" name="Straight Connector 9"/>
          <p:cNvSpPr/>
          <p:nvPr/>
        </p:nvSpPr>
        <p:spPr>
          <a:xfrm>
            <a:off x="7620120" y="1600200"/>
            <a:ext cx="0" cy="4664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259" name="Straight Connector 10"/>
          <p:cNvSpPr/>
          <p:nvPr/>
        </p:nvSpPr>
        <p:spPr>
          <a:xfrm>
            <a:off x="5791320" y="1600200"/>
            <a:ext cx="0" cy="4664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260" name="Straight Connector 11"/>
          <p:cNvSpPr/>
          <p:nvPr/>
        </p:nvSpPr>
        <p:spPr>
          <a:xfrm>
            <a:off x="5334120" y="1600200"/>
            <a:ext cx="0" cy="4664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261" name="Straight Connector 12"/>
          <p:cNvSpPr/>
          <p:nvPr/>
        </p:nvSpPr>
        <p:spPr>
          <a:xfrm>
            <a:off x="8077320" y="1600200"/>
            <a:ext cx="0" cy="4664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262" name="Straight Connector 14"/>
          <p:cNvSpPr/>
          <p:nvPr/>
        </p:nvSpPr>
        <p:spPr>
          <a:xfrm>
            <a:off x="5334120" y="16002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263" name="Straight Connector 20"/>
          <p:cNvSpPr/>
          <p:nvPr/>
        </p:nvSpPr>
        <p:spPr>
          <a:xfrm>
            <a:off x="5334120" y="206676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264" name="Straight Connector 21"/>
          <p:cNvSpPr/>
          <p:nvPr/>
        </p:nvSpPr>
        <p:spPr>
          <a:xfrm>
            <a:off x="5334120" y="25336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265" name="Straight Connector 22"/>
          <p:cNvSpPr/>
          <p:nvPr/>
        </p:nvSpPr>
        <p:spPr>
          <a:xfrm>
            <a:off x="5334120" y="29988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266" name="Straight Connector 23"/>
          <p:cNvSpPr/>
          <p:nvPr/>
        </p:nvSpPr>
        <p:spPr>
          <a:xfrm>
            <a:off x="5334120" y="346536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267" name="Straight Connector 25"/>
          <p:cNvSpPr/>
          <p:nvPr/>
        </p:nvSpPr>
        <p:spPr>
          <a:xfrm>
            <a:off x="5334120" y="579744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268" name="Straight Connector 26"/>
          <p:cNvSpPr/>
          <p:nvPr/>
        </p:nvSpPr>
        <p:spPr>
          <a:xfrm>
            <a:off x="5334120" y="626436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269" name="Straight Connector 27"/>
          <p:cNvSpPr/>
          <p:nvPr/>
        </p:nvSpPr>
        <p:spPr>
          <a:xfrm>
            <a:off x="5334120" y="39322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270" name="Straight Connector 28"/>
          <p:cNvSpPr/>
          <p:nvPr/>
        </p:nvSpPr>
        <p:spPr>
          <a:xfrm>
            <a:off x="5334120" y="439884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271" name="Straight Connector 29"/>
          <p:cNvSpPr/>
          <p:nvPr/>
        </p:nvSpPr>
        <p:spPr>
          <a:xfrm>
            <a:off x="5334120" y="486396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272" name="Straight Connector 30"/>
          <p:cNvSpPr/>
          <p:nvPr/>
        </p:nvSpPr>
        <p:spPr>
          <a:xfrm>
            <a:off x="5334120" y="53308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Metadata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Normalize the Metadata so we can use any LAS version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Lots of Metadata standards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Generally XML encoded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Pick one, or allow any well defined community metadata schema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Include the Coordinate Reference Information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Not consistent across LAS versions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Hash or checksum on the LAS data file?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Might be a good idea – let’s you know if the file has been changed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75" name="Footer Placehold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Rearrange Point Records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If individual points are scattered through the LAS file, you can optimize access by rearranging the points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Cluster points spatially related together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Reorganize points based on application requirements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Moves points into different records, but doesn’t change the LAS format…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78" name="Footer Placehold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  <p:grpSp>
        <p:nvGrpSpPr>
          <p:cNvPr id="279" name="Group 4"/>
          <p:cNvGrpSpPr/>
          <p:nvPr/>
        </p:nvGrpSpPr>
        <p:grpSpPr>
          <a:xfrm>
            <a:off x="758880" y="3867120"/>
            <a:ext cx="3279600" cy="2165400"/>
            <a:chOff x="758880" y="3867120"/>
            <a:chExt cx="3279600" cy="2165400"/>
          </a:xfrm>
        </p:grpSpPr>
        <p:pic>
          <p:nvPicPr>
            <p:cNvPr id="280" name="Picture 4" descr=""/>
            <p:cNvPicPr/>
            <p:nvPr/>
          </p:nvPicPr>
          <p:blipFill>
            <a:blip r:embed="rId1"/>
            <a:stretch/>
          </p:blipFill>
          <p:spPr>
            <a:xfrm>
              <a:off x="2756160" y="3877920"/>
              <a:ext cx="1282320" cy="2154600"/>
            </a:xfrm>
            <a:prstGeom prst="rect">
              <a:avLst/>
            </a:prstGeom>
            <a:ln w="9360">
              <a:solidFill>
                <a:srgbClr val="ffffcc"/>
              </a:solidFill>
              <a:miter/>
            </a:ln>
          </p:spPr>
        </p:pic>
        <p:pic>
          <p:nvPicPr>
            <p:cNvPr id="281" name="Picture 5" descr=""/>
            <p:cNvPicPr/>
            <p:nvPr/>
          </p:nvPicPr>
          <p:blipFill>
            <a:blip r:embed="rId2"/>
            <a:stretch/>
          </p:blipFill>
          <p:spPr>
            <a:xfrm>
              <a:off x="758880" y="3867120"/>
              <a:ext cx="1261440" cy="21445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82" name="Rectangle 7"/>
            <p:cNvSpPr/>
            <p:nvPr/>
          </p:nvSpPr>
          <p:spPr>
            <a:xfrm>
              <a:off x="1388880" y="5010120"/>
              <a:ext cx="306360" cy="360360"/>
            </a:xfrm>
            <a:prstGeom prst="rect">
              <a:avLst/>
            </a:prstGeom>
            <a:noFill/>
            <a:ln w="60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</p:txBody>
        </p:sp>
        <p:cxnSp>
          <p:nvCxnSpPr>
            <p:cNvPr id="283" name="Straight Arrow Connector 8"/>
            <p:cNvCxnSpPr/>
            <p:nvPr/>
          </p:nvCxnSpPr>
          <p:spPr>
            <a:xfrm flipV="1">
              <a:off x="1538280" y="4136760"/>
              <a:ext cx="1218240" cy="977040"/>
            </a:xfrm>
            <a:prstGeom prst="straightConnector1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4" name="Straight Arrow Connector 10"/>
            <p:cNvCxnSpPr/>
            <p:nvPr/>
          </p:nvCxnSpPr>
          <p:spPr>
            <a:xfrm flipV="1">
              <a:off x="1454760" y="4685760"/>
              <a:ext cx="1301400" cy="600480"/>
            </a:xfrm>
            <a:prstGeom prst="straightConnector1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1"/>
            <p:cNvCxnSpPr/>
            <p:nvPr/>
          </p:nvCxnSpPr>
          <p:spPr>
            <a:xfrm>
              <a:off x="1496160" y="5159520"/>
              <a:ext cx="1260720" cy="536400"/>
            </a:xfrm>
            <a:prstGeom prst="straightConnector1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6" name="Group 11"/>
          <p:cNvGrpSpPr/>
          <p:nvPr/>
        </p:nvGrpSpPr>
        <p:grpSpPr>
          <a:xfrm>
            <a:off x="4692600" y="3867120"/>
            <a:ext cx="4114800" cy="2193840"/>
            <a:chOff x="4692600" y="3867120"/>
            <a:chExt cx="4114800" cy="2193840"/>
          </a:xfrm>
        </p:grpSpPr>
        <p:pic>
          <p:nvPicPr>
            <p:cNvPr id="287" name="Picture 4" descr=""/>
            <p:cNvPicPr/>
            <p:nvPr/>
          </p:nvPicPr>
          <p:blipFill>
            <a:blip r:embed="rId3"/>
            <a:stretch/>
          </p:blipFill>
          <p:spPr>
            <a:xfrm>
              <a:off x="7198200" y="3877920"/>
              <a:ext cx="1609200" cy="2183040"/>
            </a:xfrm>
            <a:prstGeom prst="rect">
              <a:avLst/>
            </a:prstGeom>
            <a:ln w="9360">
              <a:solidFill>
                <a:srgbClr val="ffffcc"/>
              </a:solidFill>
              <a:miter/>
            </a:ln>
          </p:spPr>
        </p:pic>
        <p:pic>
          <p:nvPicPr>
            <p:cNvPr id="288" name="Picture 5" descr=""/>
            <p:cNvPicPr/>
            <p:nvPr/>
          </p:nvPicPr>
          <p:blipFill>
            <a:blip r:embed="rId4"/>
            <a:stretch/>
          </p:blipFill>
          <p:spPr>
            <a:xfrm>
              <a:off x="4692600" y="3867120"/>
              <a:ext cx="1582560" cy="21726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89" name="Rectangle 14"/>
            <p:cNvSpPr/>
            <p:nvPr/>
          </p:nvSpPr>
          <p:spPr>
            <a:xfrm>
              <a:off x="5483160" y="5025960"/>
              <a:ext cx="385560" cy="365040"/>
            </a:xfrm>
            <a:prstGeom prst="rect">
              <a:avLst/>
            </a:prstGeom>
            <a:noFill/>
            <a:ln w="60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</p:txBody>
        </p:sp>
        <p:cxnSp>
          <p:nvCxnSpPr>
            <p:cNvPr id="290" name="Straight Arrow Connector 8"/>
            <p:cNvCxnSpPr/>
            <p:nvPr/>
          </p:nvCxnSpPr>
          <p:spPr>
            <a:xfrm flipV="1">
              <a:off x="5670360" y="4919400"/>
              <a:ext cx="1528200" cy="210600"/>
            </a:xfrm>
            <a:prstGeom prst="straightConnector1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1" name="Straight Arrow Connector 10"/>
            <p:cNvCxnSpPr/>
            <p:nvPr/>
          </p:nvCxnSpPr>
          <p:spPr>
            <a:xfrm flipV="1">
              <a:off x="5565960" y="5129640"/>
              <a:ext cx="1632600" cy="174960"/>
            </a:xfrm>
            <a:prstGeom prst="straightConnector1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2" name="Straight Arrow Connector 11"/>
            <p:cNvCxnSpPr/>
            <p:nvPr/>
          </p:nvCxnSpPr>
          <p:spPr>
            <a:xfrm flipV="1">
              <a:off x="5617080" y="5025240"/>
              <a:ext cx="1581480" cy="151560"/>
            </a:xfrm>
            <a:prstGeom prst="straightConnector1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3" name="Straight Connector 3"/>
          <p:cNvSpPr/>
          <p:nvPr/>
        </p:nvSpPr>
        <p:spPr>
          <a:xfrm>
            <a:off x="4267080" y="3505320"/>
            <a:ext cx="0" cy="2971800"/>
          </a:xfrm>
          <a:prstGeom prst="line">
            <a:avLst/>
          </a:prstGeom>
          <a:ln w="66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Redefining LAS Storage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spcBef>
                <a:spcPts val="499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Define a schema for storing LAS header and point record data that can be supported in most modern commercial and open source RDBMS systems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499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Using the existing Simple Features SQL spec, we can encode and spatially search Variable Length LAS Point records.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00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92e5c"/>
                </a:solidFill>
                <a:latin typeface="Arial"/>
              </a:rPr>
              <a:t>INTEGER - Record ID value</a:t>
            </a:r>
            <a:endParaRPr b="0" lang="en-US" sz="16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00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92e5c"/>
                </a:solidFill>
                <a:latin typeface="Arial"/>
              </a:rPr>
              <a:t>GEOMETRY - Polygon or Envelope defining the shape of the Point Record, spatially indexed for fast search ad retrieval</a:t>
            </a:r>
            <a:endParaRPr b="0" lang="en-US" sz="16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00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92e5c"/>
                </a:solidFill>
                <a:latin typeface="Arial"/>
              </a:rPr>
              <a:t>BLOB - Unmodified Variable Length Point Record</a:t>
            </a:r>
            <a:endParaRPr b="0" lang="en-US" sz="16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499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Utilize existing RDBMS capabilities to: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00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92e5c"/>
                </a:solidFill>
                <a:latin typeface="Arial"/>
              </a:rPr>
              <a:t>Manage and partition massive record sets</a:t>
            </a:r>
            <a:endParaRPr b="0" lang="en-US" sz="16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00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92e5c"/>
                </a:solidFill>
                <a:latin typeface="Arial"/>
              </a:rPr>
              <a:t>Provide multi-user access</a:t>
            </a:r>
            <a:endParaRPr b="0" lang="en-US" sz="16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00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92e5c"/>
                </a:solidFill>
                <a:latin typeface="Arial"/>
              </a:rPr>
              <a:t>Maintain referential integrity</a:t>
            </a:r>
            <a:endParaRPr b="0" lang="en-US" sz="16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00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92e5c"/>
                </a:solidFill>
                <a:latin typeface="Arial"/>
              </a:rPr>
              <a:t>Ensure high availability</a:t>
            </a:r>
            <a:endParaRPr b="0" lang="en-US" sz="16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499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Use SQLite for a “Personal” or single file LAS data container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96" name="Footer Placehold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Compress Records of LAS Points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LAS Point Records can be effectively compressed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Retain LAS Variable Length Record format for uncompressed representation – eliminates lots of application change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Hide compression behind the GET/SET function in the client library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Leave the data value compressed during transmission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99" name="Footer Placehold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  <p:grpSp>
        <p:nvGrpSpPr>
          <p:cNvPr id="300" name="Group 4"/>
          <p:cNvGrpSpPr/>
          <p:nvPr/>
        </p:nvGrpSpPr>
        <p:grpSpPr>
          <a:xfrm>
            <a:off x="758880" y="3886200"/>
            <a:ext cx="3249720" cy="2146320"/>
            <a:chOff x="758880" y="3886200"/>
            <a:chExt cx="3249720" cy="2146320"/>
          </a:xfrm>
        </p:grpSpPr>
        <p:pic>
          <p:nvPicPr>
            <p:cNvPr id="301" name="Picture 4" descr=""/>
            <p:cNvPicPr/>
            <p:nvPr/>
          </p:nvPicPr>
          <p:blipFill>
            <a:blip r:embed="rId1"/>
            <a:stretch/>
          </p:blipFill>
          <p:spPr>
            <a:xfrm>
              <a:off x="2737800" y="3897000"/>
              <a:ext cx="1270800" cy="2135520"/>
            </a:xfrm>
            <a:prstGeom prst="rect">
              <a:avLst/>
            </a:prstGeom>
            <a:ln w="9360">
              <a:solidFill>
                <a:srgbClr val="ffffcc"/>
              </a:solidFill>
              <a:miter/>
            </a:ln>
          </p:spPr>
        </p:pic>
        <p:pic>
          <p:nvPicPr>
            <p:cNvPr id="302" name="Picture 5" descr=""/>
            <p:cNvPicPr/>
            <p:nvPr/>
          </p:nvPicPr>
          <p:blipFill>
            <a:blip r:embed="rId2"/>
            <a:stretch/>
          </p:blipFill>
          <p:spPr>
            <a:xfrm>
              <a:off x="758880" y="3886200"/>
              <a:ext cx="1249920" cy="21254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03" name="Rectangle 7"/>
            <p:cNvSpPr/>
            <p:nvPr/>
          </p:nvSpPr>
          <p:spPr>
            <a:xfrm>
              <a:off x="1384200" y="5019840"/>
              <a:ext cx="303120" cy="357120"/>
            </a:xfrm>
            <a:prstGeom prst="rect">
              <a:avLst/>
            </a:prstGeom>
            <a:noFill/>
            <a:ln w="60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</p:txBody>
        </p:sp>
        <p:cxnSp>
          <p:nvCxnSpPr>
            <p:cNvPr id="304" name="Straight Arrow Connector 8"/>
            <p:cNvCxnSpPr/>
            <p:nvPr/>
          </p:nvCxnSpPr>
          <p:spPr>
            <a:xfrm flipV="1">
              <a:off x="1530720" y="4915800"/>
              <a:ext cx="1207080" cy="205920"/>
            </a:xfrm>
            <a:prstGeom prst="straightConnector1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5" name="Straight Arrow Connector 10"/>
            <p:cNvCxnSpPr/>
            <p:nvPr/>
          </p:nvCxnSpPr>
          <p:spPr>
            <a:xfrm flipV="1">
              <a:off x="1448640" y="5121360"/>
              <a:ext cx="1289520" cy="171360"/>
            </a:xfrm>
            <a:prstGeom prst="straightConnector1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6" name="Straight Arrow Connector 11"/>
            <p:cNvCxnSpPr/>
            <p:nvPr/>
          </p:nvCxnSpPr>
          <p:spPr>
            <a:xfrm flipV="1">
              <a:off x="1489320" y="5019120"/>
              <a:ext cx="1249200" cy="147960"/>
            </a:xfrm>
            <a:prstGeom prst="straightConnector1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07" name="Rectangle 11"/>
            <p:cNvSpPr/>
            <p:nvPr/>
          </p:nvSpPr>
          <p:spPr>
            <a:xfrm>
              <a:off x="2870280" y="4875120"/>
              <a:ext cx="1006560" cy="291960"/>
            </a:xfrm>
            <a:prstGeom prst="rect">
              <a:avLst/>
            </a:prstGeom>
            <a:solidFill>
              <a:srgbClr val="339933"/>
            </a:solidFill>
            <a:ln w="25560">
              <a:solidFill>
                <a:srgbClr val="236f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</p:txBody>
        </p:sp>
        <p:sp>
          <p:nvSpPr>
            <p:cNvPr id="308" name="Rectangle 12"/>
            <p:cNvSpPr/>
            <p:nvPr/>
          </p:nvSpPr>
          <p:spPr>
            <a:xfrm>
              <a:off x="2870280" y="4221000"/>
              <a:ext cx="1006560" cy="290520"/>
            </a:xfrm>
            <a:prstGeom prst="rect">
              <a:avLst/>
            </a:prstGeom>
            <a:solidFill>
              <a:srgbClr val="339933"/>
            </a:solidFill>
            <a:ln w="25560">
              <a:solidFill>
                <a:srgbClr val="236f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</p:txBody>
        </p:sp>
        <p:sp>
          <p:nvSpPr>
            <p:cNvPr id="309" name="Rectangle 13"/>
            <p:cNvSpPr/>
            <p:nvPr/>
          </p:nvSpPr>
          <p:spPr>
            <a:xfrm>
              <a:off x="2878200" y="5299200"/>
              <a:ext cx="1006560" cy="450720"/>
            </a:xfrm>
            <a:prstGeom prst="rect">
              <a:avLst/>
            </a:prstGeom>
            <a:solidFill>
              <a:srgbClr val="339933"/>
            </a:solidFill>
            <a:ln w="25560">
              <a:solidFill>
                <a:srgbClr val="236f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</p:txBody>
        </p:sp>
        <p:sp>
          <p:nvSpPr>
            <p:cNvPr id="310" name="Rectangle 14"/>
            <p:cNvSpPr/>
            <p:nvPr/>
          </p:nvSpPr>
          <p:spPr>
            <a:xfrm>
              <a:off x="2870280" y="4603680"/>
              <a:ext cx="1006560" cy="144360"/>
            </a:xfrm>
            <a:prstGeom prst="rect">
              <a:avLst/>
            </a:prstGeom>
            <a:solidFill>
              <a:srgbClr val="339933"/>
            </a:solidFill>
            <a:ln w="25560">
              <a:solidFill>
                <a:srgbClr val="236f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</p:txBody>
        </p:sp>
      </p:grpSp>
      <p:grpSp>
        <p:nvGrpSpPr>
          <p:cNvPr id="311" name="Group 15"/>
          <p:cNvGrpSpPr/>
          <p:nvPr/>
        </p:nvGrpSpPr>
        <p:grpSpPr>
          <a:xfrm>
            <a:off x="4876920" y="3914640"/>
            <a:ext cx="3249360" cy="2146320"/>
            <a:chOff x="4876920" y="3914640"/>
            <a:chExt cx="3249360" cy="2146320"/>
          </a:xfrm>
        </p:grpSpPr>
        <p:pic>
          <p:nvPicPr>
            <p:cNvPr id="312" name="Picture 4" descr=""/>
            <p:cNvPicPr/>
            <p:nvPr/>
          </p:nvPicPr>
          <p:blipFill>
            <a:blip r:embed="rId3"/>
            <a:stretch/>
          </p:blipFill>
          <p:spPr>
            <a:xfrm>
              <a:off x="6855480" y="3925440"/>
              <a:ext cx="1270800" cy="2135520"/>
            </a:xfrm>
            <a:prstGeom prst="rect">
              <a:avLst/>
            </a:prstGeom>
            <a:ln w="9360">
              <a:solidFill>
                <a:srgbClr val="ffffcc"/>
              </a:solidFill>
              <a:miter/>
            </a:ln>
          </p:spPr>
        </p:pic>
        <p:pic>
          <p:nvPicPr>
            <p:cNvPr id="313" name="Picture 5" descr=""/>
            <p:cNvPicPr/>
            <p:nvPr/>
          </p:nvPicPr>
          <p:blipFill>
            <a:blip r:embed="rId4"/>
            <a:stretch/>
          </p:blipFill>
          <p:spPr>
            <a:xfrm>
              <a:off x="4876920" y="3914640"/>
              <a:ext cx="1249560" cy="21254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14" name="Rectangle 18"/>
            <p:cNvSpPr/>
            <p:nvPr/>
          </p:nvSpPr>
          <p:spPr>
            <a:xfrm>
              <a:off x="5502240" y="5048280"/>
              <a:ext cx="303120" cy="357120"/>
            </a:xfrm>
            <a:prstGeom prst="rect">
              <a:avLst/>
            </a:prstGeom>
            <a:noFill/>
            <a:ln w="60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</p:txBody>
        </p:sp>
        <p:cxnSp>
          <p:nvCxnSpPr>
            <p:cNvPr id="315" name="Straight Arrow Connector 8"/>
            <p:cNvCxnSpPr/>
            <p:nvPr/>
          </p:nvCxnSpPr>
          <p:spPr>
            <a:xfrm flipV="1">
              <a:off x="5648760" y="4944240"/>
              <a:ext cx="1207080" cy="205920"/>
            </a:xfrm>
            <a:prstGeom prst="straightConnector1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6" name="Straight Arrow Connector 10"/>
            <p:cNvCxnSpPr/>
            <p:nvPr/>
          </p:nvCxnSpPr>
          <p:spPr>
            <a:xfrm flipV="1">
              <a:off x="5566680" y="5149800"/>
              <a:ext cx="1289520" cy="171360"/>
            </a:xfrm>
            <a:prstGeom prst="straightConnector1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7" name="Straight Arrow Connector 11"/>
            <p:cNvCxnSpPr/>
            <p:nvPr/>
          </p:nvCxnSpPr>
          <p:spPr>
            <a:xfrm flipV="1">
              <a:off x="5607000" y="5047560"/>
              <a:ext cx="1248840" cy="147960"/>
            </a:xfrm>
            <a:prstGeom prst="straightConnector1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18" name="Rectangle 22"/>
            <p:cNvSpPr/>
            <p:nvPr/>
          </p:nvSpPr>
          <p:spPr>
            <a:xfrm>
              <a:off x="6988320" y="4903560"/>
              <a:ext cx="876240" cy="291960"/>
            </a:xfrm>
            <a:prstGeom prst="rect">
              <a:avLst/>
            </a:prstGeom>
            <a:solidFill>
              <a:srgbClr val="339933"/>
            </a:solidFill>
            <a:ln w="25560">
              <a:solidFill>
                <a:srgbClr val="236f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</p:txBody>
        </p:sp>
        <p:sp>
          <p:nvSpPr>
            <p:cNvPr id="319" name="Rectangle 23"/>
            <p:cNvSpPr/>
            <p:nvPr/>
          </p:nvSpPr>
          <p:spPr>
            <a:xfrm>
              <a:off x="6988320" y="4249440"/>
              <a:ext cx="502920" cy="290520"/>
            </a:xfrm>
            <a:prstGeom prst="rect">
              <a:avLst/>
            </a:prstGeom>
            <a:solidFill>
              <a:srgbClr val="339933"/>
            </a:solidFill>
            <a:ln w="25560">
              <a:solidFill>
                <a:srgbClr val="236f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</p:txBody>
        </p:sp>
        <p:sp>
          <p:nvSpPr>
            <p:cNvPr id="320" name="Rectangle 24"/>
            <p:cNvSpPr/>
            <p:nvPr/>
          </p:nvSpPr>
          <p:spPr>
            <a:xfrm>
              <a:off x="6996240" y="5327640"/>
              <a:ext cx="658800" cy="450720"/>
            </a:xfrm>
            <a:prstGeom prst="rect">
              <a:avLst/>
            </a:prstGeom>
            <a:solidFill>
              <a:srgbClr val="339933"/>
            </a:solidFill>
            <a:ln w="25560">
              <a:solidFill>
                <a:srgbClr val="236f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</p:txBody>
        </p:sp>
        <p:sp>
          <p:nvSpPr>
            <p:cNvPr id="321" name="Rectangle 25"/>
            <p:cNvSpPr/>
            <p:nvPr/>
          </p:nvSpPr>
          <p:spPr>
            <a:xfrm>
              <a:off x="6988320" y="4632120"/>
              <a:ext cx="1006200" cy="144360"/>
            </a:xfrm>
            <a:prstGeom prst="rect">
              <a:avLst/>
            </a:prstGeom>
            <a:solidFill>
              <a:srgbClr val="339933"/>
            </a:solidFill>
            <a:ln w="25560">
              <a:solidFill>
                <a:srgbClr val="236f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</p:txBody>
        </p:sp>
      </p:grpSp>
      <p:sp>
        <p:nvSpPr>
          <p:cNvPr id="322" name="Straight Connector 3"/>
          <p:cNvSpPr/>
          <p:nvPr/>
        </p:nvSpPr>
        <p:spPr>
          <a:xfrm>
            <a:off x="4343400" y="3648240"/>
            <a:ext cx="0" cy="2743200"/>
          </a:xfrm>
          <a:prstGeom prst="line">
            <a:avLst/>
          </a:prstGeom>
          <a:ln w="4752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Point Cloud data is Big Data…</a:t>
            </a: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550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92e5c"/>
                </a:solidFill>
                <a:latin typeface="Arial"/>
              </a:rPr>
              <a:t>Access via well defined web services</a:t>
            </a:r>
            <a:endParaRPr b="0" lang="en-US" sz="22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550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92e5c"/>
                </a:solidFill>
                <a:latin typeface="Arial"/>
              </a:rPr>
              <a:t>OGC is well positioned to influence these service specifications</a:t>
            </a:r>
            <a:endParaRPr b="0" lang="en-US" sz="22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649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92e5c"/>
                </a:solidFill>
                <a:latin typeface="Arial"/>
              </a:rPr>
              <a:t>The LAS data format is part of the picture</a:t>
            </a:r>
            <a:endParaRPr b="0" lang="en-US" sz="26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550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92e5c"/>
                </a:solidFill>
                <a:latin typeface="Arial"/>
              </a:rPr>
              <a:t>An exchange format for LiDAR and similar data</a:t>
            </a:r>
            <a:endParaRPr b="0" lang="en-US" sz="22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550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92e5c"/>
                </a:solidFill>
                <a:latin typeface="Arial"/>
              </a:rPr>
              <a:t>Access and application interoperability can be improved by introducing a “sidecar” file with metadata, classification, statistics, and spatial index information</a:t>
            </a:r>
            <a:endParaRPr b="0" lang="en-US" sz="22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550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92e5c"/>
                </a:solidFill>
                <a:latin typeface="Arial"/>
              </a:rPr>
              <a:t>Existing LAS record formats can be retained while taking advantage of RDBMS products for storage, scalability, and multi-user access.</a:t>
            </a:r>
            <a:endParaRPr b="0" lang="en-US" sz="2200" spc="-1" strike="noStrike">
              <a:solidFill>
                <a:srgbClr val="092e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Point Cloud Data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Access through Services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LAS data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Optimization without changing the LAS file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Redefining LAS data storage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345600" y="1279080"/>
            <a:ext cx="8458200" cy="4891320"/>
          </a:xfrm>
          <a:prstGeom prst="rect">
            <a:avLst/>
          </a:prstGeom>
          <a:ln w="0">
            <a:noFill/>
          </a:ln>
        </p:spPr>
      </p:pic>
      <p:sp>
        <p:nvSpPr>
          <p:cNvPr id="327" name="Footer Placehold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Point Cloud Data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231840" y="1182600"/>
            <a:ext cx="51814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-dimensional Scientific data</a:t>
            </a:r>
            <a:endParaRPr b="1" lang="en-US" sz="2000" spc="-1" strike="noStrike">
              <a:solidFill>
                <a:srgbClr val="000000"/>
              </a:solidFill>
              <a:latin typeface="CG Time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DAR Data</a:t>
            </a:r>
            <a:endParaRPr b="1" lang="en-US" sz="2000" spc="-1" strike="noStrike">
              <a:solidFill>
                <a:srgbClr val="000000"/>
              </a:solidFill>
              <a:latin typeface="CG Time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vation Data</a:t>
            </a:r>
            <a:endParaRPr b="1" lang="en-US" sz="2000" spc="-1" strike="noStrike">
              <a:solidFill>
                <a:srgbClr val="000000"/>
              </a:solidFill>
              <a:latin typeface="CG Time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ismic Data</a:t>
            </a:r>
            <a:endParaRPr b="1" lang="en-US" sz="2000" spc="-1" strike="noStrike">
              <a:solidFill>
                <a:srgbClr val="000000"/>
              </a:solidFill>
              <a:latin typeface="CG Time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thymetric Data</a:t>
            </a:r>
            <a:endParaRPr b="1" lang="en-US" sz="2000" spc="-1" strike="noStrike">
              <a:solidFill>
                <a:srgbClr val="000000"/>
              </a:solidFill>
              <a:latin typeface="CG Time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eorological Data</a:t>
            </a:r>
            <a:endParaRPr b="1" lang="en-US" sz="2000" spc="-1" strike="noStrike">
              <a:solidFill>
                <a:srgbClr val="000000"/>
              </a:solidFill>
              <a:latin typeface="CG Time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xed/Mobile consumer sensors (IoT)</a:t>
            </a:r>
            <a:endParaRPr b="1" lang="en-US" sz="2000" spc="-1" strike="noStrike">
              <a:solidFill>
                <a:srgbClr val="000000"/>
              </a:solidFill>
              <a:latin typeface="CG Times"/>
            </a:endParaRPr>
          </a:p>
        </p:txBody>
      </p:sp>
      <p:pic>
        <p:nvPicPr>
          <p:cNvPr id="100" name="Picture 9" descr=""/>
          <p:cNvPicPr/>
          <p:nvPr/>
        </p:nvPicPr>
        <p:blipFill>
          <a:blip r:embed="rId1"/>
          <a:stretch/>
        </p:blipFill>
        <p:spPr>
          <a:xfrm>
            <a:off x="601560" y="3581280"/>
            <a:ext cx="5454720" cy="2648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1" name="Picture 8" descr="image11.png"/>
          <p:cNvPicPr/>
          <p:nvPr/>
        </p:nvPicPr>
        <p:blipFill>
          <a:blip r:embed="rId2"/>
          <a:stretch/>
        </p:blipFill>
        <p:spPr>
          <a:xfrm>
            <a:off x="5338800" y="1523880"/>
            <a:ext cx="3273480" cy="1548000"/>
          </a:xfrm>
          <a:prstGeom prst="rect">
            <a:avLst/>
          </a:prstGeom>
          <a:ln w="19080">
            <a:solidFill>
              <a:srgbClr val="5791b7"/>
            </a:solidFill>
            <a:miter/>
          </a:ln>
          <a:effectLst>
            <a:outerShdw dist="63639" dir="2700000" blurRad="0" rotWithShape="0">
              <a:srgbClr val="000000">
                <a:alpha val="15000"/>
              </a:srgbClr>
            </a:outerShdw>
          </a:effectLst>
        </p:spPr>
      </p:pic>
      <p:pic>
        <p:nvPicPr>
          <p:cNvPr id="102" name="Picture 3" descr=""/>
          <p:cNvPicPr/>
          <p:nvPr/>
        </p:nvPicPr>
        <p:blipFill>
          <a:blip r:embed="rId3"/>
          <a:stretch/>
        </p:blipFill>
        <p:spPr>
          <a:xfrm>
            <a:off x="5413320" y="2895480"/>
            <a:ext cx="3143160" cy="2533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3" name="TextBox 2"/>
          <p:cNvSpPr/>
          <p:nvPr/>
        </p:nvSpPr>
        <p:spPr>
          <a:xfrm>
            <a:off x="6094440" y="6095880"/>
            <a:ext cx="2897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G Times"/>
              </a:rPr>
              <a:t>It’s not just LiDAR</a:t>
            </a:r>
            <a:endParaRPr b="1" lang="en-US" sz="24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There’s Lots of it…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Point Cloud data is typically Big Data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LiDAR data in a collection of LAS datasets are one example 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It’s big if you don’t want to move it….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Bring the processing to the data</a:t>
            </a: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….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06" name="Content Placeholder 1"/>
          <p:cNvSpPr/>
          <p:nvPr/>
        </p:nvSpPr>
        <p:spPr>
          <a:xfrm>
            <a:off x="914400" y="4038480"/>
            <a:ext cx="2971800" cy="14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Arial"/>
              </a:rPr>
              <a:t>The amount of data is so large that repeated conversion, import, transport, etc., can be painful</a:t>
            </a:r>
            <a:endParaRPr b="1" lang="en-US" sz="2000" spc="-1" strike="noStrike">
              <a:solidFill>
                <a:srgbClr val="000000"/>
              </a:solidFill>
              <a:latin typeface="CG Times"/>
            </a:endParaRPr>
          </a:p>
        </p:txBody>
      </p:sp>
      <p:pic>
        <p:nvPicPr>
          <p:cNvPr id="107" name="Picture 6" descr="C:\Users\clayton\AppData\Local\Temp\SNAGHTML8b001a5d.PNG"/>
          <p:cNvPicPr/>
          <p:nvPr/>
        </p:nvPicPr>
        <p:blipFill>
          <a:blip r:embed="rId1"/>
          <a:stretch/>
        </p:blipFill>
        <p:spPr>
          <a:xfrm>
            <a:off x="4114800" y="3954600"/>
            <a:ext cx="3763800" cy="25524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6783480" y="3809880"/>
            <a:ext cx="885600" cy="261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pic>
        <p:nvPicPr>
          <p:cNvPr id="109" name="Rectangle 6" descr=""/>
          <p:cNvPicPr/>
          <p:nvPr/>
        </p:nvPicPr>
        <p:blipFill>
          <a:blip r:embed="rId2"/>
          <a:stretch/>
        </p:blipFill>
        <p:spPr>
          <a:xfrm>
            <a:off x="7881840" y="4767120"/>
            <a:ext cx="403200" cy="9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9" descr=""/>
          <p:cNvPicPr/>
          <p:nvPr/>
        </p:nvPicPr>
        <p:blipFill>
          <a:blip r:embed="rId1"/>
          <a:stretch/>
        </p:blipFill>
        <p:spPr>
          <a:xfrm>
            <a:off x="4632480" y="1219320"/>
            <a:ext cx="4214520" cy="5211720"/>
          </a:xfrm>
          <a:prstGeom prst="rect">
            <a:avLst/>
          </a:prstGeom>
          <a:ln w="0">
            <a:noFill/>
          </a:ln>
        </p:spPr>
      </p:pic>
      <p:sp>
        <p:nvSpPr>
          <p:cNvPr id="111" name="Title 2"/>
          <p:cNvSpPr/>
          <p:nvPr/>
        </p:nvSpPr>
        <p:spPr>
          <a:xfrm>
            <a:off x="243000" y="21276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terprise Imagery and Point Cloud Management –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cess through Services </a:t>
            </a:r>
            <a:endParaRPr b="1" lang="en-US" sz="24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112" name="Rectangle 82"/>
          <p:cNvSpPr/>
          <p:nvPr/>
        </p:nvSpPr>
        <p:spPr>
          <a:xfrm flipH="1">
            <a:off x="11160" y="3613320"/>
            <a:ext cx="5981760" cy="3244680"/>
          </a:xfrm>
          <a:prstGeom prst="rect">
            <a:avLst/>
          </a:prstGeom>
          <a:blipFill rotWithShape="0">
            <a:blip r:embed="rId2">
              <a:alphaModFix amt="48000"/>
            </a:blip>
            <a:srcRect/>
            <a:stretch/>
          </a:blip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grpSp>
        <p:nvGrpSpPr>
          <p:cNvPr id="113" name="Freeform 83"/>
          <p:cNvGrpSpPr/>
          <p:nvPr/>
        </p:nvGrpSpPr>
        <p:grpSpPr>
          <a:xfrm>
            <a:off x="-364680" y="3309840"/>
            <a:ext cx="4453920" cy="3805560"/>
            <a:chOff x="-364680" y="3309840"/>
            <a:chExt cx="4453920" cy="3805560"/>
          </a:xfrm>
        </p:grpSpPr>
        <p:pic>
          <p:nvPicPr>
            <p:cNvPr id="114" name="Freeform 83" descr=""/>
            <p:cNvPicPr/>
            <p:nvPr/>
          </p:nvPicPr>
          <p:blipFill>
            <a:blip r:embed="rId3"/>
            <a:stretch/>
          </p:blipFill>
          <p:spPr>
            <a:xfrm>
              <a:off x="-179280" y="3309840"/>
              <a:ext cx="4069440" cy="363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 rot="10538400">
              <a:off x="-237960" y="3465720"/>
              <a:ext cx="4200480" cy="34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2400" rIns="122400" tIns="61200" bIns="61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</p:txBody>
        </p:sp>
      </p:grpSp>
      <p:grpSp>
        <p:nvGrpSpPr>
          <p:cNvPr id="116" name="Group 84"/>
          <p:cNvGrpSpPr/>
          <p:nvPr/>
        </p:nvGrpSpPr>
        <p:grpSpPr>
          <a:xfrm>
            <a:off x="264960" y="2500200"/>
            <a:ext cx="2511360" cy="3664080"/>
            <a:chOff x="264960" y="2500200"/>
            <a:chExt cx="2511360" cy="3664080"/>
          </a:xfrm>
        </p:grpSpPr>
        <p:pic>
          <p:nvPicPr>
            <p:cNvPr id="117" name="Picture 2" descr=""/>
            <p:cNvPicPr/>
            <p:nvPr/>
          </p:nvPicPr>
          <p:blipFill>
            <a:blip r:embed="rId4"/>
            <a:stretch/>
          </p:blipFill>
          <p:spPr>
            <a:xfrm>
              <a:off x="405000" y="2500200"/>
              <a:ext cx="727920" cy="100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Straight Connector 86"/>
            <p:cNvSpPr/>
            <p:nvPr/>
          </p:nvSpPr>
          <p:spPr>
            <a:xfrm flipV="1">
              <a:off x="264960" y="3393000"/>
              <a:ext cx="504000" cy="2172960"/>
            </a:xfrm>
            <a:prstGeom prst="line">
              <a:avLst/>
            </a:prstGeom>
            <a:ln w="19080">
              <a:solidFill>
                <a:srgbClr val="092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</p:txBody>
        </p:sp>
        <p:sp>
          <p:nvSpPr>
            <p:cNvPr id="119" name="Straight Connector 87"/>
            <p:cNvSpPr/>
            <p:nvPr/>
          </p:nvSpPr>
          <p:spPr>
            <a:xfrm flipH="1" flipV="1">
              <a:off x="768960" y="3392640"/>
              <a:ext cx="110160" cy="2548440"/>
            </a:xfrm>
            <a:prstGeom prst="line">
              <a:avLst/>
            </a:prstGeom>
            <a:ln w="19080">
              <a:solidFill>
                <a:srgbClr val="092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</p:txBody>
        </p:sp>
        <p:sp>
          <p:nvSpPr>
            <p:cNvPr id="120" name="Straight Connector 88"/>
            <p:cNvSpPr/>
            <p:nvPr/>
          </p:nvSpPr>
          <p:spPr>
            <a:xfrm flipH="1" flipV="1">
              <a:off x="768600" y="3392640"/>
              <a:ext cx="826920" cy="2148840"/>
            </a:xfrm>
            <a:prstGeom prst="line">
              <a:avLst/>
            </a:prstGeom>
            <a:ln w="19080">
              <a:solidFill>
                <a:srgbClr val="092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</p:txBody>
        </p:sp>
        <p:sp>
          <p:nvSpPr>
            <p:cNvPr id="121" name="Straight Connector 89"/>
            <p:cNvSpPr/>
            <p:nvPr/>
          </p:nvSpPr>
          <p:spPr>
            <a:xfrm flipV="1">
              <a:off x="1578600" y="4585680"/>
              <a:ext cx="571680" cy="1202760"/>
            </a:xfrm>
            <a:prstGeom prst="line">
              <a:avLst/>
            </a:prstGeom>
            <a:ln w="19080">
              <a:solidFill>
                <a:srgbClr val="092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</p:txBody>
        </p:sp>
        <p:sp>
          <p:nvSpPr>
            <p:cNvPr id="122" name="Straight Connector 90"/>
            <p:cNvSpPr/>
            <p:nvPr/>
          </p:nvSpPr>
          <p:spPr>
            <a:xfrm flipH="1" flipV="1">
              <a:off x="2150280" y="4527720"/>
              <a:ext cx="94320" cy="1636560"/>
            </a:xfrm>
            <a:prstGeom prst="line">
              <a:avLst/>
            </a:prstGeom>
            <a:ln w="19080">
              <a:solidFill>
                <a:srgbClr val="092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</p:txBody>
        </p:sp>
        <p:sp>
          <p:nvSpPr>
            <p:cNvPr id="123" name="Straight Connector 91"/>
            <p:cNvSpPr/>
            <p:nvPr/>
          </p:nvSpPr>
          <p:spPr>
            <a:xfrm flipH="1" flipV="1">
              <a:off x="2174760" y="4586040"/>
              <a:ext cx="601560" cy="1103760"/>
            </a:xfrm>
            <a:prstGeom prst="line">
              <a:avLst/>
            </a:prstGeom>
            <a:ln w="19080">
              <a:solidFill>
                <a:srgbClr val="092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</p:txBody>
        </p:sp>
      </p:grpSp>
      <p:pic>
        <p:nvPicPr>
          <p:cNvPr id="124" name="Picture 6" descr=""/>
          <p:cNvPicPr/>
          <p:nvPr/>
        </p:nvPicPr>
        <p:blipFill>
          <a:blip r:embed="rId5"/>
          <a:stretch/>
        </p:blipFill>
        <p:spPr>
          <a:xfrm>
            <a:off x="1487520" y="4264200"/>
            <a:ext cx="1374840" cy="1998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"/>
          <p:cNvPicPr/>
          <p:nvPr/>
        </p:nvPicPr>
        <p:blipFill>
          <a:blip r:embed="rId6"/>
          <a:stretch/>
        </p:blipFill>
        <p:spPr>
          <a:xfrm>
            <a:off x="139680" y="5175360"/>
            <a:ext cx="1566720" cy="7318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"/>
          <p:cNvPicPr/>
          <p:nvPr/>
        </p:nvPicPr>
        <p:blipFill>
          <a:blip r:embed="rId7"/>
          <a:stretch/>
        </p:blipFill>
        <p:spPr>
          <a:xfrm>
            <a:off x="1539720" y="4035600"/>
            <a:ext cx="1041480" cy="903240"/>
          </a:xfrm>
          <a:prstGeom prst="rect">
            <a:avLst/>
          </a:prstGeom>
          <a:ln w="0">
            <a:noFill/>
          </a:ln>
        </p:spPr>
      </p:pic>
      <p:sp>
        <p:nvSpPr>
          <p:cNvPr id="127" name="TextBox 95"/>
          <p:cNvSpPr/>
          <p:nvPr/>
        </p:nvSpPr>
        <p:spPr>
          <a:xfrm>
            <a:off x="1851480" y="3846600"/>
            <a:ext cx="64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72345"/>
                </a:solidFill>
                <a:latin typeface="CG Times"/>
              </a:rPr>
              <a:t>MSI/HSl</a:t>
            </a:r>
            <a:endParaRPr b="1" lang="en-US" sz="13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128" name="TextBox 96"/>
          <p:cNvSpPr/>
          <p:nvPr/>
        </p:nvSpPr>
        <p:spPr>
          <a:xfrm>
            <a:off x="2473920" y="3541680"/>
            <a:ext cx="50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72345"/>
                </a:solidFill>
                <a:latin typeface="CG Times"/>
              </a:rPr>
              <a:t>LIDAR</a:t>
            </a:r>
            <a:endParaRPr b="1" lang="en-US" sz="13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129" name="TextBox 97"/>
          <p:cNvSpPr/>
          <p:nvPr/>
        </p:nvSpPr>
        <p:spPr>
          <a:xfrm>
            <a:off x="2562840" y="4334040"/>
            <a:ext cx="223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72345"/>
                </a:solidFill>
                <a:latin typeface="CG Times"/>
              </a:rPr>
              <a:t>EO</a:t>
            </a:r>
            <a:endParaRPr b="1" lang="en-US" sz="13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130" name="TextBox 98"/>
          <p:cNvSpPr/>
          <p:nvPr/>
        </p:nvSpPr>
        <p:spPr>
          <a:xfrm>
            <a:off x="2521800" y="3917880"/>
            <a:ext cx="27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72345"/>
                </a:solidFill>
                <a:latin typeface="CG Times"/>
              </a:rPr>
              <a:t>CIR</a:t>
            </a:r>
            <a:endParaRPr b="1" lang="en-US" sz="13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131" name="TextBox 99"/>
          <p:cNvSpPr/>
          <p:nvPr/>
        </p:nvSpPr>
        <p:spPr>
          <a:xfrm>
            <a:off x="2940120" y="4076640"/>
            <a:ext cx="352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72345"/>
                </a:solidFill>
                <a:latin typeface="CG Times"/>
              </a:rPr>
              <a:t>FMV</a:t>
            </a:r>
            <a:endParaRPr b="1" lang="en-US" sz="13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132" name="Text Placeholder 13"/>
          <p:cNvSpPr/>
          <p:nvPr/>
        </p:nvSpPr>
        <p:spPr>
          <a:xfrm>
            <a:off x="3236760" y="4670280"/>
            <a:ext cx="1424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133" name="Text Placeholder 13"/>
          <p:cNvSpPr/>
          <p:nvPr/>
        </p:nvSpPr>
        <p:spPr>
          <a:xfrm>
            <a:off x="1116000" y="3016080"/>
            <a:ext cx="12272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ultiple Sensors &amp; Formats</a:t>
            </a:r>
            <a:endParaRPr b="1" lang="en-US" sz="1400" spc="-1" strike="noStrike">
              <a:solidFill>
                <a:srgbClr val="000000"/>
              </a:solidFill>
              <a:latin typeface="CG Times"/>
            </a:endParaRPr>
          </a:p>
        </p:txBody>
      </p:sp>
      <p:grpSp>
        <p:nvGrpSpPr>
          <p:cNvPr id="134" name="Freeform 27"/>
          <p:cNvGrpSpPr/>
          <p:nvPr/>
        </p:nvGrpSpPr>
        <p:grpSpPr>
          <a:xfrm>
            <a:off x="1427400" y="1294200"/>
            <a:ext cx="2662200" cy="2124000"/>
            <a:chOff x="1427400" y="1294200"/>
            <a:chExt cx="2662200" cy="2124000"/>
          </a:xfrm>
        </p:grpSpPr>
        <p:pic>
          <p:nvPicPr>
            <p:cNvPr id="135" name="Freeform 27" descr=""/>
            <p:cNvPicPr/>
            <p:nvPr/>
          </p:nvPicPr>
          <p:blipFill>
            <a:blip r:embed="rId8"/>
            <a:stretch/>
          </p:blipFill>
          <p:spPr>
            <a:xfrm>
              <a:off x="1689480" y="1590840"/>
              <a:ext cx="2104560" cy="182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 rot="816000">
              <a:off x="1584360" y="1547280"/>
              <a:ext cx="2347920" cy="16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2400" rIns="122400" tIns="61200" bIns="61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</p:txBody>
        </p:sp>
      </p:grpSp>
      <p:pic>
        <p:nvPicPr>
          <p:cNvPr id="137" name="Picture 26" descr=""/>
          <p:cNvPicPr/>
          <p:nvPr/>
        </p:nvPicPr>
        <p:blipFill>
          <a:blip r:embed="rId9"/>
          <a:stretch/>
        </p:blipFill>
        <p:spPr>
          <a:xfrm>
            <a:off x="2927520" y="1909800"/>
            <a:ext cx="2041200" cy="2706480"/>
          </a:xfrm>
          <a:prstGeom prst="rect">
            <a:avLst/>
          </a:prstGeom>
          <a:ln w="0">
            <a:noFill/>
          </a:ln>
        </p:spPr>
      </p:pic>
      <p:sp>
        <p:nvSpPr>
          <p:cNvPr id="138" name="Text Placeholder 13"/>
          <p:cNvSpPr/>
          <p:nvPr/>
        </p:nvSpPr>
        <p:spPr>
          <a:xfrm>
            <a:off x="1473120" y="1260360"/>
            <a:ext cx="139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5000"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GC Service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CS, WMS, WPS, WCPS, etc</a:t>
            </a:r>
            <a:endParaRPr b="1" lang="en-US" sz="14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139" name="TextBox 1"/>
          <p:cNvSpPr/>
          <p:nvPr/>
        </p:nvSpPr>
        <p:spPr>
          <a:xfrm>
            <a:off x="1985400" y="2238480"/>
            <a:ext cx="1479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G Times"/>
              </a:rPr>
              <a:t>Data Format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G Times"/>
              </a:rPr>
              <a:t>KML, LAS, GML</a:t>
            </a:r>
            <a:endParaRPr b="1" lang="en-US" sz="14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4878720" y="6297480"/>
            <a:ext cx="411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G Times"/>
              </a:rPr>
              <a:t>Store it Once, Use it Man</a:t>
            </a:r>
            <a:r>
              <a:rPr b="1" lang="en-US" sz="2000" spc="-1" strike="noStrike">
                <a:solidFill>
                  <a:srgbClr val="000000"/>
                </a:solidFill>
                <a:latin typeface="CG Times"/>
              </a:rPr>
              <a:t>y Times</a:t>
            </a:r>
            <a:endParaRPr b="1" lang="en-US" sz="20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Point Cloud Services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grpSp>
        <p:nvGrpSpPr>
          <p:cNvPr id="142" name="Group 3"/>
          <p:cNvGrpSpPr/>
          <p:nvPr/>
        </p:nvGrpSpPr>
        <p:grpSpPr>
          <a:xfrm>
            <a:off x="4308480" y="3733920"/>
            <a:ext cx="4707000" cy="2746080"/>
            <a:chOff x="4308480" y="3733920"/>
            <a:chExt cx="4707000" cy="2746080"/>
          </a:xfrm>
        </p:grpSpPr>
        <p:sp>
          <p:nvSpPr>
            <p:cNvPr id="143" name="Freeform 29"/>
            <p:cNvSpPr/>
            <p:nvPr/>
          </p:nvSpPr>
          <p:spPr>
            <a:xfrm>
              <a:off x="4308480" y="3733920"/>
              <a:ext cx="4707000" cy="2667960"/>
            </a:xfrm>
            <a:custGeom>
              <a:avLst/>
              <a:gdLst/>
              <a:ahLst/>
              <a:rect l="l" t="t" r="r" b="b"/>
              <a:pathLst>
                <a:path w="2706" h="1717">
                  <a:moveTo>
                    <a:pt x="1468" y="0"/>
                  </a:moveTo>
                  <a:lnTo>
                    <a:pt x="1531" y="4"/>
                  </a:lnTo>
                  <a:lnTo>
                    <a:pt x="1593" y="15"/>
                  </a:lnTo>
                  <a:lnTo>
                    <a:pt x="1651" y="33"/>
                  </a:lnTo>
                  <a:lnTo>
                    <a:pt x="1706" y="56"/>
                  </a:lnTo>
                  <a:lnTo>
                    <a:pt x="1758" y="85"/>
                  </a:lnTo>
                  <a:lnTo>
                    <a:pt x="1807" y="120"/>
                  </a:lnTo>
                  <a:lnTo>
                    <a:pt x="1851" y="160"/>
                  </a:lnTo>
                  <a:lnTo>
                    <a:pt x="1891" y="205"/>
                  </a:lnTo>
                  <a:lnTo>
                    <a:pt x="1925" y="253"/>
                  </a:lnTo>
                  <a:lnTo>
                    <a:pt x="1954" y="306"/>
                  </a:lnTo>
                  <a:lnTo>
                    <a:pt x="1978" y="362"/>
                  </a:lnTo>
                  <a:lnTo>
                    <a:pt x="1995" y="420"/>
                  </a:lnTo>
                  <a:lnTo>
                    <a:pt x="2016" y="419"/>
                  </a:lnTo>
                  <a:lnTo>
                    <a:pt x="2071" y="422"/>
                  </a:lnTo>
                  <a:lnTo>
                    <a:pt x="2126" y="433"/>
                  </a:lnTo>
                  <a:lnTo>
                    <a:pt x="2178" y="449"/>
                  </a:lnTo>
                  <a:lnTo>
                    <a:pt x="2226" y="472"/>
                  </a:lnTo>
                  <a:lnTo>
                    <a:pt x="2272" y="500"/>
                  </a:lnTo>
                  <a:lnTo>
                    <a:pt x="2313" y="532"/>
                  </a:lnTo>
                  <a:lnTo>
                    <a:pt x="2351" y="570"/>
                  </a:lnTo>
                  <a:lnTo>
                    <a:pt x="2383" y="611"/>
                  </a:lnTo>
                  <a:lnTo>
                    <a:pt x="2411" y="657"/>
                  </a:lnTo>
                  <a:lnTo>
                    <a:pt x="2434" y="705"/>
                  </a:lnTo>
                  <a:lnTo>
                    <a:pt x="2450" y="757"/>
                  </a:lnTo>
                  <a:lnTo>
                    <a:pt x="2461" y="812"/>
                  </a:lnTo>
                  <a:lnTo>
                    <a:pt x="2464" y="867"/>
                  </a:lnTo>
                  <a:lnTo>
                    <a:pt x="2461" y="923"/>
                  </a:lnTo>
                  <a:lnTo>
                    <a:pt x="2450" y="976"/>
                  </a:lnTo>
                  <a:lnTo>
                    <a:pt x="2493" y="994"/>
                  </a:lnTo>
                  <a:lnTo>
                    <a:pt x="2535" y="1017"/>
                  </a:lnTo>
                  <a:lnTo>
                    <a:pt x="2572" y="1045"/>
                  </a:lnTo>
                  <a:lnTo>
                    <a:pt x="2605" y="1076"/>
                  </a:lnTo>
                  <a:lnTo>
                    <a:pt x="2635" y="1113"/>
                  </a:lnTo>
                  <a:lnTo>
                    <a:pt x="2659" y="1151"/>
                  </a:lnTo>
                  <a:lnTo>
                    <a:pt x="2680" y="1194"/>
                  </a:lnTo>
                  <a:lnTo>
                    <a:pt x="2694" y="1240"/>
                  </a:lnTo>
                  <a:lnTo>
                    <a:pt x="2704" y="1287"/>
                  </a:lnTo>
                  <a:lnTo>
                    <a:pt x="2706" y="1336"/>
                  </a:lnTo>
                  <a:lnTo>
                    <a:pt x="2703" y="1387"/>
                  </a:lnTo>
                  <a:lnTo>
                    <a:pt x="2693" y="1437"/>
                  </a:lnTo>
                  <a:lnTo>
                    <a:pt x="2677" y="1484"/>
                  </a:lnTo>
                  <a:lnTo>
                    <a:pt x="2654" y="1529"/>
                  </a:lnTo>
                  <a:lnTo>
                    <a:pt x="2628" y="1568"/>
                  </a:lnTo>
                  <a:lnTo>
                    <a:pt x="2595" y="1606"/>
                  </a:lnTo>
                  <a:lnTo>
                    <a:pt x="2559" y="1637"/>
                  </a:lnTo>
                  <a:lnTo>
                    <a:pt x="2518" y="1665"/>
                  </a:lnTo>
                  <a:lnTo>
                    <a:pt x="2474" y="1687"/>
                  </a:lnTo>
                  <a:lnTo>
                    <a:pt x="2427" y="1704"/>
                  </a:lnTo>
                  <a:lnTo>
                    <a:pt x="2377" y="1714"/>
                  </a:lnTo>
                  <a:lnTo>
                    <a:pt x="2325" y="1717"/>
                  </a:lnTo>
                  <a:lnTo>
                    <a:pt x="521" y="1717"/>
                  </a:lnTo>
                  <a:lnTo>
                    <a:pt x="461" y="1714"/>
                  </a:lnTo>
                  <a:lnTo>
                    <a:pt x="402" y="1704"/>
                  </a:lnTo>
                  <a:lnTo>
                    <a:pt x="346" y="1687"/>
                  </a:lnTo>
                  <a:lnTo>
                    <a:pt x="292" y="1665"/>
                  </a:lnTo>
                  <a:lnTo>
                    <a:pt x="242" y="1636"/>
                  </a:lnTo>
                  <a:lnTo>
                    <a:pt x="195" y="1604"/>
                  </a:lnTo>
                  <a:lnTo>
                    <a:pt x="153" y="1565"/>
                  </a:lnTo>
                  <a:lnTo>
                    <a:pt x="115" y="1523"/>
                  </a:lnTo>
                  <a:lnTo>
                    <a:pt x="81" y="1475"/>
                  </a:lnTo>
                  <a:lnTo>
                    <a:pt x="54" y="1426"/>
                  </a:lnTo>
                  <a:lnTo>
                    <a:pt x="31" y="1373"/>
                  </a:lnTo>
                  <a:lnTo>
                    <a:pt x="14" y="1316"/>
                  </a:lnTo>
                  <a:lnTo>
                    <a:pt x="4" y="1257"/>
                  </a:lnTo>
                  <a:lnTo>
                    <a:pt x="0" y="1196"/>
                  </a:lnTo>
                  <a:lnTo>
                    <a:pt x="4" y="1134"/>
                  </a:lnTo>
                  <a:lnTo>
                    <a:pt x="15" y="1075"/>
                  </a:lnTo>
                  <a:lnTo>
                    <a:pt x="32" y="1017"/>
                  </a:lnTo>
                  <a:lnTo>
                    <a:pt x="55" y="964"/>
                  </a:lnTo>
                  <a:lnTo>
                    <a:pt x="84" y="913"/>
                  </a:lnTo>
                  <a:lnTo>
                    <a:pt x="119" y="866"/>
                  </a:lnTo>
                  <a:lnTo>
                    <a:pt x="157" y="822"/>
                  </a:lnTo>
                  <a:lnTo>
                    <a:pt x="202" y="785"/>
                  </a:lnTo>
                  <a:lnTo>
                    <a:pt x="249" y="751"/>
                  </a:lnTo>
                  <a:lnTo>
                    <a:pt x="301" y="723"/>
                  </a:lnTo>
                  <a:lnTo>
                    <a:pt x="357" y="702"/>
                  </a:lnTo>
                  <a:lnTo>
                    <a:pt x="414" y="686"/>
                  </a:lnTo>
                  <a:lnTo>
                    <a:pt x="413" y="641"/>
                  </a:lnTo>
                  <a:lnTo>
                    <a:pt x="415" y="585"/>
                  </a:lnTo>
                  <a:lnTo>
                    <a:pt x="426" y="532"/>
                  </a:lnTo>
                  <a:lnTo>
                    <a:pt x="442" y="480"/>
                  </a:lnTo>
                  <a:lnTo>
                    <a:pt x="465" y="432"/>
                  </a:lnTo>
                  <a:lnTo>
                    <a:pt x="491" y="387"/>
                  </a:lnTo>
                  <a:lnTo>
                    <a:pt x="524" y="346"/>
                  </a:lnTo>
                  <a:lnTo>
                    <a:pt x="561" y="309"/>
                  </a:lnTo>
                  <a:lnTo>
                    <a:pt x="602" y="276"/>
                  </a:lnTo>
                  <a:lnTo>
                    <a:pt x="648" y="249"/>
                  </a:lnTo>
                  <a:lnTo>
                    <a:pt x="697" y="226"/>
                  </a:lnTo>
                  <a:lnTo>
                    <a:pt x="748" y="211"/>
                  </a:lnTo>
                  <a:lnTo>
                    <a:pt x="801" y="200"/>
                  </a:lnTo>
                  <a:lnTo>
                    <a:pt x="858" y="196"/>
                  </a:lnTo>
                  <a:lnTo>
                    <a:pt x="901" y="199"/>
                  </a:lnTo>
                  <a:lnTo>
                    <a:pt x="945" y="206"/>
                  </a:lnTo>
                  <a:lnTo>
                    <a:pt x="986" y="215"/>
                  </a:lnTo>
                  <a:lnTo>
                    <a:pt x="1026" y="230"/>
                  </a:lnTo>
                  <a:lnTo>
                    <a:pt x="1061" y="185"/>
                  </a:lnTo>
                  <a:lnTo>
                    <a:pt x="1101" y="145"/>
                  </a:lnTo>
                  <a:lnTo>
                    <a:pt x="1143" y="109"/>
                  </a:lnTo>
                  <a:lnTo>
                    <a:pt x="1190" y="78"/>
                  </a:lnTo>
                  <a:lnTo>
                    <a:pt x="1241" y="51"/>
                  </a:lnTo>
                  <a:lnTo>
                    <a:pt x="1294" y="29"/>
                  </a:lnTo>
                  <a:lnTo>
                    <a:pt x="1350" y="14"/>
                  </a:lnTo>
                  <a:lnTo>
                    <a:pt x="1408" y="4"/>
                  </a:lnTo>
                  <a:lnTo>
                    <a:pt x="146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389ee7"/>
                </a:gs>
              </a:gsLst>
              <a:lin ang="1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</p:txBody>
        </p:sp>
        <p:pic>
          <p:nvPicPr>
            <p:cNvPr id="144" name="Picture 5" descr=""/>
            <p:cNvPicPr/>
            <p:nvPr/>
          </p:nvPicPr>
          <p:blipFill>
            <a:blip r:embed="rId1"/>
            <a:stretch/>
          </p:blipFill>
          <p:spPr>
            <a:xfrm>
              <a:off x="5150880" y="4181760"/>
              <a:ext cx="3017520" cy="2298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5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Enterprise Point Cloud data services need to support: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tandardized Service Interfaces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Overlapping collections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Collections over time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Arbitrary query areas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High performance access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Efficient transfer format/schema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Efficient storage, backup, recovery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Elastic deployment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grpSp>
        <p:nvGrpSpPr>
          <p:cNvPr id="146" name="Group 6"/>
          <p:cNvGrpSpPr/>
          <p:nvPr/>
        </p:nvGrpSpPr>
        <p:grpSpPr>
          <a:xfrm>
            <a:off x="6002280" y="1897200"/>
            <a:ext cx="1967040" cy="1617120"/>
            <a:chOff x="6002280" y="1897200"/>
            <a:chExt cx="1967040" cy="1617120"/>
          </a:xfrm>
        </p:grpSpPr>
        <p:grpSp>
          <p:nvGrpSpPr>
            <p:cNvPr id="147" name="Group 36"/>
            <p:cNvGrpSpPr/>
            <p:nvPr/>
          </p:nvGrpSpPr>
          <p:grpSpPr>
            <a:xfrm>
              <a:off x="6002280" y="2025720"/>
              <a:ext cx="982440" cy="712800"/>
              <a:chOff x="6002280" y="2025720"/>
              <a:chExt cx="982440" cy="712800"/>
            </a:xfrm>
          </p:grpSpPr>
          <p:sp>
            <p:nvSpPr>
              <p:cNvPr id="148" name="Freeform 38"/>
              <p:cNvSpPr/>
              <p:nvPr/>
            </p:nvSpPr>
            <p:spPr>
              <a:xfrm>
                <a:off x="6002280" y="2025720"/>
                <a:ext cx="982440" cy="712800"/>
              </a:xfrm>
              <a:custGeom>
                <a:avLst/>
                <a:gdLst/>
                <a:ahLst/>
                <a:rect l="l" t="t" r="r" b="b"/>
                <a:pathLst>
                  <a:path w="3158" h="2033">
                    <a:moveTo>
                      <a:pt x="1578" y="0"/>
                    </a:moveTo>
                    <a:lnTo>
                      <a:pt x="1603" y="1"/>
                    </a:lnTo>
                    <a:lnTo>
                      <a:pt x="1630" y="5"/>
                    </a:lnTo>
                    <a:lnTo>
                      <a:pt x="1659" y="11"/>
                    </a:lnTo>
                    <a:lnTo>
                      <a:pt x="1688" y="20"/>
                    </a:lnTo>
                    <a:lnTo>
                      <a:pt x="1718" y="36"/>
                    </a:lnTo>
                    <a:lnTo>
                      <a:pt x="3049" y="834"/>
                    </a:lnTo>
                    <a:lnTo>
                      <a:pt x="3081" y="857"/>
                    </a:lnTo>
                    <a:lnTo>
                      <a:pt x="3107" y="884"/>
                    </a:lnTo>
                    <a:lnTo>
                      <a:pt x="3129" y="914"/>
                    </a:lnTo>
                    <a:lnTo>
                      <a:pt x="3145" y="946"/>
                    </a:lnTo>
                    <a:lnTo>
                      <a:pt x="3154" y="981"/>
                    </a:lnTo>
                    <a:lnTo>
                      <a:pt x="3158" y="1018"/>
                    </a:lnTo>
                    <a:lnTo>
                      <a:pt x="3154" y="1053"/>
                    </a:lnTo>
                    <a:lnTo>
                      <a:pt x="3145" y="1088"/>
                    </a:lnTo>
                    <a:lnTo>
                      <a:pt x="3129" y="1121"/>
                    </a:lnTo>
                    <a:lnTo>
                      <a:pt x="3107" y="1150"/>
                    </a:lnTo>
                    <a:lnTo>
                      <a:pt x="3081" y="1176"/>
                    </a:lnTo>
                    <a:lnTo>
                      <a:pt x="3049" y="1199"/>
                    </a:lnTo>
                    <a:lnTo>
                      <a:pt x="1718" y="1998"/>
                    </a:lnTo>
                    <a:lnTo>
                      <a:pt x="1689" y="2013"/>
                    </a:lnTo>
                    <a:lnTo>
                      <a:pt x="1659" y="2024"/>
                    </a:lnTo>
                    <a:lnTo>
                      <a:pt x="1630" y="2030"/>
                    </a:lnTo>
                    <a:lnTo>
                      <a:pt x="1603" y="2033"/>
                    </a:lnTo>
                    <a:lnTo>
                      <a:pt x="1578" y="2033"/>
                    </a:lnTo>
                    <a:lnTo>
                      <a:pt x="1555" y="2033"/>
                    </a:lnTo>
                    <a:lnTo>
                      <a:pt x="1528" y="2030"/>
                    </a:lnTo>
                    <a:lnTo>
                      <a:pt x="1498" y="2024"/>
                    </a:lnTo>
                    <a:lnTo>
                      <a:pt x="1469" y="2013"/>
                    </a:lnTo>
                    <a:lnTo>
                      <a:pt x="1439" y="1997"/>
                    </a:lnTo>
                    <a:lnTo>
                      <a:pt x="109" y="1199"/>
                    </a:lnTo>
                    <a:lnTo>
                      <a:pt x="77" y="1176"/>
                    </a:lnTo>
                    <a:lnTo>
                      <a:pt x="50" y="1150"/>
                    </a:lnTo>
                    <a:lnTo>
                      <a:pt x="29" y="1119"/>
                    </a:lnTo>
                    <a:lnTo>
                      <a:pt x="13" y="1087"/>
                    </a:lnTo>
                    <a:lnTo>
                      <a:pt x="4" y="1052"/>
                    </a:lnTo>
                    <a:lnTo>
                      <a:pt x="0" y="1015"/>
                    </a:lnTo>
                    <a:lnTo>
                      <a:pt x="4" y="980"/>
                    </a:lnTo>
                    <a:lnTo>
                      <a:pt x="13" y="945"/>
                    </a:lnTo>
                    <a:lnTo>
                      <a:pt x="29" y="913"/>
                    </a:lnTo>
                    <a:lnTo>
                      <a:pt x="51" y="882"/>
                    </a:lnTo>
                    <a:lnTo>
                      <a:pt x="77" y="857"/>
                    </a:lnTo>
                    <a:lnTo>
                      <a:pt x="110" y="834"/>
                    </a:lnTo>
                    <a:lnTo>
                      <a:pt x="1440" y="36"/>
                    </a:lnTo>
                    <a:lnTo>
                      <a:pt x="1469" y="20"/>
                    </a:lnTo>
                    <a:lnTo>
                      <a:pt x="1499" y="11"/>
                    </a:lnTo>
                    <a:lnTo>
                      <a:pt x="1528" y="5"/>
                    </a:lnTo>
                    <a:lnTo>
                      <a:pt x="1555" y="1"/>
                    </a:lnTo>
                    <a:lnTo>
                      <a:pt x="157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49" name="Freeform 39"/>
              <p:cNvSpPr/>
              <p:nvPr/>
            </p:nvSpPr>
            <p:spPr>
              <a:xfrm>
                <a:off x="6051960" y="2081520"/>
                <a:ext cx="882720" cy="600840"/>
              </a:xfrm>
              <a:custGeom>
                <a:avLst/>
                <a:gdLst/>
                <a:ahLst/>
                <a:rect l="l" t="t" r="r" b="b"/>
                <a:pathLst>
                  <a:path w="2837" h="1715">
                    <a:moveTo>
                      <a:pt x="1417" y="0"/>
                    </a:moveTo>
                    <a:lnTo>
                      <a:pt x="1440" y="1"/>
                    </a:lnTo>
                    <a:lnTo>
                      <a:pt x="1459" y="6"/>
                    </a:lnTo>
                    <a:lnTo>
                      <a:pt x="1475" y="14"/>
                    </a:lnTo>
                    <a:lnTo>
                      <a:pt x="2806" y="812"/>
                    </a:lnTo>
                    <a:lnTo>
                      <a:pt x="2823" y="826"/>
                    </a:lnTo>
                    <a:lnTo>
                      <a:pt x="2834" y="842"/>
                    </a:lnTo>
                    <a:lnTo>
                      <a:pt x="2837" y="858"/>
                    </a:lnTo>
                    <a:lnTo>
                      <a:pt x="2834" y="874"/>
                    </a:lnTo>
                    <a:lnTo>
                      <a:pt x="2823" y="890"/>
                    </a:lnTo>
                    <a:lnTo>
                      <a:pt x="2806" y="903"/>
                    </a:lnTo>
                    <a:lnTo>
                      <a:pt x="1475" y="1703"/>
                    </a:lnTo>
                    <a:lnTo>
                      <a:pt x="1459" y="1710"/>
                    </a:lnTo>
                    <a:lnTo>
                      <a:pt x="1440" y="1714"/>
                    </a:lnTo>
                    <a:lnTo>
                      <a:pt x="1417" y="1715"/>
                    </a:lnTo>
                    <a:lnTo>
                      <a:pt x="1396" y="1714"/>
                    </a:lnTo>
                    <a:lnTo>
                      <a:pt x="1377" y="1710"/>
                    </a:lnTo>
                    <a:lnTo>
                      <a:pt x="1361" y="1703"/>
                    </a:lnTo>
                    <a:lnTo>
                      <a:pt x="30" y="903"/>
                    </a:lnTo>
                    <a:lnTo>
                      <a:pt x="14" y="891"/>
                    </a:lnTo>
                    <a:lnTo>
                      <a:pt x="5" y="878"/>
                    </a:lnTo>
                    <a:lnTo>
                      <a:pt x="0" y="865"/>
                    </a:lnTo>
                    <a:lnTo>
                      <a:pt x="0" y="850"/>
                    </a:lnTo>
                    <a:lnTo>
                      <a:pt x="5" y="837"/>
                    </a:lnTo>
                    <a:lnTo>
                      <a:pt x="14" y="824"/>
                    </a:lnTo>
                    <a:lnTo>
                      <a:pt x="30" y="812"/>
                    </a:lnTo>
                    <a:lnTo>
                      <a:pt x="1361" y="14"/>
                    </a:lnTo>
                    <a:lnTo>
                      <a:pt x="1377" y="6"/>
                    </a:lnTo>
                    <a:lnTo>
                      <a:pt x="1396" y="1"/>
                    </a:lnTo>
                    <a:lnTo>
                      <a:pt x="14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50" name="Freeform 40"/>
              <p:cNvSpPr/>
              <p:nvPr/>
            </p:nvSpPr>
            <p:spPr>
              <a:xfrm>
                <a:off x="6188400" y="2181240"/>
                <a:ext cx="295200" cy="299520"/>
              </a:xfrm>
              <a:custGeom>
                <a:avLst/>
                <a:gdLst/>
                <a:ahLst/>
                <a:rect l="l" t="t" r="r" b="b"/>
                <a:pathLst>
                  <a:path w="954" h="856">
                    <a:moveTo>
                      <a:pt x="224" y="575"/>
                    </a:moveTo>
                    <a:lnTo>
                      <a:pt x="468" y="721"/>
                    </a:lnTo>
                    <a:lnTo>
                      <a:pt x="243" y="856"/>
                    </a:lnTo>
                    <a:lnTo>
                      <a:pt x="0" y="710"/>
                    </a:lnTo>
                    <a:lnTo>
                      <a:pt x="224" y="575"/>
                    </a:lnTo>
                    <a:close/>
                    <a:moveTo>
                      <a:pt x="711" y="282"/>
                    </a:moveTo>
                    <a:lnTo>
                      <a:pt x="954" y="428"/>
                    </a:lnTo>
                    <a:lnTo>
                      <a:pt x="711" y="575"/>
                    </a:lnTo>
                    <a:lnTo>
                      <a:pt x="468" y="428"/>
                    </a:lnTo>
                    <a:lnTo>
                      <a:pt x="711" y="282"/>
                    </a:lnTo>
                    <a:close/>
                    <a:moveTo>
                      <a:pt x="729" y="0"/>
                    </a:moveTo>
                    <a:lnTo>
                      <a:pt x="954" y="136"/>
                    </a:lnTo>
                    <a:lnTo>
                      <a:pt x="711" y="282"/>
                    </a:lnTo>
                    <a:lnTo>
                      <a:pt x="486" y="147"/>
                    </a:lnTo>
                    <a:lnTo>
                      <a:pt x="729" y="0"/>
                    </a:lnTo>
                    <a:close/>
                  </a:path>
                </a:pathLst>
              </a:custGeom>
              <a:solidFill>
                <a:srgbClr val="ddec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51" name="Freeform 41"/>
              <p:cNvSpPr/>
              <p:nvPr/>
            </p:nvSpPr>
            <p:spPr>
              <a:xfrm>
                <a:off x="6256800" y="2278080"/>
                <a:ext cx="533160" cy="155520"/>
              </a:xfrm>
              <a:custGeom>
                <a:avLst/>
                <a:gdLst/>
                <a:ahLst/>
                <a:rect l="l" t="t" r="r" b="b"/>
                <a:pathLst>
                  <a:path w="1713" h="444">
                    <a:moveTo>
                      <a:pt x="244" y="151"/>
                    </a:moveTo>
                    <a:lnTo>
                      <a:pt x="487" y="298"/>
                    </a:lnTo>
                    <a:lnTo>
                      <a:pt x="244" y="444"/>
                    </a:lnTo>
                    <a:lnTo>
                      <a:pt x="0" y="298"/>
                    </a:lnTo>
                    <a:lnTo>
                      <a:pt x="244" y="151"/>
                    </a:lnTo>
                    <a:close/>
                    <a:moveTo>
                      <a:pt x="974" y="5"/>
                    </a:moveTo>
                    <a:lnTo>
                      <a:pt x="1217" y="151"/>
                    </a:lnTo>
                    <a:lnTo>
                      <a:pt x="974" y="298"/>
                    </a:lnTo>
                    <a:lnTo>
                      <a:pt x="730" y="151"/>
                    </a:lnTo>
                    <a:lnTo>
                      <a:pt x="974" y="5"/>
                    </a:lnTo>
                    <a:close/>
                    <a:moveTo>
                      <a:pt x="1469" y="0"/>
                    </a:moveTo>
                    <a:lnTo>
                      <a:pt x="1713" y="146"/>
                    </a:lnTo>
                    <a:lnTo>
                      <a:pt x="1460" y="298"/>
                    </a:lnTo>
                    <a:lnTo>
                      <a:pt x="1217" y="151"/>
                    </a:lnTo>
                    <a:lnTo>
                      <a:pt x="1469" y="0"/>
                    </a:lnTo>
                    <a:close/>
                  </a:path>
                </a:pathLst>
              </a:custGeom>
              <a:solidFill>
                <a:srgbClr val="ff863d"/>
              </a:solidFill>
              <a:ln w="0">
                <a:solidFill>
                  <a:srgbClr val="ff863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52" name="Freeform 42"/>
              <p:cNvSpPr/>
              <p:nvPr/>
            </p:nvSpPr>
            <p:spPr>
              <a:xfrm>
                <a:off x="6188400" y="2174040"/>
                <a:ext cx="678960" cy="261000"/>
              </a:xfrm>
              <a:custGeom>
                <a:avLst/>
                <a:gdLst/>
                <a:ahLst/>
                <a:rect l="l" t="t" r="r" b="b"/>
                <a:pathLst>
                  <a:path w="2189" h="744">
                    <a:moveTo>
                      <a:pt x="1937" y="440"/>
                    </a:moveTo>
                    <a:lnTo>
                      <a:pt x="2189" y="592"/>
                    </a:lnTo>
                    <a:lnTo>
                      <a:pt x="1937" y="744"/>
                    </a:lnTo>
                    <a:lnTo>
                      <a:pt x="1684" y="592"/>
                    </a:lnTo>
                    <a:lnTo>
                      <a:pt x="1937" y="440"/>
                    </a:lnTo>
                    <a:close/>
                    <a:moveTo>
                      <a:pt x="486" y="164"/>
                    </a:moveTo>
                    <a:lnTo>
                      <a:pt x="711" y="299"/>
                    </a:lnTo>
                    <a:lnTo>
                      <a:pt x="224" y="592"/>
                    </a:lnTo>
                    <a:lnTo>
                      <a:pt x="0" y="457"/>
                    </a:lnTo>
                    <a:lnTo>
                      <a:pt x="486" y="164"/>
                    </a:lnTo>
                    <a:close/>
                    <a:moveTo>
                      <a:pt x="1207" y="0"/>
                    </a:moveTo>
                    <a:lnTo>
                      <a:pt x="1450" y="147"/>
                    </a:lnTo>
                    <a:lnTo>
                      <a:pt x="954" y="445"/>
                    </a:lnTo>
                    <a:lnTo>
                      <a:pt x="711" y="299"/>
                    </a:lnTo>
                    <a:lnTo>
                      <a:pt x="1207" y="0"/>
                    </a:lnTo>
                    <a:close/>
                  </a:path>
                </a:pathLst>
              </a:custGeom>
              <a:solidFill>
                <a:srgbClr val="f7c2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53" name="Freeform 43"/>
              <p:cNvSpPr/>
              <p:nvPr/>
            </p:nvSpPr>
            <p:spPr>
              <a:xfrm>
                <a:off x="6263280" y="2330280"/>
                <a:ext cx="447480" cy="201240"/>
              </a:xfrm>
              <a:custGeom>
                <a:avLst/>
                <a:gdLst/>
                <a:ahLst/>
                <a:rect l="l" t="t" r="r" b="b"/>
                <a:pathLst>
                  <a:path w="1441" h="575">
                    <a:moveTo>
                      <a:pt x="225" y="293"/>
                    </a:moveTo>
                    <a:lnTo>
                      <a:pt x="468" y="440"/>
                    </a:lnTo>
                    <a:lnTo>
                      <a:pt x="243" y="575"/>
                    </a:lnTo>
                    <a:lnTo>
                      <a:pt x="0" y="428"/>
                    </a:lnTo>
                    <a:lnTo>
                      <a:pt x="225" y="293"/>
                    </a:lnTo>
                    <a:close/>
                    <a:moveTo>
                      <a:pt x="1198" y="0"/>
                    </a:moveTo>
                    <a:lnTo>
                      <a:pt x="1441" y="147"/>
                    </a:lnTo>
                    <a:lnTo>
                      <a:pt x="1198" y="293"/>
                    </a:lnTo>
                    <a:lnTo>
                      <a:pt x="955" y="147"/>
                    </a:lnTo>
                    <a:lnTo>
                      <a:pt x="1198" y="0"/>
                    </a:lnTo>
                    <a:close/>
                  </a:path>
                </a:pathLst>
              </a:custGeom>
              <a:solidFill>
                <a:srgbClr val="a5fffb"/>
              </a:solidFill>
              <a:ln w="0">
                <a:solidFill>
                  <a:srgbClr val="a5fff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54" name="Freeform 44"/>
              <p:cNvSpPr/>
              <p:nvPr/>
            </p:nvSpPr>
            <p:spPr>
              <a:xfrm>
                <a:off x="6333120" y="2382840"/>
                <a:ext cx="457200" cy="207000"/>
              </a:xfrm>
              <a:custGeom>
                <a:avLst/>
                <a:gdLst/>
                <a:ahLst/>
                <a:rect l="l" t="t" r="r" b="b"/>
                <a:pathLst>
                  <a:path w="1469" h="591">
                    <a:moveTo>
                      <a:pt x="730" y="293"/>
                    </a:moveTo>
                    <a:lnTo>
                      <a:pt x="982" y="444"/>
                    </a:lnTo>
                    <a:lnTo>
                      <a:pt x="739" y="591"/>
                    </a:lnTo>
                    <a:lnTo>
                      <a:pt x="486" y="440"/>
                    </a:lnTo>
                    <a:lnTo>
                      <a:pt x="730" y="293"/>
                    </a:lnTo>
                    <a:close/>
                    <a:moveTo>
                      <a:pt x="243" y="293"/>
                    </a:moveTo>
                    <a:lnTo>
                      <a:pt x="486" y="440"/>
                    </a:lnTo>
                    <a:lnTo>
                      <a:pt x="261" y="575"/>
                    </a:lnTo>
                    <a:lnTo>
                      <a:pt x="18" y="428"/>
                    </a:lnTo>
                    <a:lnTo>
                      <a:pt x="243" y="293"/>
                    </a:lnTo>
                    <a:close/>
                    <a:moveTo>
                      <a:pt x="1216" y="0"/>
                    </a:moveTo>
                    <a:lnTo>
                      <a:pt x="1469" y="152"/>
                    </a:lnTo>
                    <a:lnTo>
                      <a:pt x="1225" y="298"/>
                    </a:lnTo>
                    <a:lnTo>
                      <a:pt x="973" y="146"/>
                    </a:lnTo>
                    <a:lnTo>
                      <a:pt x="1216" y="0"/>
                    </a:lnTo>
                    <a:close/>
                    <a:moveTo>
                      <a:pt x="730" y="0"/>
                    </a:moveTo>
                    <a:lnTo>
                      <a:pt x="973" y="146"/>
                    </a:lnTo>
                    <a:lnTo>
                      <a:pt x="730" y="293"/>
                    </a:lnTo>
                    <a:lnTo>
                      <a:pt x="486" y="146"/>
                    </a:lnTo>
                    <a:lnTo>
                      <a:pt x="730" y="0"/>
                    </a:lnTo>
                    <a:close/>
                    <a:moveTo>
                      <a:pt x="243" y="0"/>
                    </a:moveTo>
                    <a:lnTo>
                      <a:pt x="486" y="146"/>
                    </a:lnTo>
                    <a:lnTo>
                      <a:pt x="243" y="293"/>
                    </a:lnTo>
                    <a:lnTo>
                      <a:pt x="0" y="146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b9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55" name="Freeform 45"/>
              <p:cNvSpPr/>
              <p:nvPr/>
            </p:nvSpPr>
            <p:spPr>
              <a:xfrm>
                <a:off x="6409080" y="2433600"/>
                <a:ext cx="304920" cy="203400"/>
              </a:xfrm>
              <a:custGeom>
                <a:avLst/>
                <a:gdLst/>
                <a:ahLst/>
                <a:rect l="l" t="t" r="r" b="b"/>
                <a:pathLst>
                  <a:path w="982" h="580">
                    <a:moveTo>
                      <a:pt x="243" y="294"/>
                    </a:moveTo>
                    <a:lnTo>
                      <a:pt x="496" y="445"/>
                    </a:lnTo>
                    <a:lnTo>
                      <a:pt x="270" y="580"/>
                    </a:lnTo>
                    <a:lnTo>
                      <a:pt x="18" y="429"/>
                    </a:lnTo>
                    <a:lnTo>
                      <a:pt x="243" y="294"/>
                    </a:lnTo>
                    <a:close/>
                    <a:moveTo>
                      <a:pt x="730" y="0"/>
                    </a:moveTo>
                    <a:lnTo>
                      <a:pt x="982" y="152"/>
                    </a:lnTo>
                    <a:lnTo>
                      <a:pt x="739" y="298"/>
                    </a:lnTo>
                    <a:lnTo>
                      <a:pt x="487" y="147"/>
                    </a:lnTo>
                    <a:lnTo>
                      <a:pt x="730" y="0"/>
                    </a:lnTo>
                    <a:close/>
                    <a:moveTo>
                      <a:pt x="243" y="0"/>
                    </a:moveTo>
                    <a:lnTo>
                      <a:pt x="487" y="147"/>
                    </a:lnTo>
                    <a:lnTo>
                      <a:pt x="243" y="294"/>
                    </a:lnTo>
                    <a:lnTo>
                      <a:pt x="0" y="14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2271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56" name="Freeform 46"/>
              <p:cNvSpPr/>
              <p:nvPr/>
            </p:nvSpPr>
            <p:spPr>
              <a:xfrm>
                <a:off x="6118920" y="2129040"/>
                <a:ext cx="595080" cy="304560"/>
              </a:xfrm>
              <a:custGeom>
                <a:avLst/>
                <a:gdLst/>
                <a:ahLst/>
                <a:rect l="l" t="t" r="r" b="b"/>
                <a:pathLst>
                  <a:path w="1918" h="872">
                    <a:moveTo>
                      <a:pt x="225" y="591"/>
                    </a:moveTo>
                    <a:lnTo>
                      <a:pt x="449" y="726"/>
                    </a:lnTo>
                    <a:lnTo>
                      <a:pt x="225" y="861"/>
                    </a:lnTo>
                    <a:lnTo>
                      <a:pt x="0" y="726"/>
                    </a:lnTo>
                    <a:lnTo>
                      <a:pt x="225" y="591"/>
                    </a:lnTo>
                    <a:close/>
                    <a:moveTo>
                      <a:pt x="1179" y="579"/>
                    </a:moveTo>
                    <a:lnTo>
                      <a:pt x="1423" y="726"/>
                    </a:lnTo>
                    <a:lnTo>
                      <a:pt x="1179" y="872"/>
                    </a:lnTo>
                    <a:lnTo>
                      <a:pt x="936" y="726"/>
                    </a:lnTo>
                    <a:lnTo>
                      <a:pt x="1179" y="579"/>
                    </a:lnTo>
                    <a:close/>
                    <a:moveTo>
                      <a:pt x="1675" y="281"/>
                    </a:moveTo>
                    <a:lnTo>
                      <a:pt x="1918" y="428"/>
                    </a:lnTo>
                    <a:lnTo>
                      <a:pt x="1666" y="579"/>
                    </a:lnTo>
                    <a:lnTo>
                      <a:pt x="1423" y="433"/>
                    </a:lnTo>
                    <a:lnTo>
                      <a:pt x="1675" y="281"/>
                    </a:lnTo>
                    <a:close/>
                    <a:moveTo>
                      <a:pt x="1206" y="0"/>
                    </a:moveTo>
                    <a:lnTo>
                      <a:pt x="1432" y="134"/>
                    </a:lnTo>
                    <a:lnTo>
                      <a:pt x="1179" y="287"/>
                    </a:lnTo>
                    <a:lnTo>
                      <a:pt x="954" y="151"/>
                    </a:lnTo>
                    <a:lnTo>
                      <a:pt x="1206" y="0"/>
                    </a:lnTo>
                    <a:close/>
                  </a:path>
                </a:pathLst>
              </a:custGeom>
              <a:solidFill>
                <a:srgbClr val="aad0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</p:grpSp>
        <p:grpSp>
          <p:nvGrpSpPr>
            <p:cNvPr id="157" name="Group 36"/>
            <p:cNvGrpSpPr/>
            <p:nvPr/>
          </p:nvGrpSpPr>
          <p:grpSpPr>
            <a:xfrm>
              <a:off x="6472800" y="2025720"/>
              <a:ext cx="982440" cy="712800"/>
              <a:chOff x="6472800" y="2025720"/>
              <a:chExt cx="982440" cy="712800"/>
            </a:xfrm>
          </p:grpSpPr>
          <p:sp>
            <p:nvSpPr>
              <p:cNvPr id="158" name="Freeform 38"/>
              <p:cNvSpPr/>
              <p:nvPr/>
            </p:nvSpPr>
            <p:spPr>
              <a:xfrm>
                <a:off x="6472800" y="2025720"/>
                <a:ext cx="982440" cy="712800"/>
              </a:xfrm>
              <a:custGeom>
                <a:avLst/>
                <a:gdLst/>
                <a:ahLst/>
                <a:rect l="l" t="t" r="r" b="b"/>
                <a:pathLst>
                  <a:path w="3158" h="2033">
                    <a:moveTo>
                      <a:pt x="1578" y="0"/>
                    </a:moveTo>
                    <a:lnTo>
                      <a:pt x="1603" y="1"/>
                    </a:lnTo>
                    <a:lnTo>
                      <a:pt x="1630" y="5"/>
                    </a:lnTo>
                    <a:lnTo>
                      <a:pt x="1659" y="11"/>
                    </a:lnTo>
                    <a:lnTo>
                      <a:pt x="1688" y="20"/>
                    </a:lnTo>
                    <a:lnTo>
                      <a:pt x="1718" y="36"/>
                    </a:lnTo>
                    <a:lnTo>
                      <a:pt x="3049" y="834"/>
                    </a:lnTo>
                    <a:lnTo>
                      <a:pt x="3081" y="857"/>
                    </a:lnTo>
                    <a:lnTo>
                      <a:pt x="3107" y="884"/>
                    </a:lnTo>
                    <a:lnTo>
                      <a:pt x="3129" y="914"/>
                    </a:lnTo>
                    <a:lnTo>
                      <a:pt x="3145" y="946"/>
                    </a:lnTo>
                    <a:lnTo>
                      <a:pt x="3154" y="981"/>
                    </a:lnTo>
                    <a:lnTo>
                      <a:pt x="3158" y="1018"/>
                    </a:lnTo>
                    <a:lnTo>
                      <a:pt x="3154" y="1053"/>
                    </a:lnTo>
                    <a:lnTo>
                      <a:pt x="3145" y="1088"/>
                    </a:lnTo>
                    <a:lnTo>
                      <a:pt x="3129" y="1121"/>
                    </a:lnTo>
                    <a:lnTo>
                      <a:pt x="3107" y="1150"/>
                    </a:lnTo>
                    <a:lnTo>
                      <a:pt x="3081" y="1176"/>
                    </a:lnTo>
                    <a:lnTo>
                      <a:pt x="3049" y="1199"/>
                    </a:lnTo>
                    <a:lnTo>
                      <a:pt x="1718" y="1998"/>
                    </a:lnTo>
                    <a:lnTo>
                      <a:pt x="1689" y="2013"/>
                    </a:lnTo>
                    <a:lnTo>
                      <a:pt x="1659" y="2024"/>
                    </a:lnTo>
                    <a:lnTo>
                      <a:pt x="1630" y="2030"/>
                    </a:lnTo>
                    <a:lnTo>
                      <a:pt x="1603" y="2033"/>
                    </a:lnTo>
                    <a:lnTo>
                      <a:pt x="1578" y="2033"/>
                    </a:lnTo>
                    <a:lnTo>
                      <a:pt x="1555" y="2033"/>
                    </a:lnTo>
                    <a:lnTo>
                      <a:pt x="1528" y="2030"/>
                    </a:lnTo>
                    <a:lnTo>
                      <a:pt x="1498" y="2024"/>
                    </a:lnTo>
                    <a:lnTo>
                      <a:pt x="1469" y="2013"/>
                    </a:lnTo>
                    <a:lnTo>
                      <a:pt x="1439" y="1997"/>
                    </a:lnTo>
                    <a:lnTo>
                      <a:pt x="109" y="1199"/>
                    </a:lnTo>
                    <a:lnTo>
                      <a:pt x="77" y="1176"/>
                    </a:lnTo>
                    <a:lnTo>
                      <a:pt x="50" y="1150"/>
                    </a:lnTo>
                    <a:lnTo>
                      <a:pt x="29" y="1119"/>
                    </a:lnTo>
                    <a:lnTo>
                      <a:pt x="13" y="1087"/>
                    </a:lnTo>
                    <a:lnTo>
                      <a:pt x="4" y="1052"/>
                    </a:lnTo>
                    <a:lnTo>
                      <a:pt x="0" y="1015"/>
                    </a:lnTo>
                    <a:lnTo>
                      <a:pt x="4" y="980"/>
                    </a:lnTo>
                    <a:lnTo>
                      <a:pt x="13" y="945"/>
                    </a:lnTo>
                    <a:lnTo>
                      <a:pt x="29" y="913"/>
                    </a:lnTo>
                    <a:lnTo>
                      <a:pt x="51" y="882"/>
                    </a:lnTo>
                    <a:lnTo>
                      <a:pt x="77" y="857"/>
                    </a:lnTo>
                    <a:lnTo>
                      <a:pt x="110" y="834"/>
                    </a:lnTo>
                    <a:lnTo>
                      <a:pt x="1440" y="36"/>
                    </a:lnTo>
                    <a:lnTo>
                      <a:pt x="1469" y="20"/>
                    </a:lnTo>
                    <a:lnTo>
                      <a:pt x="1499" y="11"/>
                    </a:lnTo>
                    <a:lnTo>
                      <a:pt x="1528" y="5"/>
                    </a:lnTo>
                    <a:lnTo>
                      <a:pt x="1555" y="1"/>
                    </a:lnTo>
                    <a:lnTo>
                      <a:pt x="157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59" name="Freeform 39"/>
              <p:cNvSpPr/>
              <p:nvPr/>
            </p:nvSpPr>
            <p:spPr>
              <a:xfrm>
                <a:off x="6522480" y="2081520"/>
                <a:ext cx="882720" cy="600840"/>
              </a:xfrm>
              <a:custGeom>
                <a:avLst/>
                <a:gdLst/>
                <a:ahLst/>
                <a:rect l="l" t="t" r="r" b="b"/>
                <a:pathLst>
                  <a:path w="2837" h="1715">
                    <a:moveTo>
                      <a:pt x="1417" y="0"/>
                    </a:moveTo>
                    <a:lnTo>
                      <a:pt x="1440" y="1"/>
                    </a:lnTo>
                    <a:lnTo>
                      <a:pt x="1459" y="6"/>
                    </a:lnTo>
                    <a:lnTo>
                      <a:pt x="1475" y="14"/>
                    </a:lnTo>
                    <a:lnTo>
                      <a:pt x="2806" y="812"/>
                    </a:lnTo>
                    <a:lnTo>
                      <a:pt x="2823" y="826"/>
                    </a:lnTo>
                    <a:lnTo>
                      <a:pt x="2834" y="842"/>
                    </a:lnTo>
                    <a:lnTo>
                      <a:pt x="2837" y="858"/>
                    </a:lnTo>
                    <a:lnTo>
                      <a:pt x="2834" y="874"/>
                    </a:lnTo>
                    <a:lnTo>
                      <a:pt x="2823" y="890"/>
                    </a:lnTo>
                    <a:lnTo>
                      <a:pt x="2806" y="903"/>
                    </a:lnTo>
                    <a:lnTo>
                      <a:pt x="1475" y="1703"/>
                    </a:lnTo>
                    <a:lnTo>
                      <a:pt x="1459" y="1710"/>
                    </a:lnTo>
                    <a:lnTo>
                      <a:pt x="1440" y="1714"/>
                    </a:lnTo>
                    <a:lnTo>
                      <a:pt x="1417" y="1715"/>
                    </a:lnTo>
                    <a:lnTo>
                      <a:pt x="1396" y="1714"/>
                    </a:lnTo>
                    <a:lnTo>
                      <a:pt x="1377" y="1710"/>
                    </a:lnTo>
                    <a:lnTo>
                      <a:pt x="1361" y="1703"/>
                    </a:lnTo>
                    <a:lnTo>
                      <a:pt x="30" y="903"/>
                    </a:lnTo>
                    <a:lnTo>
                      <a:pt x="14" y="891"/>
                    </a:lnTo>
                    <a:lnTo>
                      <a:pt x="5" y="878"/>
                    </a:lnTo>
                    <a:lnTo>
                      <a:pt x="0" y="865"/>
                    </a:lnTo>
                    <a:lnTo>
                      <a:pt x="0" y="850"/>
                    </a:lnTo>
                    <a:lnTo>
                      <a:pt x="5" y="837"/>
                    </a:lnTo>
                    <a:lnTo>
                      <a:pt x="14" y="824"/>
                    </a:lnTo>
                    <a:lnTo>
                      <a:pt x="30" y="812"/>
                    </a:lnTo>
                    <a:lnTo>
                      <a:pt x="1361" y="14"/>
                    </a:lnTo>
                    <a:lnTo>
                      <a:pt x="1377" y="6"/>
                    </a:lnTo>
                    <a:lnTo>
                      <a:pt x="1396" y="1"/>
                    </a:lnTo>
                    <a:lnTo>
                      <a:pt x="14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60" name="Freeform 40"/>
              <p:cNvSpPr/>
              <p:nvPr/>
            </p:nvSpPr>
            <p:spPr>
              <a:xfrm>
                <a:off x="6658920" y="2181240"/>
                <a:ext cx="295200" cy="299520"/>
              </a:xfrm>
              <a:custGeom>
                <a:avLst/>
                <a:gdLst/>
                <a:ahLst/>
                <a:rect l="l" t="t" r="r" b="b"/>
                <a:pathLst>
                  <a:path w="954" h="856">
                    <a:moveTo>
                      <a:pt x="224" y="575"/>
                    </a:moveTo>
                    <a:lnTo>
                      <a:pt x="468" y="721"/>
                    </a:lnTo>
                    <a:lnTo>
                      <a:pt x="243" y="856"/>
                    </a:lnTo>
                    <a:lnTo>
                      <a:pt x="0" y="710"/>
                    </a:lnTo>
                    <a:lnTo>
                      <a:pt x="224" y="575"/>
                    </a:lnTo>
                    <a:close/>
                    <a:moveTo>
                      <a:pt x="711" y="282"/>
                    </a:moveTo>
                    <a:lnTo>
                      <a:pt x="954" y="428"/>
                    </a:lnTo>
                    <a:lnTo>
                      <a:pt x="711" y="575"/>
                    </a:lnTo>
                    <a:lnTo>
                      <a:pt x="468" y="428"/>
                    </a:lnTo>
                    <a:lnTo>
                      <a:pt x="711" y="282"/>
                    </a:lnTo>
                    <a:close/>
                    <a:moveTo>
                      <a:pt x="729" y="0"/>
                    </a:moveTo>
                    <a:lnTo>
                      <a:pt x="954" y="136"/>
                    </a:lnTo>
                    <a:lnTo>
                      <a:pt x="711" y="282"/>
                    </a:lnTo>
                    <a:lnTo>
                      <a:pt x="486" y="147"/>
                    </a:lnTo>
                    <a:lnTo>
                      <a:pt x="729" y="0"/>
                    </a:lnTo>
                    <a:close/>
                  </a:path>
                </a:pathLst>
              </a:custGeom>
              <a:solidFill>
                <a:srgbClr val="ddec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61" name="Freeform 41"/>
              <p:cNvSpPr/>
              <p:nvPr/>
            </p:nvSpPr>
            <p:spPr>
              <a:xfrm>
                <a:off x="6727320" y="2278080"/>
                <a:ext cx="533160" cy="155520"/>
              </a:xfrm>
              <a:custGeom>
                <a:avLst/>
                <a:gdLst/>
                <a:ahLst/>
                <a:rect l="l" t="t" r="r" b="b"/>
                <a:pathLst>
                  <a:path w="1713" h="444">
                    <a:moveTo>
                      <a:pt x="244" y="151"/>
                    </a:moveTo>
                    <a:lnTo>
                      <a:pt x="487" y="298"/>
                    </a:lnTo>
                    <a:lnTo>
                      <a:pt x="244" y="444"/>
                    </a:lnTo>
                    <a:lnTo>
                      <a:pt x="0" y="298"/>
                    </a:lnTo>
                    <a:lnTo>
                      <a:pt x="244" y="151"/>
                    </a:lnTo>
                    <a:close/>
                    <a:moveTo>
                      <a:pt x="974" y="5"/>
                    </a:moveTo>
                    <a:lnTo>
                      <a:pt x="1217" y="151"/>
                    </a:lnTo>
                    <a:lnTo>
                      <a:pt x="974" y="298"/>
                    </a:lnTo>
                    <a:lnTo>
                      <a:pt x="730" y="151"/>
                    </a:lnTo>
                    <a:lnTo>
                      <a:pt x="974" y="5"/>
                    </a:lnTo>
                    <a:close/>
                    <a:moveTo>
                      <a:pt x="1469" y="0"/>
                    </a:moveTo>
                    <a:lnTo>
                      <a:pt x="1713" y="146"/>
                    </a:lnTo>
                    <a:lnTo>
                      <a:pt x="1460" y="298"/>
                    </a:lnTo>
                    <a:lnTo>
                      <a:pt x="1217" y="151"/>
                    </a:lnTo>
                    <a:lnTo>
                      <a:pt x="1469" y="0"/>
                    </a:lnTo>
                    <a:close/>
                  </a:path>
                </a:pathLst>
              </a:custGeom>
              <a:solidFill>
                <a:srgbClr val="ff863d"/>
              </a:solidFill>
              <a:ln w="0">
                <a:solidFill>
                  <a:srgbClr val="ff863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62" name="Freeform 42"/>
              <p:cNvSpPr/>
              <p:nvPr/>
            </p:nvSpPr>
            <p:spPr>
              <a:xfrm>
                <a:off x="6658920" y="2174040"/>
                <a:ext cx="678960" cy="261000"/>
              </a:xfrm>
              <a:custGeom>
                <a:avLst/>
                <a:gdLst/>
                <a:ahLst/>
                <a:rect l="l" t="t" r="r" b="b"/>
                <a:pathLst>
                  <a:path w="2189" h="744">
                    <a:moveTo>
                      <a:pt x="1937" y="440"/>
                    </a:moveTo>
                    <a:lnTo>
                      <a:pt x="2189" y="592"/>
                    </a:lnTo>
                    <a:lnTo>
                      <a:pt x="1937" y="744"/>
                    </a:lnTo>
                    <a:lnTo>
                      <a:pt x="1684" y="592"/>
                    </a:lnTo>
                    <a:lnTo>
                      <a:pt x="1937" y="440"/>
                    </a:lnTo>
                    <a:close/>
                    <a:moveTo>
                      <a:pt x="486" y="164"/>
                    </a:moveTo>
                    <a:lnTo>
                      <a:pt x="711" y="299"/>
                    </a:lnTo>
                    <a:lnTo>
                      <a:pt x="224" y="592"/>
                    </a:lnTo>
                    <a:lnTo>
                      <a:pt x="0" y="457"/>
                    </a:lnTo>
                    <a:lnTo>
                      <a:pt x="486" y="164"/>
                    </a:lnTo>
                    <a:close/>
                    <a:moveTo>
                      <a:pt x="1207" y="0"/>
                    </a:moveTo>
                    <a:lnTo>
                      <a:pt x="1450" y="147"/>
                    </a:lnTo>
                    <a:lnTo>
                      <a:pt x="954" y="445"/>
                    </a:lnTo>
                    <a:lnTo>
                      <a:pt x="711" y="299"/>
                    </a:lnTo>
                    <a:lnTo>
                      <a:pt x="1207" y="0"/>
                    </a:lnTo>
                    <a:close/>
                  </a:path>
                </a:pathLst>
              </a:custGeom>
              <a:solidFill>
                <a:srgbClr val="f7c2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63" name="Freeform 43"/>
              <p:cNvSpPr/>
              <p:nvPr/>
            </p:nvSpPr>
            <p:spPr>
              <a:xfrm>
                <a:off x="6733800" y="2330280"/>
                <a:ext cx="447480" cy="201240"/>
              </a:xfrm>
              <a:custGeom>
                <a:avLst/>
                <a:gdLst/>
                <a:ahLst/>
                <a:rect l="l" t="t" r="r" b="b"/>
                <a:pathLst>
                  <a:path w="1441" h="575">
                    <a:moveTo>
                      <a:pt x="225" y="293"/>
                    </a:moveTo>
                    <a:lnTo>
                      <a:pt x="468" y="440"/>
                    </a:lnTo>
                    <a:lnTo>
                      <a:pt x="243" y="575"/>
                    </a:lnTo>
                    <a:lnTo>
                      <a:pt x="0" y="428"/>
                    </a:lnTo>
                    <a:lnTo>
                      <a:pt x="225" y="293"/>
                    </a:lnTo>
                    <a:close/>
                    <a:moveTo>
                      <a:pt x="1198" y="0"/>
                    </a:moveTo>
                    <a:lnTo>
                      <a:pt x="1441" y="147"/>
                    </a:lnTo>
                    <a:lnTo>
                      <a:pt x="1198" y="293"/>
                    </a:lnTo>
                    <a:lnTo>
                      <a:pt x="955" y="147"/>
                    </a:lnTo>
                    <a:lnTo>
                      <a:pt x="1198" y="0"/>
                    </a:lnTo>
                    <a:close/>
                  </a:path>
                </a:pathLst>
              </a:custGeom>
              <a:solidFill>
                <a:srgbClr val="a5fffb"/>
              </a:solidFill>
              <a:ln w="0">
                <a:solidFill>
                  <a:srgbClr val="a5fff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64" name="Freeform 44"/>
              <p:cNvSpPr/>
              <p:nvPr/>
            </p:nvSpPr>
            <p:spPr>
              <a:xfrm>
                <a:off x="6803640" y="2382840"/>
                <a:ext cx="457200" cy="207000"/>
              </a:xfrm>
              <a:custGeom>
                <a:avLst/>
                <a:gdLst/>
                <a:ahLst/>
                <a:rect l="l" t="t" r="r" b="b"/>
                <a:pathLst>
                  <a:path w="1469" h="591">
                    <a:moveTo>
                      <a:pt x="730" y="293"/>
                    </a:moveTo>
                    <a:lnTo>
                      <a:pt x="982" y="444"/>
                    </a:lnTo>
                    <a:lnTo>
                      <a:pt x="739" y="591"/>
                    </a:lnTo>
                    <a:lnTo>
                      <a:pt x="486" y="440"/>
                    </a:lnTo>
                    <a:lnTo>
                      <a:pt x="730" y="293"/>
                    </a:lnTo>
                    <a:close/>
                    <a:moveTo>
                      <a:pt x="243" y="293"/>
                    </a:moveTo>
                    <a:lnTo>
                      <a:pt x="486" y="440"/>
                    </a:lnTo>
                    <a:lnTo>
                      <a:pt x="261" y="575"/>
                    </a:lnTo>
                    <a:lnTo>
                      <a:pt x="18" y="428"/>
                    </a:lnTo>
                    <a:lnTo>
                      <a:pt x="243" y="293"/>
                    </a:lnTo>
                    <a:close/>
                    <a:moveTo>
                      <a:pt x="1216" y="0"/>
                    </a:moveTo>
                    <a:lnTo>
                      <a:pt x="1469" y="152"/>
                    </a:lnTo>
                    <a:lnTo>
                      <a:pt x="1225" y="298"/>
                    </a:lnTo>
                    <a:lnTo>
                      <a:pt x="973" y="146"/>
                    </a:lnTo>
                    <a:lnTo>
                      <a:pt x="1216" y="0"/>
                    </a:lnTo>
                    <a:close/>
                    <a:moveTo>
                      <a:pt x="730" y="0"/>
                    </a:moveTo>
                    <a:lnTo>
                      <a:pt x="973" y="146"/>
                    </a:lnTo>
                    <a:lnTo>
                      <a:pt x="730" y="293"/>
                    </a:lnTo>
                    <a:lnTo>
                      <a:pt x="486" y="146"/>
                    </a:lnTo>
                    <a:lnTo>
                      <a:pt x="730" y="0"/>
                    </a:lnTo>
                    <a:close/>
                    <a:moveTo>
                      <a:pt x="243" y="0"/>
                    </a:moveTo>
                    <a:lnTo>
                      <a:pt x="486" y="146"/>
                    </a:lnTo>
                    <a:lnTo>
                      <a:pt x="243" y="293"/>
                    </a:lnTo>
                    <a:lnTo>
                      <a:pt x="0" y="146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b9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65" name="Freeform 45"/>
              <p:cNvSpPr/>
              <p:nvPr/>
            </p:nvSpPr>
            <p:spPr>
              <a:xfrm>
                <a:off x="6879600" y="2433600"/>
                <a:ext cx="304920" cy="203400"/>
              </a:xfrm>
              <a:custGeom>
                <a:avLst/>
                <a:gdLst/>
                <a:ahLst/>
                <a:rect l="l" t="t" r="r" b="b"/>
                <a:pathLst>
                  <a:path w="982" h="580">
                    <a:moveTo>
                      <a:pt x="243" y="294"/>
                    </a:moveTo>
                    <a:lnTo>
                      <a:pt x="496" y="445"/>
                    </a:lnTo>
                    <a:lnTo>
                      <a:pt x="270" y="580"/>
                    </a:lnTo>
                    <a:lnTo>
                      <a:pt x="18" y="429"/>
                    </a:lnTo>
                    <a:lnTo>
                      <a:pt x="243" y="294"/>
                    </a:lnTo>
                    <a:close/>
                    <a:moveTo>
                      <a:pt x="730" y="0"/>
                    </a:moveTo>
                    <a:lnTo>
                      <a:pt x="982" y="152"/>
                    </a:lnTo>
                    <a:lnTo>
                      <a:pt x="739" y="298"/>
                    </a:lnTo>
                    <a:lnTo>
                      <a:pt x="487" y="147"/>
                    </a:lnTo>
                    <a:lnTo>
                      <a:pt x="730" y="0"/>
                    </a:lnTo>
                    <a:close/>
                    <a:moveTo>
                      <a:pt x="243" y="0"/>
                    </a:moveTo>
                    <a:lnTo>
                      <a:pt x="487" y="147"/>
                    </a:lnTo>
                    <a:lnTo>
                      <a:pt x="243" y="294"/>
                    </a:lnTo>
                    <a:lnTo>
                      <a:pt x="0" y="14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2271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66" name="Freeform 46"/>
              <p:cNvSpPr/>
              <p:nvPr/>
            </p:nvSpPr>
            <p:spPr>
              <a:xfrm>
                <a:off x="6589440" y="2129040"/>
                <a:ext cx="595080" cy="304560"/>
              </a:xfrm>
              <a:custGeom>
                <a:avLst/>
                <a:gdLst/>
                <a:ahLst/>
                <a:rect l="l" t="t" r="r" b="b"/>
                <a:pathLst>
                  <a:path w="1918" h="872">
                    <a:moveTo>
                      <a:pt x="225" y="591"/>
                    </a:moveTo>
                    <a:lnTo>
                      <a:pt x="449" y="726"/>
                    </a:lnTo>
                    <a:lnTo>
                      <a:pt x="225" y="861"/>
                    </a:lnTo>
                    <a:lnTo>
                      <a:pt x="0" y="726"/>
                    </a:lnTo>
                    <a:lnTo>
                      <a:pt x="225" y="591"/>
                    </a:lnTo>
                    <a:close/>
                    <a:moveTo>
                      <a:pt x="1179" y="579"/>
                    </a:moveTo>
                    <a:lnTo>
                      <a:pt x="1423" y="726"/>
                    </a:lnTo>
                    <a:lnTo>
                      <a:pt x="1179" y="872"/>
                    </a:lnTo>
                    <a:lnTo>
                      <a:pt x="936" y="726"/>
                    </a:lnTo>
                    <a:lnTo>
                      <a:pt x="1179" y="579"/>
                    </a:lnTo>
                    <a:close/>
                    <a:moveTo>
                      <a:pt x="1675" y="281"/>
                    </a:moveTo>
                    <a:lnTo>
                      <a:pt x="1918" y="428"/>
                    </a:lnTo>
                    <a:lnTo>
                      <a:pt x="1666" y="579"/>
                    </a:lnTo>
                    <a:lnTo>
                      <a:pt x="1423" y="433"/>
                    </a:lnTo>
                    <a:lnTo>
                      <a:pt x="1675" y="281"/>
                    </a:lnTo>
                    <a:close/>
                    <a:moveTo>
                      <a:pt x="1206" y="0"/>
                    </a:moveTo>
                    <a:lnTo>
                      <a:pt x="1432" y="134"/>
                    </a:lnTo>
                    <a:lnTo>
                      <a:pt x="1179" y="287"/>
                    </a:lnTo>
                    <a:lnTo>
                      <a:pt x="954" y="151"/>
                    </a:lnTo>
                    <a:lnTo>
                      <a:pt x="1206" y="0"/>
                    </a:lnTo>
                    <a:close/>
                  </a:path>
                </a:pathLst>
              </a:custGeom>
              <a:solidFill>
                <a:srgbClr val="aad0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</p:grpSp>
        <p:grpSp>
          <p:nvGrpSpPr>
            <p:cNvPr id="167" name="Group 36"/>
            <p:cNvGrpSpPr/>
            <p:nvPr/>
          </p:nvGrpSpPr>
          <p:grpSpPr>
            <a:xfrm>
              <a:off x="6334560" y="2363040"/>
              <a:ext cx="982440" cy="712800"/>
              <a:chOff x="6334560" y="2363040"/>
              <a:chExt cx="982440" cy="712800"/>
            </a:xfrm>
          </p:grpSpPr>
          <p:sp>
            <p:nvSpPr>
              <p:cNvPr id="168" name="Freeform 38"/>
              <p:cNvSpPr/>
              <p:nvPr/>
            </p:nvSpPr>
            <p:spPr>
              <a:xfrm>
                <a:off x="6334560" y="2363040"/>
                <a:ext cx="982440" cy="712800"/>
              </a:xfrm>
              <a:custGeom>
                <a:avLst/>
                <a:gdLst/>
                <a:ahLst/>
                <a:rect l="l" t="t" r="r" b="b"/>
                <a:pathLst>
                  <a:path w="3158" h="2033">
                    <a:moveTo>
                      <a:pt x="1578" y="0"/>
                    </a:moveTo>
                    <a:lnTo>
                      <a:pt x="1603" y="1"/>
                    </a:lnTo>
                    <a:lnTo>
                      <a:pt x="1630" y="5"/>
                    </a:lnTo>
                    <a:lnTo>
                      <a:pt x="1659" y="11"/>
                    </a:lnTo>
                    <a:lnTo>
                      <a:pt x="1688" y="20"/>
                    </a:lnTo>
                    <a:lnTo>
                      <a:pt x="1718" y="36"/>
                    </a:lnTo>
                    <a:lnTo>
                      <a:pt x="3049" y="834"/>
                    </a:lnTo>
                    <a:lnTo>
                      <a:pt x="3081" y="857"/>
                    </a:lnTo>
                    <a:lnTo>
                      <a:pt x="3107" y="884"/>
                    </a:lnTo>
                    <a:lnTo>
                      <a:pt x="3129" y="914"/>
                    </a:lnTo>
                    <a:lnTo>
                      <a:pt x="3145" y="946"/>
                    </a:lnTo>
                    <a:lnTo>
                      <a:pt x="3154" y="981"/>
                    </a:lnTo>
                    <a:lnTo>
                      <a:pt x="3158" y="1018"/>
                    </a:lnTo>
                    <a:lnTo>
                      <a:pt x="3154" y="1053"/>
                    </a:lnTo>
                    <a:lnTo>
                      <a:pt x="3145" y="1088"/>
                    </a:lnTo>
                    <a:lnTo>
                      <a:pt x="3129" y="1121"/>
                    </a:lnTo>
                    <a:lnTo>
                      <a:pt x="3107" y="1150"/>
                    </a:lnTo>
                    <a:lnTo>
                      <a:pt x="3081" y="1176"/>
                    </a:lnTo>
                    <a:lnTo>
                      <a:pt x="3049" y="1199"/>
                    </a:lnTo>
                    <a:lnTo>
                      <a:pt x="1718" y="1998"/>
                    </a:lnTo>
                    <a:lnTo>
                      <a:pt x="1689" y="2013"/>
                    </a:lnTo>
                    <a:lnTo>
                      <a:pt x="1659" y="2024"/>
                    </a:lnTo>
                    <a:lnTo>
                      <a:pt x="1630" y="2030"/>
                    </a:lnTo>
                    <a:lnTo>
                      <a:pt x="1603" y="2033"/>
                    </a:lnTo>
                    <a:lnTo>
                      <a:pt x="1578" y="2033"/>
                    </a:lnTo>
                    <a:lnTo>
                      <a:pt x="1555" y="2033"/>
                    </a:lnTo>
                    <a:lnTo>
                      <a:pt x="1528" y="2030"/>
                    </a:lnTo>
                    <a:lnTo>
                      <a:pt x="1498" y="2024"/>
                    </a:lnTo>
                    <a:lnTo>
                      <a:pt x="1469" y="2013"/>
                    </a:lnTo>
                    <a:lnTo>
                      <a:pt x="1439" y="1997"/>
                    </a:lnTo>
                    <a:lnTo>
                      <a:pt x="109" y="1199"/>
                    </a:lnTo>
                    <a:lnTo>
                      <a:pt x="77" y="1176"/>
                    </a:lnTo>
                    <a:lnTo>
                      <a:pt x="50" y="1150"/>
                    </a:lnTo>
                    <a:lnTo>
                      <a:pt x="29" y="1119"/>
                    </a:lnTo>
                    <a:lnTo>
                      <a:pt x="13" y="1087"/>
                    </a:lnTo>
                    <a:lnTo>
                      <a:pt x="4" y="1052"/>
                    </a:lnTo>
                    <a:lnTo>
                      <a:pt x="0" y="1015"/>
                    </a:lnTo>
                    <a:lnTo>
                      <a:pt x="4" y="980"/>
                    </a:lnTo>
                    <a:lnTo>
                      <a:pt x="13" y="945"/>
                    </a:lnTo>
                    <a:lnTo>
                      <a:pt x="29" y="913"/>
                    </a:lnTo>
                    <a:lnTo>
                      <a:pt x="51" y="882"/>
                    </a:lnTo>
                    <a:lnTo>
                      <a:pt x="77" y="857"/>
                    </a:lnTo>
                    <a:lnTo>
                      <a:pt x="110" y="834"/>
                    </a:lnTo>
                    <a:lnTo>
                      <a:pt x="1440" y="36"/>
                    </a:lnTo>
                    <a:lnTo>
                      <a:pt x="1469" y="20"/>
                    </a:lnTo>
                    <a:lnTo>
                      <a:pt x="1499" y="11"/>
                    </a:lnTo>
                    <a:lnTo>
                      <a:pt x="1528" y="5"/>
                    </a:lnTo>
                    <a:lnTo>
                      <a:pt x="1555" y="1"/>
                    </a:lnTo>
                    <a:lnTo>
                      <a:pt x="157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69" name="Freeform 39"/>
              <p:cNvSpPr/>
              <p:nvPr/>
            </p:nvSpPr>
            <p:spPr>
              <a:xfrm>
                <a:off x="6384240" y="2418840"/>
                <a:ext cx="882720" cy="600840"/>
              </a:xfrm>
              <a:custGeom>
                <a:avLst/>
                <a:gdLst/>
                <a:ahLst/>
                <a:rect l="l" t="t" r="r" b="b"/>
                <a:pathLst>
                  <a:path w="2837" h="1715">
                    <a:moveTo>
                      <a:pt x="1417" y="0"/>
                    </a:moveTo>
                    <a:lnTo>
                      <a:pt x="1440" y="1"/>
                    </a:lnTo>
                    <a:lnTo>
                      <a:pt x="1459" y="6"/>
                    </a:lnTo>
                    <a:lnTo>
                      <a:pt x="1475" y="14"/>
                    </a:lnTo>
                    <a:lnTo>
                      <a:pt x="2806" y="812"/>
                    </a:lnTo>
                    <a:lnTo>
                      <a:pt x="2823" y="826"/>
                    </a:lnTo>
                    <a:lnTo>
                      <a:pt x="2834" y="842"/>
                    </a:lnTo>
                    <a:lnTo>
                      <a:pt x="2837" y="858"/>
                    </a:lnTo>
                    <a:lnTo>
                      <a:pt x="2834" y="874"/>
                    </a:lnTo>
                    <a:lnTo>
                      <a:pt x="2823" y="890"/>
                    </a:lnTo>
                    <a:lnTo>
                      <a:pt x="2806" y="903"/>
                    </a:lnTo>
                    <a:lnTo>
                      <a:pt x="1475" y="1703"/>
                    </a:lnTo>
                    <a:lnTo>
                      <a:pt x="1459" y="1710"/>
                    </a:lnTo>
                    <a:lnTo>
                      <a:pt x="1440" y="1714"/>
                    </a:lnTo>
                    <a:lnTo>
                      <a:pt x="1417" y="1715"/>
                    </a:lnTo>
                    <a:lnTo>
                      <a:pt x="1396" y="1714"/>
                    </a:lnTo>
                    <a:lnTo>
                      <a:pt x="1377" y="1710"/>
                    </a:lnTo>
                    <a:lnTo>
                      <a:pt x="1361" y="1703"/>
                    </a:lnTo>
                    <a:lnTo>
                      <a:pt x="30" y="903"/>
                    </a:lnTo>
                    <a:lnTo>
                      <a:pt x="14" y="891"/>
                    </a:lnTo>
                    <a:lnTo>
                      <a:pt x="5" y="878"/>
                    </a:lnTo>
                    <a:lnTo>
                      <a:pt x="0" y="865"/>
                    </a:lnTo>
                    <a:lnTo>
                      <a:pt x="0" y="850"/>
                    </a:lnTo>
                    <a:lnTo>
                      <a:pt x="5" y="837"/>
                    </a:lnTo>
                    <a:lnTo>
                      <a:pt x="14" y="824"/>
                    </a:lnTo>
                    <a:lnTo>
                      <a:pt x="30" y="812"/>
                    </a:lnTo>
                    <a:lnTo>
                      <a:pt x="1361" y="14"/>
                    </a:lnTo>
                    <a:lnTo>
                      <a:pt x="1377" y="6"/>
                    </a:lnTo>
                    <a:lnTo>
                      <a:pt x="1396" y="1"/>
                    </a:lnTo>
                    <a:lnTo>
                      <a:pt x="14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70" name="Freeform 40"/>
              <p:cNvSpPr/>
              <p:nvPr/>
            </p:nvSpPr>
            <p:spPr>
              <a:xfrm>
                <a:off x="6520680" y="2518560"/>
                <a:ext cx="295200" cy="299520"/>
              </a:xfrm>
              <a:custGeom>
                <a:avLst/>
                <a:gdLst/>
                <a:ahLst/>
                <a:rect l="l" t="t" r="r" b="b"/>
                <a:pathLst>
                  <a:path w="954" h="856">
                    <a:moveTo>
                      <a:pt x="224" y="575"/>
                    </a:moveTo>
                    <a:lnTo>
                      <a:pt x="468" y="721"/>
                    </a:lnTo>
                    <a:lnTo>
                      <a:pt x="243" y="856"/>
                    </a:lnTo>
                    <a:lnTo>
                      <a:pt x="0" y="710"/>
                    </a:lnTo>
                    <a:lnTo>
                      <a:pt x="224" y="575"/>
                    </a:lnTo>
                    <a:close/>
                    <a:moveTo>
                      <a:pt x="711" y="282"/>
                    </a:moveTo>
                    <a:lnTo>
                      <a:pt x="954" y="428"/>
                    </a:lnTo>
                    <a:lnTo>
                      <a:pt x="711" y="575"/>
                    </a:lnTo>
                    <a:lnTo>
                      <a:pt x="468" y="428"/>
                    </a:lnTo>
                    <a:lnTo>
                      <a:pt x="711" y="282"/>
                    </a:lnTo>
                    <a:close/>
                    <a:moveTo>
                      <a:pt x="729" y="0"/>
                    </a:moveTo>
                    <a:lnTo>
                      <a:pt x="954" y="136"/>
                    </a:lnTo>
                    <a:lnTo>
                      <a:pt x="711" y="282"/>
                    </a:lnTo>
                    <a:lnTo>
                      <a:pt x="486" y="147"/>
                    </a:lnTo>
                    <a:lnTo>
                      <a:pt x="729" y="0"/>
                    </a:lnTo>
                    <a:close/>
                  </a:path>
                </a:pathLst>
              </a:custGeom>
              <a:solidFill>
                <a:srgbClr val="ddec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71" name="Freeform 41"/>
              <p:cNvSpPr/>
              <p:nvPr/>
            </p:nvSpPr>
            <p:spPr>
              <a:xfrm>
                <a:off x="6589080" y="2615400"/>
                <a:ext cx="533160" cy="155520"/>
              </a:xfrm>
              <a:custGeom>
                <a:avLst/>
                <a:gdLst/>
                <a:ahLst/>
                <a:rect l="l" t="t" r="r" b="b"/>
                <a:pathLst>
                  <a:path w="1713" h="444">
                    <a:moveTo>
                      <a:pt x="244" y="151"/>
                    </a:moveTo>
                    <a:lnTo>
                      <a:pt x="487" y="298"/>
                    </a:lnTo>
                    <a:lnTo>
                      <a:pt x="244" y="444"/>
                    </a:lnTo>
                    <a:lnTo>
                      <a:pt x="0" y="298"/>
                    </a:lnTo>
                    <a:lnTo>
                      <a:pt x="244" y="151"/>
                    </a:lnTo>
                    <a:close/>
                    <a:moveTo>
                      <a:pt x="974" y="5"/>
                    </a:moveTo>
                    <a:lnTo>
                      <a:pt x="1217" y="151"/>
                    </a:lnTo>
                    <a:lnTo>
                      <a:pt x="974" y="298"/>
                    </a:lnTo>
                    <a:lnTo>
                      <a:pt x="730" y="151"/>
                    </a:lnTo>
                    <a:lnTo>
                      <a:pt x="974" y="5"/>
                    </a:lnTo>
                    <a:close/>
                    <a:moveTo>
                      <a:pt x="1469" y="0"/>
                    </a:moveTo>
                    <a:lnTo>
                      <a:pt x="1713" y="146"/>
                    </a:lnTo>
                    <a:lnTo>
                      <a:pt x="1460" y="298"/>
                    </a:lnTo>
                    <a:lnTo>
                      <a:pt x="1217" y="151"/>
                    </a:lnTo>
                    <a:lnTo>
                      <a:pt x="1469" y="0"/>
                    </a:lnTo>
                    <a:close/>
                  </a:path>
                </a:pathLst>
              </a:custGeom>
              <a:solidFill>
                <a:srgbClr val="ff863d"/>
              </a:solidFill>
              <a:ln w="0">
                <a:solidFill>
                  <a:srgbClr val="ff863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72" name="Freeform 42"/>
              <p:cNvSpPr/>
              <p:nvPr/>
            </p:nvSpPr>
            <p:spPr>
              <a:xfrm>
                <a:off x="6520680" y="2511360"/>
                <a:ext cx="678960" cy="261000"/>
              </a:xfrm>
              <a:custGeom>
                <a:avLst/>
                <a:gdLst/>
                <a:ahLst/>
                <a:rect l="l" t="t" r="r" b="b"/>
                <a:pathLst>
                  <a:path w="2189" h="744">
                    <a:moveTo>
                      <a:pt x="1937" y="440"/>
                    </a:moveTo>
                    <a:lnTo>
                      <a:pt x="2189" y="592"/>
                    </a:lnTo>
                    <a:lnTo>
                      <a:pt x="1937" y="744"/>
                    </a:lnTo>
                    <a:lnTo>
                      <a:pt x="1684" y="592"/>
                    </a:lnTo>
                    <a:lnTo>
                      <a:pt x="1937" y="440"/>
                    </a:lnTo>
                    <a:close/>
                    <a:moveTo>
                      <a:pt x="486" y="164"/>
                    </a:moveTo>
                    <a:lnTo>
                      <a:pt x="711" y="299"/>
                    </a:lnTo>
                    <a:lnTo>
                      <a:pt x="224" y="592"/>
                    </a:lnTo>
                    <a:lnTo>
                      <a:pt x="0" y="457"/>
                    </a:lnTo>
                    <a:lnTo>
                      <a:pt x="486" y="164"/>
                    </a:lnTo>
                    <a:close/>
                    <a:moveTo>
                      <a:pt x="1207" y="0"/>
                    </a:moveTo>
                    <a:lnTo>
                      <a:pt x="1450" y="147"/>
                    </a:lnTo>
                    <a:lnTo>
                      <a:pt x="954" y="445"/>
                    </a:lnTo>
                    <a:lnTo>
                      <a:pt x="711" y="299"/>
                    </a:lnTo>
                    <a:lnTo>
                      <a:pt x="1207" y="0"/>
                    </a:lnTo>
                    <a:close/>
                  </a:path>
                </a:pathLst>
              </a:custGeom>
              <a:solidFill>
                <a:srgbClr val="f7c2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73" name="Freeform 43"/>
              <p:cNvSpPr/>
              <p:nvPr/>
            </p:nvSpPr>
            <p:spPr>
              <a:xfrm>
                <a:off x="6595560" y="2667600"/>
                <a:ext cx="447480" cy="201240"/>
              </a:xfrm>
              <a:custGeom>
                <a:avLst/>
                <a:gdLst/>
                <a:ahLst/>
                <a:rect l="l" t="t" r="r" b="b"/>
                <a:pathLst>
                  <a:path w="1441" h="575">
                    <a:moveTo>
                      <a:pt x="225" y="293"/>
                    </a:moveTo>
                    <a:lnTo>
                      <a:pt x="468" y="440"/>
                    </a:lnTo>
                    <a:lnTo>
                      <a:pt x="243" y="575"/>
                    </a:lnTo>
                    <a:lnTo>
                      <a:pt x="0" y="428"/>
                    </a:lnTo>
                    <a:lnTo>
                      <a:pt x="225" y="293"/>
                    </a:lnTo>
                    <a:close/>
                    <a:moveTo>
                      <a:pt x="1198" y="0"/>
                    </a:moveTo>
                    <a:lnTo>
                      <a:pt x="1441" y="147"/>
                    </a:lnTo>
                    <a:lnTo>
                      <a:pt x="1198" y="293"/>
                    </a:lnTo>
                    <a:lnTo>
                      <a:pt x="955" y="147"/>
                    </a:lnTo>
                    <a:lnTo>
                      <a:pt x="1198" y="0"/>
                    </a:lnTo>
                    <a:close/>
                  </a:path>
                </a:pathLst>
              </a:custGeom>
              <a:solidFill>
                <a:srgbClr val="a5fffb"/>
              </a:solidFill>
              <a:ln w="0">
                <a:solidFill>
                  <a:srgbClr val="a5fff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74" name="Freeform 44"/>
              <p:cNvSpPr/>
              <p:nvPr/>
            </p:nvSpPr>
            <p:spPr>
              <a:xfrm>
                <a:off x="6665400" y="2720160"/>
                <a:ext cx="457200" cy="207000"/>
              </a:xfrm>
              <a:custGeom>
                <a:avLst/>
                <a:gdLst/>
                <a:ahLst/>
                <a:rect l="l" t="t" r="r" b="b"/>
                <a:pathLst>
                  <a:path w="1469" h="591">
                    <a:moveTo>
                      <a:pt x="730" y="293"/>
                    </a:moveTo>
                    <a:lnTo>
                      <a:pt x="982" y="444"/>
                    </a:lnTo>
                    <a:lnTo>
                      <a:pt x="739" y="591"/>
                    </a:lnTo>
                    <a:lnTo>
                      <a:pt x="486" y="440"/>
                    </a:lnTo>
                    <a:lnTo>
                      <a:pt x="730" y="293"/>
                    </a:lnTo>
                    <a:close/>
                    <a:moveTo>
                      <a:pt x="243" y="293"/>
                    </a:moveTo>
                    <a:lnTo>
                      <a:pt x="486" y="440"/>
                    </a:lnTo>
                    <a:lnTo>
                      <a:pt x="261" y="575"/>
                    </a:lnTo>
                    <a:lnTo>
                      <a:pt x="18" y="428"/>
                    </a:lnTo>
                    <a:lnTo>
                      <a:pt x="243" y="293"/>
                    </a:lnTo>
                    <a:close/>
                    <a:moveTo>
                      <a:pt x="1216" y="0"/>
                    </a:moveTo>
                    <a:lnTo>
                      <a:pt x="1469" y="152"/>
                    </a:lnTo>
                    <a:lnTo>
                      <a:pt x="1225" y="298"/>
                    </a:lnTo>
                    <a:lnTo>
                      <a:pt x="973" y="146"/>
                    </a:lnTo>
                    <a:lnTo>
                      <a:pt x="1216" y="0"/>
                    </a:lnTo>
                    <a:close/>
                    <a:moveTo>
                      <a:pt x="730" y="0"/>
                    </a:moveTo>
                    <a:lnTo>
                      <a:pt x="973" y="146"/>
                    </a:lnTo>
                    <a:lnTo>
                      <a:pt x="730" y="293"/>
                    </a:lnTo>
                    <a:lnTo>
                      <a:pt x="486" y="146"/>
                    </a:lnTo>
                    <a:lnTo>
                      <a:pt x="730" y="0"/>
                    </a:lnTo>
                    <a:close/>
                    <a:moveTo>
                      <a:pt x="243" y="0"/>
                    </a:moveTo>
                    <a:lnTo>
                      <a:pt x="486" y="146"/>
                    </a:lnTo>
                    <a:lnTo>
                      <a:pt x="243" y="293"/>
                    </a:lnTo>
                    <a:lnTo>
                      <a:pt x="0" y="146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b9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75" name="Freeform 45"/>
              <p:cNvSpPr/>
              <p:nvPr/>
            </p:nvSpPr>
            <p:spPr>
              <a:xfrm>
                <a:off x="6741360" y="2770920"/>
                <a:ext cx="304920" cy="203400"/>
              </a:xfrm>
              <a:custGeom>
                <a:avLst/>
                <a:gdLst/>
                <a:ahLst/>
                <a:rect l="l" t="t" r="r" b="b"/>
                <a:pathLst>
                  <a:path w="982" h="580">
                    <a:moveTo>
                      <a:pt x="243" y="294"/>
                    </a:moveTo>
                    <a:lnTo>
                      <a:pt x="496" y="445"/>
                    </a:lnTo>
                    <a:lnTo>
                      <a:pt x="270" y="580"/>
                    </a:lnTo>
                    <a:lnTo>
                      <a:pt x="18" y="429"/>
                    </a:lnTo>
                    <a:lnTo>
                      <a:pt x="243" y="294"/>
                    </a:lnTo>
                    <a:close/>
                    <a:moveTo>
                      <a:pt x="730" y="0"/>
                    </a:moveTo>
                    <a:lnTo>
                      <a:pt x="982" y="152"/>
                    </a:lnTo>
                    <a:lnTo>
                      <a:pt x="739" y="298"/>
                    </a:lnTo>
                    <a:lnTo>
                      <a:pt x="487" y="147"/>
                    </a:lnTo>
                    <a:lnTo>
                      <a:pt x="730" y="0"/>
                    </a:lnTo>
                    <a:close/>
                    <a:moveTo>
                      <a:pt x="243" y="0"/>
                    </a:moveTo>
                    <a:lnTo>
                      <a:pt x="487" y="147"/>
                    </a:lnTo>
                    <a:lnTo>
                      <a:pt x="243" y="294"/>
                    </a:lnTo>
                    <a:lnTo>
                      <a:pt x="0" y="14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2271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76" name="Freeform 46"/>
              <p:cNvSpPr/>
              <p:nvPr/>
            </p:nvSpPr>
            <p:spPr>
              <a:xfrm>
                <a:off x="6451200" y="2466360"/>
                <a:ext cx="595080" cy="304560"/>
              </a:xfrm>
              <a:custGeom>
                <a:avLst/>
                <a:gdLst/>
                <a:ahLst/>
                <a:rect l="l" t="t" r="r" b="b"/>
                <a:pathLst>
                  <a:path w="1918" h="872">
                    <a:moveTo>
                      <a:pt x="225" y="591"/>
                    </a:moveTo>
                    <a:lnTo>
                      <a:pt x="449" y="726"/>
                    </a:lnTo>
                    <a:lnTo>
                      <a:pt x="225" y="861"/>
                    </a:lnTo>
                    <a:lnTo>
                      <a:pt x="0" y="726"/>
                    </a:lnTo>
                    <a:lnTo>
                      <a:pt x="225" y="591"/>
                    </a:lnTo>
                    <a:close/>
                    <a:moveTo>
                      <a:pt x="1179" y="579"/>
                    </a:moveTo>
                    <a:lnTo>
                      <a:pt x="1423" y="726"/>
                    </a:lnTo>
                    <a:lnTo>
                      <a:pt x="1179" y="872"/>
                    </a:lnTo>
                    <a:lnTo>
                      <a:pt x="936" y="726"/>
                    </a:lnTo>
                    <a:lnTo>
                      <a:pt x="1179" y="579"/>
                    </a:lnTo>
                    <a:close/>
                    <a:moveTo>
                      <a:pt x="1675" y="281"/>
                    </a:moveTo>
                    <a:lnTo>
                      <a:pt x="1918" y="428"/>
                    </a:lnTo>
                    <a:lnTo>
                      <a:pt x="1666" y="579"/>
                    </a:lnTo>
                    <a:lnTo>
                      <a:pt x="1423" y="433"/>
                    </a:lnTo>
                    <a:lnTo>
                      <a:pt x="1675" y="281"/>
                    </a:lnTo>
                    <a:close/>
                    <a:moveTo>
                      <a:pt x="1206" y="0"/>
                    </a:moveTo>
                    <a:lnTo>
                      <a:pt x="1432" y="134"/>
                    </a:lnTo>
                    <a:lnTo>
                      <a:pt x="1179" y="287"/>
                    </a:lnTo>
                    <a:lnTo>
                      <a:pt x="954" y="151"/>
                    </a:lnTo>
                    <a:lnTo>
                      <a:pt x="1206" y="0"/>
                    </a:lnTo>
                    <a:close/>
                  </a:path>
                </a:pathLst>
              </a:custGeom>
              <a:solidFill>
                <a:srgbClr val="aad0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</p:grpSp>
        <p:grpSp>
          <p:nvGrpSpPr>
            <p:cNvPr id="177" name="Group 36"/>
            <p:cNvGrpSpPr/>
            <p:nvPr/>
          </p:nvGrpSpPr>
          <p:grpSpPr>
            <a:xfrm>
              <a:off x="6986880" y="2387520"/>
              <a:ext cx="982440" cy="712800"/>
              <a:chOff x="6986880" y="2387520"/>
              <a:chExt cx="982440" cy="712800"/>
            </a:xfrm>
          </p:grpSpPr>
          <p:sp>
            <p:nvSpPr>
              <p:cNvPr id="178" name="Freeform 38"/>
              <p:cNvSpPr/>
              <p:nvPr/>
            </p:nvSpPr>
            <p:spPr>
              <a:xfrm>
                <a:off x="6986880" y="2387520"/>
                <a:ext cx="982440" cy="712800"/>
              </a:xfrm>
              <a:custGeom>
                <a:avLst/>
                <a:gdLst/>
                <a:ahLst/>
                <a:rect l="l" t="t" r="r" b="b"/>
                <a:pathLst>
                  <a:path w="3158" h="2033">
                    <a:moveTo>
                      <a:pt x="1578" y="0"/>
                    </a:moveTo>
                    <a:lnTo>
                      <a:pt x="1603" y="1"/>
                    </a:lnTo>
                    <a:lnTo>
                      <a:pt x="1630" y="5"/>
                    </a:lnTo>
                    <a:lnTo>
                      <a:pt x="1659" y="11"/>
                    </a:lnTo>
                    <a:lnTo>
                      <a:pt x="1688" y="20"/>
                    </a:lnTo>
                    <a:lnTo>
                      <a:pt x="1718" y="36"/>
                    </a:lnTo>
                    <a:lnTo>
                      <a:pt x="3049" y="834"/>
                    </a:lnTo>
                    <a:lnTo>
                      <a:pt x="3081" y="857"/>
                    </a:lnTo>
                    <a:lnTo>
                      <a:pt x="3107" y="884"/>
                    </a:lnTo>
                    <a:lnTo>
                      <a:pt x="3129" y="914"/>
                    </a:lnTo>
                    <a:lnTo>
                      <a:pt x="3145" y="946"/>
                    </a:lnTo>
                    <a:lnTo>
                      <a:pt x="3154" y="981"/>
                    </a:lnTo>
                    <a:lnTo>
                      <a:pt x="3158" y="1018"/>
                    </a:lnTo>
                    <a:lnTo>
                      <a:pt x="3154" y="1053"/>
                    </a:lnTo>
                    <a:lnTo>
                      <a:pt x="3145" y="1088"/>
                    </a:lnTo>
                    <a:lnTo>
                      <a:pt x="3129" y="1121"/>
                    </a:lnTo>
                    <a:lnTo>
                      <a:pt x="3107" y="1150"/>
                    </a:lnTo>
                    <a:lnTo>
                      <a:pt x="3081" y="1176"/>
                    </a:lnTo>
                    <a:lnTo>
                      <a:pt x="3049" y="1199"/>
                    </a:lnTo>
                    <a:lnTo>
                      <a:pt x="1718" y="1998"/>
                    </a:lnTo>
                    <a:lnTo>
                      <a:pt x="1689" y="2013"/>
                    </a:lnTo>
                    <a:lnTo>
                      <a:pt x="1659" y="2024"/>
                    </a:lnTo>
                    <a:lnTo>
                      <a:pt x="1630" y="2030"/>
                    </a:lnTo>
                    <a:lnTo>
                      <a:pt x="1603" y="2033"/>
                    </a:lnTo>
                    <a:lnTo>
                      <a:pt x="1578" y="2033"/>
                    </a:lnTo>
                    <a:lnTo>
                      <a:pt x="1555" y="2033"/>
                    </a:lnTo>
                    <a:lnTo>
                      <a:pt x="1528" y="2030"/>
                    </a:lnTo>
                    <a:lnTo>
                      <a:pt x="1498" y="2024"/>
                    </a:lnTo>
                    <a:lnTo>
                      <a:pt x="1469" y="2013"/>
                    </a:lnTo>
                    <a:lnTo>
                      <a:pt x="1439" y="1997"/>
                    </a:lnTo>
                    <a:lnTo>
                      <a:pt x="109" y="1199"/>
                    </a:lnTo>
                    <a:lnTo>
                      <a:pt x="77" y="1176"/>
                    </a:lnTo>
                    <a:lnTo>
                      <a:pt x="50" y="1150"/>
                    </a:lnTo>
                    <a:lnTo>
                      <a:pt x="29" y="1119"/>
                    </a:lnTo>
                    <a:lnTo>
                      <a:pt x="13" y="1087"/>
                    </a:lnTo>
                    <a:lnTo>
                      <a:pt x="4" y="1052"/>
                    </a:lnTo>
                    <a:lnTo>
                      <a:pt x="0" y="1015"/>
                    </a:lnTo>
                    <a:lnTo>
                      <a:pt x="4" y="980"/>
                    </a:lnTo>
                    <a:lnTo>
                      <a:pt x="13" y="945"/>
                    </a:lnTo>
                    <a:lnTo>
                      <a:pt x="29" y="913"/>
                    </a:lnTo>
                    <a:lnTo>
                      <a:pt x="51" y="882"/>
                    </a:lnTo>
                    <a:lnTo>
                      <a:pt x="77" y="857"/>
                    </a:lnTo>
                    <a:lnTo>
                      <a:pt x="110" y="834"/>
                    </a:lnTo>
                    <a:lnTo>
                      <a:pt x="1440" y="36"/>
                    </a:lnTo>
                    <a:lnTo>
                      <a:pt x="1469" y="20"/>
                    </a:lnTo>
                    <a:lnTo>
                      <a:pt x="1499" y="11"/>
                    </a:lnTo>
                    <a:lnTo>
                      <a:pt x="1528" y="5"/>
                    </a:lnTo>
                    <a:lnTo>
                      <a:pt x="1555" y="1"/>
                    </a:lnTo>
                    <a:lnTo>
                      <a:pt x="157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79" name="Freeform 39"/>
              <p:cNvSpPr/>
              <p:nvPr/>
            </p:nvSpPr>
            <p:spPr>
              <a:xfrm>
                <a:off x="7036560" y="2443320"/>
                <a:ext cx="882720" cy="600840"/>
              </a:xfrm>
              <a:custGeom>
                <a:avLst/>
                <a:gdLst/>
                <a:ahLst/>
                <a:rect l="l" t="t" r="r" b="b"/>
                <a:pathLst>
                  <a:path w="2837" h="1715">
                    <a:moveTo>
                      <a:pt x="1417" y="0"/>
                    </a:moveTo>
                    <a:lnTo>
                      <a:pt x="1440" y="1"/>
                    </a:lnTo>
                    <a:lnTo>
                      <a:pt x="1459" y="6"/>
                    </a:lnTo>
                    <a:lnTo>
                      <a:pt x="1475" y="14"/>
                    </a:lnTo>
                    <a:lnTo>
                      <a:pt x="2806" y="812"/>
                    </a:lnTo>
                    <a:lnTo>
                      <a:pt x="2823" y="826"/>
                    </a:lnTo>
                    <a:lnTo>
                      <a:pt x="2834" y="842"/>
                    </a:lnTo>
                    <a:lnTo>
                      <a:pt x="2837" y="858"/>
                    </a:lnTo>
                    <a:lnTo>
                      <a:pt x="2834" y="874"/>
                    </a:lnTo>
                    <a:lnTo>
                      <a:pt x="2823" y="890"/>
                    </a:lnTo>
                    <a:lnTo>
                      <a:pt x="2806" y="903"/>
                    </a:lnTo>
                    <a:lnTo>
                      <a:pt x="1475" y="1703"/>
                    </a:lnTo>
                    <a:lnTo>
                      <a:pt x="1459" y="1710"/>
                    </a:lnTo>
                    <a:lnTo>
                      <a:pt x="1440" y="1714"/>
                    </a:lnTo>
                    <a:lnTo>
                      <a:pt x="1417" y="1715"/>
                    </a:lnTo>
                    <a:lnTo>
                      <a:pt x="1396" y="1714"/>
                    </a:lnTo>
                    <a:lnTo>
                      <a:pt x="1377" y="1710"/>
                    </a:lnTo>
                    <a:lnTo>
                      <a:pt x="1361" y="1703"/>
                    </a:lnTo>
                    <a:lnTo>
                      <a:pt x="30" y="903"/>
                    </a:lnTo>
                    <a:lnTo>
                      <a:pt x="14" y="891"/>
                    </a:lnTo>
                    <a:lnTo>
                      <a:pt x="5" y="878"/>
                    </a:lnTo>
                    <a:lnTo>
                      <a:pt x="0" y="865"/>
                    </a:lnTo>
                    <a:lnTo>
                      <a:pt x="0" y="850"/>
                    </a:lnTo>
                    <a:lnTo>
                      <a:pt x="5" y="837"/>
                    </a:lnTo>
                    <a:lnTo>
                      <a:pt x="14" y="824"/>
                    </a:lnTo>
                    <a:lnTo>
                      <a:pt x="30" y="812"/>
                    </a:lnTo>
                    <a:lnTo>
                      <a:pt x="1361" y="14"/>
                    </a:lnTo>
                    <a:lnTo>
                      <a:pt x="1377" y="6"/>
                    </a:lnTo>
                    <a:lnTo>
                      <a:pt x="1396" y="1"/>
                    </a:lnTo>
                    <a:lnTo>
                      <a:pt x="14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80" name="Freeform 40"/>
              <p:cNvSpPr/>
              <p:nvPr/>
            </p:nvSpPr>
            <p:spPr>
              <a:xfrm>
                <a:off x="7173000" y="2543040"/>
                <a:ext cx="295200" cy="299520"/>
              </a:xfrm>
              <a:custGeom>
                <a:avLst/>
                <a:gdLst/>
                <a:ahLst/>
                <a:rect l="l" t="t" r="r" b="b"/>
                <a:pathLst>
                  <a:path w="954" h="856">
                    <a:moveTo>
                      <a:pt x="224" y="575"/>
                    </a:moveTo>
                    <a:lnTo>
                      <a:pt x="468" y="721"/>
                    </a:lnTo>
                    <a:lnTo>
                      <a:pt x="243" y="856"/>
                    </a:lnTo>
                    <a:lnTo>
                      <a:pt x="0" y="710"/>
                    </a:lnTo>
                    <a:lnTo>
                      <a:pt x="224" y="575"/>
                    </a:lnTo>
                    <a:close/>
                    <a:moveTo>
                      <a:pt x="711" y="282"/>
                    </a:moveTo>
                    <a:lnTo>
                      <a:pt x="954" y="428"/>
                    </a:lnTo>
                    <a:lnTo>
                      <a:pt x="711" y="575"/>
                    </a:lnTo>
                    <a:lnTo>
                      <a:pt x="468" y="428"/>
                    </a:lnTo>
                    <a:lnTo>
                      <a:pt x="711" y="282"/>
                    </a:lnTo>
                    <a:close/>
                    <a:moveTo>
                      <a:pt x="729" y="0"/>
                    </a:moveTo>
                    <a:lnTo>
                      <a:pt x="954" y="136"/>
                    </a:lnTo>
                    <a:lnTo>
                      <a:pt x="711" y="282"/>
                    </a:lnTo>
                    <a:lnTo>
                      <a:pt x="486" y="147"/>
                    </a:lnTo>
                    <a:lnTo>
                      <a:pt x="729" y="0"/>
                    </a:lnTo>
                    <a:close/>
                  </a:path>
                </a:pathLst>
              </a:custGeom>
              <a:solidFill>
                <a:srgbClr val="ddec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81" name="Freeform 41"/>
              <p:cNvSpPr/>
              <p:nvPr/>
            </p:nvSpPr>
            <p:spPr>
              <a:xfrm>
                <a:off x="7241400" y="2639880"/>
                <a:ext cx="533160" cy="155520"/>
              </a:xfrm>
              <a:custGeom>
                <a:avLst/>
                <a:gdLst/>
                <a:ahLst/>
                <a:rect l="l" t="t" r="r" b="b"/>
                <a:pathLst>
                  <a:path w="1713" h="444">
                    <a:moveTo>
                      <a:pt x="244" y="151"/>
                    </a:moveTo>
                    <a:lnTo>
                      <a:pt x="487" y="298"/>
                    </a:lnTo>
                    <a:lnTo>
                      <a:pt x="244" y="444"/>
                    </a:lnTo>
                    <a:lnTo>
                      <a:pt x="0" y="298"/>
                    </a:lnTo>
                    <a:lnTo>
                      <a:pt x="244" y="151"/>
                    </a:lnTo>
                    <a:close/>
                    <a:moveTo>
                      <a:pt x="974" y="5"/>
                    </a:moveTo>
                    <a:lnTo>
                      <a:pt x="1217" y="151"/>
                    </a:lnTo>
                    <a:lnTo>
                      <a:pt x="974" y="298"/>
                    </a:lnTo>
                    <a:lnTo>
                      <a:pt x="730" y="151"/>
                    </a:lnTo>
                    <a:lnTo>
                      <a:pt x="974" y="5"/>
                    </a:lnTo>
                    <a:close/>
                    <a:moveTo>
                      <a:pt x="1469" y="0"/>
                    </a:moveTo>
                    <a:lnTo>
                      <a:pt x="1713" y="146"/>
                    </a:lnTo>
                    <a:lnTo>
                      <a:pt x="1460" y="298"/>
                    </a:lnTo>
                    <a:lnTo>
                      <a:pt x="1217" y="151"/>
                    </a:lnTo>
                    <a:lnTo>
                      <a:pt x="1469" y="0"/>
                    </a:lnTo>
                    <a:close/>
                  </a:path>
                </a:pathLst>
              </a:custGeom>
              <a:solidFill>
                <a:srgbClr val="ff863d"/>
              </a:solidFill>
              <a:ln w="0">
                <a:solidFill>
                  <a:srgbClr val="ff863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82" name="Freeform 42"/>
              <p:cNvSpPr/>
              <p:nvPr/>
            </p:nvSpPr>
            <p:spPr>
              <a:xfrm>
                <a:off x="7173000" y="2535840"/>
                <a:ext cx="678960" cy="261000"/>
              </a:xfrm>
              <a:custGeom>
                <a:avLst/>
                <a:gdLst/>
                <a:ahLst/>
                <a:rect l="l" t="t" r="r" b="b"/>
                <a:pathLst>
                  <a:path w="2189" h="744">
                    <a:moveTo>
                      <a:pt x="1937" y="440"/>
                    </a:moveTo>
                    <a:lnTo>
                      <a:pt x="2189" y="592"/>
                    </a:lnTo>
                    <a:lnTo>
                      <a:pt x="1937" y="744"/>
                    </a:lnTo>
                    <a:lnTo>
                      <a:pt x="1684" y="592"/>
                    </a:lnTo>
                    <a:lnTo>
                      <a:pt x="1937" y="440"/>
                    </a:lnTo>
                    <a:close/>
                    <a:moveTo>
                      <a:pt x="486" y="164"/>
                    </a:moveTo>
                    <a:lnTo>
                      <a:pt x="711" y="299"/>
                    </a:lnTo>
                    <a:lnTo>
                      <a:pt x="224" y="592"/>
                    </a:lnTo>
                    <a:lnTo>
                      <a:pt x="0" y="457"/>
                    </a:lnTo>
                    <a:lnTo>
                      <a:pt x="486" y="164"/>
                    </a:lnTo>
                    <a:close/>
                    <a:moveTo>
                      <a:pt x="1207" y="0"/>
                    </a:moveTo>
                    <a:lnTo>
                      <a:pt x="1450" y="147"/>
                    </a:lnTo>
                    <a:lnTo>
                      <a:pt x="954" y="445"/>
                    </a:lnTo>
                    <a:lnTo>
                      <a:pt x="711" y="299"/>
                    </a:lnTo>
                    <a:lnTo>
                      <a:pt x="1207" y="0"/>
                    </a:lnTo>
                    <a:close/>
                  </a:path>
                </a:pathLst>
              </a:custGeom>
              <a:solidFill>
                <a:srgbClr val="f7c2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83" name="Freeform 43"/>
              <p:cNvSpPr/>
              <p:nvPr/>
            </p:nvSpPr>
            <p:spPr>
              <a:xfrm>
                <a:off x="7247880" y="2692080"/>
                <a:ext cx="447480" cy="201240"/>
              </a:xfrm>
              <a:custGeom>
                <a:avLst/>
                <a:gdLst/>
                <a:ahLst/>
                <a:rect l="l" t="t" r="r" b="b"/>
                <a:pathLst>
                  <a:path w="1441" h="575">
                    <a:moveTo>
                      <a:pt x="225" y="293"/>
                    </a:moveTo>
                    <a:lnTo>
                      <a:pt x="468" y="440"/>
                    </a:lnTo>
                    <a:lnTo>
                      <a:pt x="243" y="575"/>
                    </a:lnTo>
                    <a:lnTo>
                      <a:pt x="0" y="428"/>
                    </a:lnTo>
                    <a:lnTo>
                      <a:pt x="225" y="293"/>
                    </a:lnTo>
                    <a:close/>
                    <a:moveTo>
                      <a:pt x="1198" y="0"/>
                    </a:moveTo>
                    <a:lnTo>
                      <a:pt x="1441" y="147"/>
                    </a:lnTo>
                    <a:lnTo>
                      <a:pt x="1198" y="293"/>
                    </a:lnTo>
                    <a:lnTo>
                      <a:pt x="955" y="147"/>
                    </a:lnTo>
                    <a:lnTo>
                      <a:pt x="1198" y="0"/>
                    </a:lnTo>
                    <a:close/>
                  </a:path>
                </a:pathLst>
              </a:custGeom>
              <a:solidFill>
                <a:srgbClr val="a5fffb"/>
              </a:solidFill>
              <a:ln w="0">
                <a:solidFill>
                  <a:srgbClr val="a5fff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84" name="Freeform 44"/>
              <p:cNvSpPr/>
              <p:nvPr/>
            </p:nvSpPr>
            <p:spPr>
              <a:xfrm>
                <a:off x="7317720" y="2744640"/>
                <a:ext cx="457200" cy="207000"/>
              </a:xfrm>
              <a:custGeom>
                <a:avLst/>
                <a:gdLst/>
                <a:ahLst/>
                <a:rect l="l" t="t" r="r" b="b"/>
                <a:pathLst>
                  <a:path w="1469" h="591">
                    <a:moveTo>
                      <a:pt x="730" y="293"/>
                    </a:moveTo>
                    <a:lnTo>
                      <a:pt x="982" y="444"/>
                    </a:lnTo>
                    <a:lnTo>
                      <a:pt x="739" y="591"/>
                    </a:lnTo>
                    <a:lnTo>
                      <a:pt x="486" y="440"/>
                    </a:lnTo>
                    <a:lnTo>
                      <a:pt x="730" y="293"/>
                    </a:lnTo>
                    <a:close/>
                    <a:moveTo>
                      <a:pt x="243" y="293"/>
                    </a:moveTo>
                    <a:lnTo>
                      <a:pt x="486" y="440"/>
                    </a:lnTo>
                    <a:lnTo>
                      <a:pt x="261" y="575"/>
                    </a:lnTo>
                    <a:lnTo>
                      <a:pt x="18" y="428"/>
                    </a:lnTo>
                    <a:lnTo>
                      <a:pt x="243" y="293"/>
                    </a:lnTo>
                    <a:close/>
                    <a:moveTo>
                      <a:pt x="1216" y="0"/>
                    </a:moveTo>
                    <a:lnTo>
                      <a:pt x="1469" y="152"/>
                    </a:lnTo>
                    <a:lnTo>
                      <a:pt x="1225" y="298"/>
                    </a:lnTo>
                    <a:lnTo>
                      <a:pt x="973" y="146"/>
                    </a:lnTo>
                    <a:lnTo>
                      <a:pt x="1216" y="0"/>
                    </a:lnTo>
                    <a:close/>
                    <a:moveTo>
                      <a:pt x="730" y="0"/>
                    </a:moveTo>
                    <a:lnTo>
                      <a:pt x="973" y="146"/>
                    </a:lnTo>
                    <a:lnTo>
                      <a:pt x="730" y="293"/>
                    </a:lnTo>
                    <a:lnTo>
                      <a:pt x="486" y="146"/>
                    </a:lnTo>
                    <a:lnTo>
                      <a:pt x="730" y="0"/>
                    </a:lnTo>
                    <a:close/>
                    <a:moveTo>
                      <a:pt x="243" y="0"/>
                    </a:moveTo>
                    <a:lnTo>
                      <a:pt x="486" y="146"/>
                    </a:lnTo>
                    <a:lnTo>
                      <a:pt x="243" y="293"/>
                    </a:lnTo>
                    <a:lnTo>
                      <a:pt x="0" y="146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b9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85" name="Freeform 45"/>
              <p:cNvSpPr/>
              <p:nvPr/>
            </p:nvSpPr>
            <p:spPr>
              <a:xfrm>
                <a:off x="7393680" y="2795400"/>
                <a:ext cx="304920" cy="203400"/>
              </a:xfrm>
              <a:custGeom>
                <a:avLst/>
                <a:gdLst/>
                <a:ahLst/>
                <a:rect l="l" t="t" r="r" b="b"/>
                <a:pathLst>
                  <a:path w="982" h="580">
                    <a:moveTo>
                      <a:pt x="243" y="294"/>
                    </a:moveTo>
                    <a:lnTo>
                      <a:pt x="496" y="445"/>
                    </a:lnTo>
                    <a:lnTo>
                      <a:pt x="270" y="580"/>
                    </a:lnTo>
                    <a:lnTo>
                      <a:pt x="18" y="429"/>
                    </a:lnTo>
                    <a:lnTo>
                      <a:pt x="243" y="294"/>
                    </a:lnTo>
                    <a:close/>
                    <a:moveTo>
                      <a:pt x="730" y="0"/>
                    </a:moveTo>
                    <a:lnTo>
                      <a:pt x="982" y="152"/>
                    </a:lnTo>
                    <a:lnTo>
                      <a:pt x="739" y="298"/>
                    </a:lnTo>
                    <a:lnTo>
                      <a:pt x="487" y="147"/>
                    </a:lnTo>
                    <a:lnTo>
                      <a:pt x="730" y="0"/>
                    </a:lnTo>
                    <a:close/>
                    <a:moveTo>
                      <a:pt x="243" y="0"/>
                    </a:moveTo>
                    <a:lnTo>
                      <a:pt x="487" y="147"/>
                    </a:lnTo>
                    <a:lnTo>
                      <a:pt x="243" y="294"/>
                    </a:lnTo>
                    <a:lnTo>
                      <a:pt x="0" y="14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2271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86" name="Freeform 46"/>
              <p:cNvSpPr/>
              <p:nvPr/>
            </p:nvSpPr>
            <p:spPr>
              <a:xfrm>
                <a:off x="7103520" y="2490840"/>
                <a:ext cx="595080" cy="304560"/>
              </a:xfrm>
              <a:custGeom>
                <a:avLst/>
                <a:gdLst/>
                <a:ahLst/>
                <a:rect l="l" t="t" r="r" b="b"/>
                <a:pathLst>
                  <a:path w="1918" h="872">
                    <a:moveTo>
                      <a:pt x="225" y="591"/>
                    </a:moveTo>
                    <a:lnTo>
                      <a:pt x="449" y="726"/>
                    </a:lnTo>
                    <a:lnTo>
                      <a:pt x="225" y="861"/>
                    </a:lnTo>
                    <a:lnTo>
                      <a:pt x="0" y="726"/>
                    </a:lnTo>
                    <a:lnTo>
                      <a:pt x="225" y="591"/>
                    </a:lnTo>
                    <a:close/>
                    <a:moveTo>
                      <a:pt x="1179" y="579"/>
                    </a:moveTo>
                    <a:lnTo>
                      <a:pt x="1423" y="726"/>
                    </a:lnTo>
                    <a:lnTo>
                      <a:pt x="1179" y="872"/>
                    </a:lnTo>
                    <a:lnTo>
                      <a:pt x="936" y="726"/>
                    </a:lnTo>
                    <a:lnTo>
                      <a:pt x="1179" y="579"/>
                    </a:lnTo>
                    <a:close/>
                    <a:moveTo>
                      <a:pt x="1675" y="281"/>
                    </a:moveTo>
                    <a:lnTo>
                      <a:pt x="1918" y="428"/>
                    </a:lnTo>
                    <a:lnTo>
                      <a:pt x="1666" y="579"/>
                    </a:lnTo>
                    <a:lnTo>
                      <a:pt x="1423" y="433"/>
                    </a:lnTo>
                    <a:lnTo>
                      <a:pt x="1675" y="281"/>
                    </a:lnTo>
                    <a:close/>
                    <a:moveTo>
                      <a:pt x="1206" y="0"/>
                    </a:moveTo>
                    <a:lnTo>
                      <a:pt x="1432" y="134"/>
                    </a:lnTo>
                    <a:lnTo>
                      <a:pt x="1179" y="287"/>
                    </a:lnTo>
                    <a:lnTo>
                      <a:pt x="954" y="151"/>
                    </a:lnTo>
                    <a:lnTo>
                      <a:pt x="1206" y="0"/>
                    </a:lnTo>
                    <a:close/>
                  </a:path>
                </a:pathLst>
              </a:custGeom>
              <a:solidFill>
                <a:srgbClr val="aad0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</p:grpSp>
        <p:grpSp>
          <p:nvGrpSpPr>
            <p:cNvPr id="187" name="Group 36"/>
            <p:cNvGrpSpPr/>
            <p:nvPr/>
          </p:nvGrpSpPr>
          <p:grpSpPr>
            <a:xfrm>
              <a:off x="6863400" y="2801520"/>
              <a:ext cx="982440" cy="712800"/>
              <a:chOff x="6863400" y="2801520"/>
              <a:chExt cx="982440" cy="712800"/>
            </a:xfrm>
          </p:grpSpPr>
          <p:sp>
            <p:nvSpPr>
              <p:cNvPr id="188" name="Freeform 38"/>
              <p:cNvSpPr/>
              <p:nvPr/>
            </p:nvSpPr>
            <p:spPr>
              <a:xfrm>
                <a:off x="6863400" y="2801520"/>
                <a:ext cx="982440" cy="712800"/>
              </a:xfrm>
              <a:custGeom>
                <a:avLst/>
                <a:gdLst/>
                <a:ahLst/>
                <a:rect l="l" t="t" r="r" b="b"/>
                <a:pathLst>
                  <a:path w="3158" h="2033">
                    <a:moveTo>
                      <a:pt x="1578" y="0"/>
                    </a:moveTo>
                    <a:lnTo>
                      <a:pt x="1603" y="1"/>
                    </a:lnTo>
                    <a:lnTo>
                      <a:pt x="1630" y="5"/>
                    </a:lnTo>
                    <a:lnTo>
                      <a:pt x="1659" y="11"/>
                    </a:lnTo>
                    <a:lnTo>
                      <a:pt x="1688" y="20"/>
                    </a:lnTo>
                    <a:lnTo>
                      <a:pt x="1718" y="36"/>
                    </a:lnTo>
                    <a:lnTo>
                      <a:pt x="3049" y="834"/>
                    </a:lnTo>
                    <a:lnTo>
                      <a:pt x="3081" y="857"/>
                    </a:lnTo>
                    <a:lnTo>
                      <a:pt x="3107" y="884"/>
                    </a:lnTo>
                    <a:lnTo>
                      <a:pt x="3129" y="914"/>
                    </a:lnTo>
                    <a:lnTo>
                      <a:pt x="3145" y="946"/>
                    </a:lnTo>
                    <a:lnTo>
                      <a:pt x="3154" y="981"/>
                    </a:lnTo>
                    <a:lnTo>
                      <a:pt x="3158" y="1018"/>
                    </a:lnTo>
                    <a:lnTo>
                      <a:pt x="3154" y="1053"/>
                    </a:lnTo>
                    <a:lnTo>
                      <a:pt x="3145" y="1088"/>
                    </a:lnTo>
                    <a:lnTo>
                      <a:pt x="3129" y="1121"/>
                    </a:lnTo>
                    <a:lnTo>
                      <a:pt x="3107" y="1150"/>
                    </a:lnTo>
                    <a:lnTo>
                      <a:pt x="3081" y="1176"/>
                    </a:lnTo>
                    <a:lnTo>
                      <a:pt x="3049" y="1199"/>
                    </a:lnTo>
                    <a:lnTo>
                      <a:pt x="1718" y="1998"/>
                    </a:lnTo>
                    <a:lnTo>
                      <a:pt x="1689" y="2013"/>
                    </a:lnTo>
                    <a:lnTo>
                      <a:pt x="1659" y="2024"/>
                    </a:lnTo>
                    <a:lnTo>
                      <a:pt x="1630" y="2030"/>
                    </a:lnTo>
                    <a:lnTo>
                      <a:pt x="1603" y="2033"/>
                    </a:lnTo>
                    <a:lnTo>
                      <a:pt x="1578" y="2033"/>
                    </a:lnTo>
                    <a:lnTo>
                      <a:pt x="1555" y="2033"/>
                    </a:lnTo>
                    <a:lnTo>
                      <a:pt x="1528" y="2030"/>
                    </a:lnTo>
                    <a:lnTo>
                      <a:pt x="1498" y="2024"/>
                    </a:lnTo>
                    <a:lnTo>
                      <a:pt x="1469" y="2013"/>
                    </a:lnTo>
                    <a:lnTo>
                      <a:pt x="1439" y="1997"/>
                    </a:lnTo>
                    <a:lnTo>
                      <a:pt x="109" y="1199"/>
                    </a:lnTo>
                    <a:lnTo>
                      <a:pt x="77" y="1176"/>
                    </a:lnTo>
                    <a:lnTo>
                      <a:pt x="50" y="1150"/>
                    </a:lnTo>
                    <a:lnTo>
                      <a:pt x="29" y="1119"/>
                    </a:lnTo>
                    <a:lnTo>
                      <a:pt x="13" y="1087"/>
                    </a:lnTo>
                    <a:lnTo>
                      <a:pt x="4" y="1052"/>
                    </a:lnTo>
                    <a:lnTo>
                      <a:pt x="0" y="1015"/>
                    </a:lnTo>
                    <a:lnTo>
                      <a:pt x="4" y="980"/>
                    </a:lnTo>
                    <a:lnTo>
                      <a:pt x="13" y="945"/>
                    </a:lnTo>
                    <a:lnTo>
                      <a:pt x="29" y="913"/>
                    </a:lnTo>
                    <a:lnTo>
                      <a:pt x="51" y="882"/>
                    </a:lnTo>
                    <a:lnTo>
                      <a:pt x="77" y="857"/>
                    </a:lnTo>
                    <a:lnTo>
                      <a:pt x="110" y="834"/>
                    </a:lnTo>
                    <a:lnTo>
                      <a:pt x="1440" y="36"/>
                    </a:lnTo>
                    <a:lnTo>
                      <a:pt x="1469" y="20"/>
                    </a:lnTo>
                    <a:lnTo>
                      <a:pt x="1499" y="11"/>
                    </a:lnTo>
                    <a:lnTo>
                      <a:pt x="1528" y="5"/>
                    </a:lnTo>
                    <a:lnTo>
                      <a:pt x="1555" y="1"/>
                    </a:lnTo>
                    <a:lnTo>
                      <a:pt x="157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89" name="Freeform 39"/>
              <p:cNvSpPr/>
              <p:nvPr/>
            </p:nvSpPr>
            <p:spPr>
              <a:xfrm>
                <a:off x="6913080" y="2857320"/>
                <a:ext cx="882720" cy="600840"/>
              </a:xfrm>
              <a:custGeom>
                <a:avLst/>
                <a:gdLst/>
                <a:ahLst/>
                <a:rect l="l" t="t" r="r" b="b"/>
                <a:pathLst>
                  <a:path w="2837" h="1715">
                    <a:moveTo>
                      <a:pt x="1417" y="0"/>
                    </a:moveTo>
                    <a:lnTo>
                      <a:pt x="1440" y="1"/>
                    </a:lnTo>
                    <a:lnTo>
                      <a:pt x="1459" y="6"/>
                    </a:lnTo>
                    <a:lnTo>
                      <a:pt x="1475" y="14"/>
                    </a:lnTo>
                    <a:lnTo>
                      <a:pt x="2806" y="812"/>
                    </a:lnTo>
                    <a:lnTo>
                      <a:pt x="2823" y="826"/>
                    </a:lnTo>
                    <a:lnTo>
                      <a:pt x="2834" y="842"/>
                    </a:lnTo>
                    <a:lnTo>
                      <a:pt x="2837" y="858"/>
                    </a:lnTo>
                    <a:lnTo>
                      <a:pt x="2834" y="874"/>
                    </a:lnTo>
                    <a:lnTo>
                      <a:pt x="2823" y="890"/>
                    </a:lnTo>
                    <a:lnTo>
                      <a:pt x="2806" y="903"/>
                    </a:lnTo>
                    <a:lnTo>
                      <a:pt x="1475" y="1703"/>
                    </a:lnTo>
                    <a:lnTo>
                      <a:pt x="1459" y="1710"/>
                    </a:lnTo>
                    <a:lnTo>
                      <a:pt x="1440" y="1714"/>
                    </a:lnTo>
                    <a:lnTo>
                      <a:pt x="1417" y="1715"/>
                    </a:lnTo>
                    <a:lnTo>
                      <a:pt x="1396" y="1714"/>
                    </a:lnTo>
                    <a:lnTo>
                      <a:pt x="1377" y="1710"/>
                    </a:lnTo>
                    <a:lnTo>
                      <a:pt x="1361" y="1703"/>
                    </a:lnTo>
                    <a:lnTo>
                      <a:pt x="30" y="903"/>
                    </a:lnTo>
                    <a:lnTo>
                      <a:pt x="14" y="891"/>
                    </a:lnTo>
                    <a:lnTo>
                      <a:pt x="5" y="878"/>
                    </a:lnTo>
                    <a:lnTo>
                      <a:pt x="0" y="865"/>
                    </a:lnTo>
                    <a:lnTo>
                      <a:pt x="0" y="850"/>
                    </a:lnTo>
                    <a:lnTo>
                      <a:pt x="5" y="837"/>
                    </a:lnTo>
                    <a:lnTo>
                      <a:pt x="14" y="824"/>
                    </a:lnTo>
                    <a:lnTo>
                      <a:pt x="30" y="812"/>
                    </a:lnTo>
                    <a:lnTo>
                      <a:pt x="1361" y="14"/>
                    </a:lnTo>
                    <a:lnTo>
                      <a:pt x="1377" y="6"/>
                    </a:lnTo>
                    <a:lnTo>
                      <a:pt x="1396" y="1"/>
                    </a:lnTo>
                    <a:lnTo>
                      <a:pt x="14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90" name="Freeform 40"/>
              <p:cNvSpPr/>
              <p:nvPr/>
            </p:nvSpPr>
            <p:spPr>
              <a:xfrm>
                <a:off x="7049520" y="2957040"/>
                <a:ext cx="295200" cy="299520"/>
              </a:xfrm>
              <a:custGeom>
                <a:avLst/>
                <a:gdLst/>
                <a:ahLst/>
                <a:rect l="l" t="t" r="r" b="b"/>
                <a:pathLst>
                  <a:path w="954" h="856">
                    <a:moveTo>
                      <a:pt x="224" y="575"/>
                    </a:moveTo>
                    <a:lnTo>
                      <a:pt x="468" y="721"/>
                    </a:lnTo>
                    <a:lnTo>
                      <a:pt x="243" y="856"/>
                    </a:lnTo>
                    <a:lnTo>
                      <a:pt x="0" y="710"/>
                    </a:lnTo>
                    <a:lnTo>
                      <a:pt x="224" y="575"/>
                    </a:lnTo>
                    <a:close/>
                    <a:moveTo>
                      <a:pt x="711" y="282"/>
                    </a:moveTo>
                    <a:lnTo>
                      <a:pt x="954" y="428"/>
                    </a:lnTo>
                    <a:lnTo>
                      <a:pt x="711" y="575"/>
                    </a:lnTo>
                    <a:lnTo>
                      <a:pt x="468" y="428"/>
                    </a:lnTo>
                    <a:lnTo>
                      <a:pt x="711" y="282"/>
                    </a:lnTo>
                    <a:close/>
                    <a:moveTo>
                      <a:pt x="729" y="0"/>
                    </a:moveTo>
                    <a:lnTo>
                      <a:pt x="954" y="136"/>
                    </a:lnTo>
                    <a:lnTo>
                      <a:pt x="711" y="282"/>
                    </a:lnTo>
                    <a:lnTo>
                      <a:pt x="486" y="147"/>
                    </a:lnTo>
                    <a:lnTo>
                      <a:pt x="729" y="0"/>
                    </a:lnTo>
                    <a:close/>
                  </a:path>
                </a:pathLst>
              </a:custGeom>
              <a:solidFill>
                <a:srgbClr val="ddec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91" name="Freeform 41"/>
              <p:cNvSpPr/>
              <p:nvPr/>
            </p:nvSpPr>
            <p:spPr>
              <a:xfrm>
                <a:off x="7117920" y="3053880"/>
                <a:ext cx="533160" cy="155520"/>
              </a:xfrm>
              <a:custGeom>
                <a:avLst/>
                <a:gdLst/>
                <a:ahLst/>
                <a:rect l="l" t="t" r="r" b="b"/>
                <a:pathLst>
                  <a:path w="1713" h="444">
                    <a:moveTo>
                      <a:pt x="244" y="151"/>
                    </a:moveTo>
                    <a:lnTo>
                      <a:pt x="487" y="298"/>
                    </a:lnTo>
                    <a:lnTo>
                      <a:pt x="244" y="444"/>
                    </a:lnTo>
                    <a:lnTo>
                      <a:pt x="0" y="298"/>
                    </a:lnTo>
                    <a:lnTo>
                      <a:pt x="244" y="151"/>
                    </a:lnTo>
                    <a:close/>
                    <a:moveTo>
                      <a:pt x="974" y="5"/>
                    </a:moveTo>
                    <a:lnTo>
                      <a:pt x="1217" y="151"/>
                    </a:lnTo>
                    <a:lnTo>
                      <a:pt x="974" y="298"/>
                    </a:lnTo>
                    <a:lnTo>
                      <a:pt x="730" y="151"/>
                    </a:lnTo>
                    <a:lnTo>
                      <a:pt x="974" y="5"/>
                    </a:lnTo>
                    <a:close/>
                    <a:moveTo>
                      <a:pt x="1469" y="0"/>
                    </a:moveTo>
                    <a:lnTo>
                      <a:pt x="1713" y="146"/>
                    </a:lnTo>
                    <a:lnTo>
                      <a:pt x="1460" y="298"/>
                    </a:lnTo>
                    <a:lnTo>
                      <a:pt x="1217" y="151"/>
                    </a:lnTo>
                    <a:lnTo>
                      <a:pt x="1469" y="0"/>
                    </a:lnTo>
                    <a:close/>
                  </a:path>
                </a:pathLst>
              </a:custGeom>
              <a:solidFill>
                <a:srgbClr val="ff863d"/>
              </a:solidFill>
              <a:ln w="0">
                <a:solidFill>
                  <a:srgbClr val="ff863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92" name="Freeform 42"/>
              <p:cNvSpPr/>
              <p:nvPr/>
            </p:nvSpPr>
            <p:spPr>
              <a:xfrm>
                <a:off x="7049520" y="2949840"/>
                <a:ext cx="678960" cy="261000"/>
              </a:xfrm>
              <a:custGeom>
                <a:avLst/>
                <a:gdLst/>
                <a:ahLst/>
                <a:rect l="l" t="t" r="r" b="b"/>
                <a:pathLst>
                  <a:path w="2189" h="744">
                    <a:moveTo>
                      <a:pt x="1937" y="440"/>
                    </a:moveTo>
                    <a:lnTo>
                      <a:pt x="2189" y="592"/>
                    </a:lnTo>
                    <a:lnTo>
                      <a:pt x="1937" y="744"/>
                    </a:lnTo>
                    <a:lnTo>
                      <a:pt x="1684" y="592"/>
                    </a:lnTo>
                    <a:lnTo>
                      <a:pt x="1937" y="440"/>
                    </a:lnTo>
                    <a:close/>
                    <a:moveTo>
                      <a:pt x="486" y="164"/>
                    </a:moveTo>
                    <a:lnTo>
                      <a:pt x="711" y="299"/>
                    </a:lnTo>
                    <a:lnTo>
                      <a:pt x="224" y="592"/>
                    </a:lnTo>
                    <a:lnTo>
                      <a:pt x="0" y="457"/>
                    </a:lnTo>
                    <a:lnTo>
                      <a:pt x="486" y="164"/>
                    </a:lnTo>
                    <a:close/>
                    <a:moveTo>
                      <a:pt x="1207" y="0"/>
                    </a:moveTo>
                    <a:lnTo>
                      <a:pt x="1450" y="147"/>
                    </a:lnTo>
                    <a:lnTo>
                      <a:pt x="954" y="445"/>
                    </a:lnTo>
                    <a:lnTo>
                      <a:pt x="711" y="299"/>
                    </a:lnTo>
                    <a:lnTo>
                      <a:pt x="1207" y="0"/>
                    </a:lnTo>
                    <a:close/>
                  </a:path>
                </a:pathLst>
              </a:custGeom>
              <a:solidFill>
                <a:srgbClr val="f7c2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93" name="Freeform 43"/>
              <p:cNvSpPr/>
              <p:nvPr/>
            </p:nvSpPr>
            <p:spPr>
              <a:xfrm>
                <a:off x="7124400" y="3106080"/>
                <a:ext cx="447480" cy="201240"/>
              </a:xfrm>
              <a:custGeom>
                <a:avLst/>
                <a:gdLst/>
                <a:ahLst/>
                <a:rect l="l" t="t" r="r" b="b"/>
                <a:pathLst>
                  <a:path w="1441" h="575">
                    <a:moveTo>
                      <a:pt x="225" y="293"/>
                    </a:moveTo>
                    <a:lnTo>
                      <a:pt x="468" y="440"/>
                    </a:lnTo>
                    <a:lnTo>
                      <a:pt x="243" y="575"/>
                    </a:lnTo>
                    <a:lnTo>
                      <a:pt x="0" y="428"/>
                    </a:lnTo>
                    <a:lnTo>
                      <a:pt x="225" y="293"/>
                    </a:lnTo>
                    <a:close/>
                    <a:moveTo>
                      <a:pt x="1198" y="0"/>
                    </a:moveTo>
                    <a:lnTo>
                      <a:pt x="1441" y="147"/>
                    </a:lnTo>
                    <a:lnTo>
                      <a:pt x="1198" y="293"/>
                    </a:lnTo>
                    <a:lnTo>
                      <a:pt x="955" y="147"/>
                    </a:lnTo>
                    <a:lnTo>
                      <a:pt x="1198" y="0"/>
                    </a:lnTo>
                    <a:close/>
                  </a:path>
                </a:pathLst>
              </a:custGeom>
              <a:solidFill>
                <a:srgbClr val="a5fffb"/>
              </a:solidFill>
              <a:ln w="0">
                <a:solidFill>
                  <a:srgbClr val="a5fff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94" name="Freeform 44"/>
              <p:cNvSpPr/>
              <p:nvPr/>
            </p:nvSpPr>
            <p:spPr>
              <a:xfrm>
                <a:off x="7194240" y="3158640"/>
                <a:ext cx="457200" cy="207000"/>
              </a:xfrm>
              <a:custGeom>
                <a:avLst/>
                <a:gdLst/>
                <a:ahLst/>
                <a:rect l="l" t="t" r="r" b="b"/>
                <a:pathLst>
                  <a:path w="1469" h="591">
                    <a:moveTo>
                      <a:pt x="730" y="293"/>
                    </a:moveTo>
                    <a:lnTo>
                      <a:pt x="982" y="444"/>
                    </a:lnTo>
                    <a:lnTo>
                      <a:pt x="739" y="591"/>
                    </a:lnTo>
                    <a:lnTo>
                      <a:pt x="486" y="440"/>
                    </a:lnTo>
                    <a:lnTo>
                      <a:pt x="730" y="293"/>
                    </a:lnTo>
                    <a:close/>
                    <a:moveTo>
                      <a:pt x="243" y="293"/>
                    </a:moveTo>
                    <a:lnTo>
                      <a:pt x="486" y="440"/>
                    </a:lnTo>
                    <a:lnTo>
                      <a:pt x="261" y="575"/>
                    </a:lnTo>
                    <a:lnTo>
                      <a:pt x="18" y="428"/>
                    </a:lnTo>
                    <a:lnTo>
                      <a:pt x="243" y="293"/>
                    </a:lnTo>
                    <a:close/>
                    <a:moveTo>
                      <a:pt x="1216" y="0"/>
                    </a:moveTo>
                    <a:lnTo>
                      <a:pt x="1469" y="152"/>
                    </a:lnTo>
                    <a:lnTo>
                      <a:pt x="1225" y="298"/>
                    </a:lnTo>
                    <a:lnTo>
                      <a:pt x="973" y="146"/>
                    </a:lnTo>
                    <a:lnTo>
                      <a:pt x="1216" y="0"/>
                    </a:lnTo>
                    <a:close/>
                    <a:moveTo>
                      <a:pt x="730" y="0"/>
                    </a:moveTo>
                    <a:lnTo>
                      <a:pt x="973" y="146"/>
                    </a:lnTo>
                    <a:lnTo>
                      <a:pt x="730" y="293"/>
                    </a:lnTo>
                    <a:lnTo>
                      <a:pt x="486" y="146"/>
                    </a:lnTo>
                    <a:lnTo>
                      <a:pt x="730" y="0"/>
                    </a:lnTo>
                    <a:close/>
                    <a:moveTo>
                      <a:pt x="243" y="0"/>
                    </a:moveTo>
                    <a:lnTo>
                      <a:pt x="486" y="146"/>
                    </a:lnTo>
                    <a:lnTo>
                      <a:pt x="243" y="293"/>
                    </a:lnTo>
                    <a:lnTo>
                      <a:pt x="0" y="146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b9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95" name="Freeform 45"/>
              <p:cNvSpPr/>
              <p:nvPr/>
            </p:nvSpPr>
            <p:spPr>
              <a:xfrm>
                <a:off x="7270200" y="3209400"/>
                <a:ext cx="304920" cy="203400"/>
              </a:xfrm>
              <a:custGeom>
                <a:avLst/>
                <a:gdLst/>
                <a:ahLst/>
                <a:rect l="l" t="t" r="r" b="b"/>
                <a:pathLst>
                  <a:path w="982" h="580">
                    <a:moveTo>
                      <a:pt x="243" y="294"/>
                    </a:moveTo>
                    <a:lnTo>
                      <a:pt x="496" y="445"/>
                    </a:lnTo>
                    <a:lnTo>
                      <a:pt x="270" y="580"/>
                    </a:lnTo>
                    <a:lnTo>
                      <a:pt x="18" y="429"/>
                    </a:lnTo>
                    <a:lnTo>
                      <a:pt x="243" y="294"/>
                    </a:lnTo>
                    <a:close/>
                    <a:moveTo>
                      <a:pt x="730" y="0"/>
                    </a:moveTo>
                    <a:lnTo>
                      <a:pt x="982" y="152"/>
                    </a:lnTo>
                    <a:lnTo>
                      <a:pt x="739" y="298"/>
                    </a:lnTo>
                    <a:lnTo>
                      <a:pt x="487" y="147"/>
                    </a:lnTo>
                    <a:lnTo>
                      <a:pt x="730" y="0"/>
                    </a:lnTo>
                    <a:close/>
                    <a:moveTo>
                      <a:pt x="243" y="0"/>
                    </a:moveTo>
                    <a:lnTo>
                      <a:pt x="487" y="147"/>
                    </a:lnTo>
                    <a:lnTo>
                      <a:pt x="243" y="294"/>
                    </a:lnTo>
                    <a:lnTo>
                      <a:pt x="0" y="14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2271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96" name="Freeform 46"/>
              <p:cNvSpPr/>
              <p:nvPr/>
            </p:nvSpPr>
            <p:spPr>
              <a:xfrm>
                <a:off x="6980040" y="2904840"/>
                <a:ext cx="595080" cy="304560"/>
              </a:xfrm>
              <a:custGeom>
                <a:avLst/>
                <a:gdLst/>
                <a:ahLst/>
                <a:rect l="l" t="t" r="r" b="b"/>
                <a:pathLst>
                  <a:path w="1918" h="872">
                    <a:moveTo>
                      <a:pt x="225" y="591"/>
                    </a:moveTo>
                    <a:lnTo>
                      <a:pt x="449" y="726"/>
                    </a:lnTo>
                    <a:lnTo>
                      <a:pt x="225" y="861"/>
                    </a:lnTo>
                    <a:lnTo>
                      <a:pt x="0" y="726"/>
                    </a:lnTo>
                    <a:lnTo>
                      <a:pt x="225" y="591"/>
                    </a:lnTo>
                    <a:close/>
                    <a:moveTo>
                      <a:pt x="1179" y="579"/>
                    </a:moveTo>
                    <a:lnTo>
                      <a:pt x="1423" y="726"/>
                    </a:lnTo>
                    <a:lnTo>
                      <a:pt x="1179" y="872"/>
                    </a:lnTo>
                    <a:lnTo>
                      <a:pt x="936" y="726"/>
                    </a:lnTo>
                    <a:lnTo>
                      <a:pt x="1179" y="579"/>
                    </a:lnTo>
                    <a:close/>
                    <a:moveTo>
                      <a:pt x="1675" y="281"/>
                    </a:moveTo>
                    <a:lnTo>
                      <a:pt x="1918" y="428"/>
                    </a:lnTo>
                    <a:lnTo>
                      <a:pt x="1666" y="579"/>
                    </a:lnTo>
                    <a:lnTo>
                      <a:pt x="1423" y="433"/>
                    </a:lnTo>
                    <a:lnTo>
                      <a:pt x="1675" y="281"/>
                    </a:lnTo>
                    <a:close/>
                    <a:moveTo>
                      <a:pt x="1206" y="0"/>
                    </a:moveTo>
                    <a:lnTo>
                      <a:pt x="1432" y="134"/>
                    </a:lnTo>
                    <a:lnTo>
                      <a:pt x="1179" y="287"/>
                    </a:lnTo>
                    <a:lnTo>
                      <a:pt x="954" y="151"/>
                    </a:lnTo>
                    <a:lnTo>
                      <a:pt x="1206" y="0"/>
                    </a:lnTo>
                    <a:close/>
                  </a:path>
                </a:pathLst>
              </a:custGeom>
              <a:solidFill>
                <a:srgbClr val="aad0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</p:grpSp>
        <p:grpSp>
          <p:nvGrpSpPr>
            <p:cNvPr id="197" name="Group 36"/>
            <p:cNvGrpSpPr/>
            <p:nvPr/>
          </p:nvGrpSpPr>
          <p:grpSpPr>
            <a:xfrm>
              <a:off x="6373440" y="2652480"/>
              <a:ext cx="982440" cy="712800"/>
              <a:chOff x="6373440" y="2652480"/>
              <a:chExt cx="982440" cy="712800"/>
            </a:xfrm>
          </p:grpSpPr>
          <p:sp>
            <p:nvSpPr>
              <p:cNvPr id="198" name="Freeform 38"/>
              <p:cNvSpPr/>
              <p:nvPr/>
            </p:nvSpPr>
            <p:spPr>
              <a:xfrm>
                <a:off x="6373440" y="2652480"/>
                <a:ext cx="982440" cy="712800"/>
              </a:xfrm>
              <a:custGeom>
                <a:avLst/>
                <a:gdLst/>
                <a:ahLst/>
                <a:rect l="l" t="t" r="r" b="b"/>
                <a:pathLst>
                  <a:path w="3158" h="2033">
                    <a:moveTo>
                      <a:pt x="1578" y="0"/>
                    </a:moveTo>
                    <a:lnTo>
                      <a:pt x="1603" y="1"/>
                    </a:lnTo>
                    <a:lnTo>
                      <a:pt x="1630" y="5"/>
                    </a:lnTo>
                    <a:lnTo>
                      <a:pt x="1659" y="11"/>
                    </a:lnTo>
                    <a:lnTo>
                      <a:pt x="1688" y="20"/>
                    </a:lnTo>
                    <a:lnTo>
                      <a:pt x="1718" y="36"/>
                    </a:lnTo>
                    <a:lnTo>
                      <a:pt x="3049" y="834"/>
                    </a:lnTo>
                    <a:lnTo>
                      <a:pt x="3081" y="857"/>
                    </a:lnTo>
                    <a:lnTo>
                      <a:pt x="3107" y="884"/>
                    </a:lnTo>
                    <a:lnTo>
                      <a:pt x="3129" y="914"/>
                    </a:lnTo>
                    <a:lnTo>
                      <a:pt x="3145" y="946"/>
                    </a:lnTo>
                    <a:lnTo>
                      <a:pt x="3154" y="981"/>
                    </a:lnTo>
                    <a:lnTo>
                      <a:pt x="3158" y="1018"/>
                    </a:lnTo>
                    <a:lnTo>
                      <a:pt x="3154" y="1053"/>
                    </a:lnTo>
                    <a:lnTo>
                      <a:pt x="3145" y="1088"/>
                    </a:lnTo>
                    <a:lnTo>
                      <a:pt x="3129" y="1121"/>
                    </a:lnTo>
                    <a:lnTo>
                      <a:pt x="3107" y="1150"/>
                    </a:lnTo>
                    <a:lnTo>
                      <a:pt x="3081" y="1176"/>
                    </a:lnTo>
                    <a:lnTo>
                      <a:pt x="3049" y="1199"/>
                    </a:lnTo>
                    <a:lnTo>
                      <a:pt x="1718" y="1998"/>
                    </a:lnTo>
                    <a:lnTo>
                      <a:pt x="1689" y="2013"/>
                    </a:lnTo>
                    <a:lnTo>
                      <a:pt x="1659" y="2024"/>
                    </a:lnTo>
                    <a:lnTo>
                      <a:pt x="1630" y="2030"/>
                    </a:lnTo>
                    <a:lnTo>
                      <a:pt x="1603" y="2033"/>
                    </a:lnTo>
                    <a:lnTo>
                      <a:pt x="1578" y="2033"/>
                    </a:lnTo>
                    <a:lnTo>
                      <a:pt x="1555" y="2033"/>
                    </a:lnTo>
                    <a:lnTo>
                      <a:pt x="1528" y="2030"/>
                    </a:lnTo>
                    <a:lnTo>
                      <a:pt x="1498" y="2024"/>
                    </a:lnTo>
                    <a:lnTo>
                      <a:pt x="1469" y="2013"/>
                    </a:lnTo>
                    <a:lnTo>
                      <a:pt x="1439" y="1997"/>
                    </a:lnTo>
                    <a:lnTo>
                      <a:pt x="109" y="1199"/>
                    </a:lnTo>
                    <a:lnTo>
                      <a:pt x="77" y="1176"/>
                    </a:lnTo>
                    <a:lnTo>
                      <a:pt x="50" y="1150"/>
                    </a:lnTo>
                    <a:lnTo>
                      <a:pt x="29" y="1119"/>
                    </a:lnTo>
                    <a:lnTo>
                      <a:pt x="13" y="1087"/>
                    </a:lnTo>
                    <a:lnTo>
                      <a:pt x="4" y="1052"/>
                    </a:lnTo>
                    <a:lnTo>
                      <a:pt x="0" y="1015"/>
                    </a:lnTo>
                    <a:lnTo>
                      <a:pt x="4" y="980"/>
                    </a:lnTo>
                    <a:lnTo>
                      <a:pt x="13" y="945"/>
                    </a:lnTo>
                    <a:lnTo>
                      <a:pt x="29" y="913"/>
                    </a:lnTo>
                    <a:lnTo>
                      <a:pt x="51" y="882"/>
                    </a:lnTo>
                    <a:lnTo>
                      <a:pt x="77" y="857"/>
                    </a:lnTo>
                    <a:lnTo>
                      <a:pt x="110" y="834"/>
                    </a:lnTo>
                    <a:lnTo>
                      <a:pt x="1440" y="36"/>
                    </a:lnTo>
                    <a:lnTo>
                      <a:pt x="1469" y="20"/>
                    </a:lnTo>
                    <a:lnTo>
                      <a:pt x="1499" y="11"/>
                    </a:lnTo>
                    <a:lnTo>
                      <a:pt x="1528" y="5"/>
                    </a:lnTo>
                    <a:lnTo>
                      <a:pt x="1555" y="1"/>
                    </a:lnTo>
                    <a:lnTo>
                      <a:pt x="157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99" name="Freeform 39"/>
              <p:cNvSpPr/>
              <p:nvPr/>
            </p:nvSpPr>
            <p:spPr>
              <a:xfrm>
                <a:off x="6423120" y="2708280"/>
                <a:ext cx="882720" cy="600840"/>
              </a:xfrm>
              <a:custGeom>
                <a:avLst/>
                <a:gdLst/>
                <a:ahLst/>
                <a:rect l="l" t="t" r="r" b="b"/>
                <a:pathLst>
                  <a:path w="2837" h="1715">
                    <a:moveTo>
                      <a:pt x="1417" y="0"/>
                    </a:moveTo>
                    <a:lnTo>
                      <a:pt x="1440" y="1"/>
                    </a:lnTo>
                    <a:lnTo>
                      <a:pt x="1459" y="6"/>
                    </a:lnTo>
                    <a:lnTo>
                      <a:pt x="1475" y="14"/>
                    </a:lnTo>
                    <a:lnTo>
                      <a:pt x="2806" y="812"/>
                    </a:lnTo>
                    <a:lnTo>
                      <a:pt x="2823" y="826"/>
                    </a:lnTo>
                    <a:lnTo>
                      <a:pt x="2834" y="842"/>
                    </a:lnTo>
                    <a:lnTo>
                      <a:pt x="2837" y="858"/>
                    </a:lnTo>
                    <a:lnTo>
                      <a:pt x="2834" y="874"/>
                    </a:lnTo>
                    <a:lnTo>
                      <a:pt x="2823" y="890"/>
                    </a:lnTo>
                    <a:lnTo>
                      <a:pt x="2806" y="903"/>
                    </a:lnTo>
                    <a:lnTo>
                      <a:pt x="1475" y="1703"/>
                    </a:lnTo>
                    <a:lnTo>
                      <a:pt x="1459" y="1710"/>
                    </a:lnTo>
                    <a:lnTo>
                      <a:pt x="1440" y="1714"/>
                    </a:lnTo>
                    <a:lnTo>
                      <a:pt x="1417" y="1715"/>
                    </a:lnTo>
                    <a:lnTo>
                      <a:pt x="1396" y="1714"/>
                    </a:lnTo>
                    <a:lnTo>
                      <a:pt x="1377" y="1710"/>
                    </a:lnTo>
                    <a:lnTo>
                      <a:pt x="1361" y="1703"/>
                    </a:lnTo>
                    <a:lnTo>
                      <a:pt x="30" y="903"/>
                    </a:lnTo>
                    <a:lnTo>
                      <a:pt x="14" y="891"/>
                    </a:lnTo>
                    <a:lnTo>
                      <a:pt x="5" y="878"/>
                    </a:lnTo>
                    <a:lnTo>
                      <a:pt x="0" y="865"/>
                    </a:lnTo>
                    <a:lnTo>
                      <a:pt x="0" y="850"/>
                    </a:lnTo>
                    <a:lnTo>
                      <a:pt x="5" y="837"/>
                    </a:lnTo>
                    <a:lnTo>
                      <a:pt x="14" y="824"/>
                    </a:lnTo>
                    <a:lnTo>
                      <a:pt x="30" y="812"/>
                    </a:lnTo>
                    <a:lnTo>
                      <a:pt x="1361" y="14"/>
                    </a:lnTo>
                    <a:lnTo>
                      <a:pt x="1377" y="6"/>
                    </a:lnTo>
                    <a:lnTo>
                      <a:pt x="1396" y="1"/>
                    </a:lnTo>
                    <a:lnTo>
                      <a:pt x="14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200" name="Freeform 40"/>
              <p:cNvSpPr/>
              <p:nvPr/>
            </p:nvSpPr>
            <p:spPr>
              <a:xfrm>
                <a:off x="6559560" y="2808000"/>
                <a:ext cx="295200" cy="299520"/>
              </a:xfrm>
              <a:custGeom>
                <a:avLst/>
                <a:gdLst/>
                <a:ahLst/>
                <a:rect l="l" t="t" r="r" b="b"/>
                <a:pathLst>
                  <a:path w="954" h="856">
                    <a:moveTo>
                      <a:pt x="224" y="575"/>
                    </a:moveTo>
                    <a:lnTo>
                      <a:pt x="468" y="721"/>
                    </a:lnTo>
                    <a:lnTo>
                      <a:pt x="243" y="856"/>
                    </a:lnTo>
                    <a:lnTo>
                      <a:pt x="0" y="710"/>
                    </a:lnTo>
                    <a:lnTo>
                      <a:pt x="224" y="575"/>
                    </a:lnTo>
                    <a:close/>
                    <a:moveTo>
                      <a:pt x="711" y="282"/>
                    </a:moveTo>
                    <a:lnTo>
                      <a:pt x="954" y="428"/>
                    </a:lnTo>
                    <a:lnTo>
                      <a:pt x="711" y="575"/>
                    </a:lnTo>
                    <a:lnTo>
                      <a:pt x="468" y="428"/>
                    </a:lnTo>
                    <a:lnTo>
                      <a:pt x="711" y="282"/>
                    </a:lnTo>
                    <a:close/>
                    <a:moveTo>
                      <a:pt x="729" y="0"/>
                    </a:moveTo>
                    <a:lnTo>
                      <a:pt x="954" y="136"/>
                    </a:lnTo>
                    <a:lnTo>
                      <a:pt x="711" y="282"/>
                    </a:lnTo>
                    <a:lnTo>
                      <a:pt x="486" y="147"/>
                    </a:lnTo>
                    <a:lnTo>
                      <a:pt x="729" y="0"/>
                    </a:lnTo>
                    <a:close/>
                  </a:path>
                </a:pathLst>
              </a:custGeom>
              <a:solidFill>
                <a:srgbClr val="ddec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201" name="Freeform 41"/>
              <p:cNvSpPr/>
              <p:nvPr/>
            </p:nvSpPr>
            <p:spPr>
              <a:xfrm>
                <a:off x="6627960" y="2904840"/>
                <a:ext cx="533160" cy="155520"/>
              </a:xfrm>
              <a:custGeom>
                <a:avLst/>
                <a:gdLst/>
                <a:ahLst/>
                <a:rect l="l" t="t" r="r" b="b"/>
                <a:pathLst>
                  <a:path w="1713" h="444">
                    <a:moveTo>
                      <a:pt x="244" y="151"/>
                    </a:moveTo>
                    <a:lnTo>
                      <a:pt x="487" y="298"/>
                    </a:lnTo>
                    <a:lnTo>
                      <a:pt x="244" y="444"/>
                    </a:lnTo>
                    <a:lnTo>
                      <a:pt x="0" y="298"/>
                    </a:lnTo>
                    <a:lnTo>
                      <a:pt x="244" y="151"/>
                    </a:lnTo>
                    <a:close/>
                    <a:moveTo>
                      <a:pt x="974" y="5"/>
                    </a:moveTo>
                    <a:lnTo>
                      <a:pt x="1217" y="151"/>
                    </a:lnTo>
                    <a:lnTo>
                      <a:pt x="974" y="298"/>
                    </a:lnTo>
                    <a:lnTo>
                      <a:pt x="730" y="151"/>
                    </a:lnTo>
                    <a:lnTo>
                      <a:pt x="974" y="5"/>
                    </a:lnTo>
                    <a:close/>
                    <a:moveTo>
                      <a:pt x="1469" y="0"/>
                    </a:moveTo>
                    <a:lnTo>
                      <a:pt x="1713" y="146"/>
                    </a:lnTo>
                    <a:lnTo>
                      <a:pt x="1460" y="298"/>
                    </a:lnTo>
                    <a:lnTo>
                      <a:pt x="1217" y="151"/>
                    </a:lnTo>
                    <a:lnTo>
                      <a:pt x="1469" y="0"/>
                    </a:lnTo>
                    <a:close/>
                  </a:path>
                </a:pathLst>
              </a:custGeom>
              <a:solidFill>
                <a:srgbClr val="ff863d"/>
              </a:solidFill>
              <a:ln w="0">
                <a:solidFill>
                  <a:srgbClr val="ff863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202" name="Freeform 42"/>
              <p:cNvSpPr/>
              <p:nvPr/>
            </p:nvSpPr>
            <p:spPr>
              <a:xfrm>
                <a:off x="6559560" y="2800800"/>
                <a:ext cx="678960" cy="261000"/>
              </a:xfrm>
              <a:custGeom>
                <a:avLst/>
                <a:gdLst/>
                <a:ahLst/>
                <a:rect l="l" t="t" r="r" b="b"/>
                <a:pathLst>
                  <a:path w="2189" h="744">
                    <a:moveTo>
                      <a:pt x="1937" y="440"/>
                    </a:moveTo>
                    <a:lnTo>
                      <a:pt x="2189" y="592"/>
                    </a:lnTo>
                    <a:lnTo>
                      <a:pt x="1937" y="744"/>
                    </a:lnTo>
                    <a:lnTo>
                      <a:pt x="1684" y="592"/>
                    </a:lnTo>
                    <a:lnTo>
                      <a:pt x="1937" y="440"/>
                    </a:lnTo>
                    <a:close/>
                    <a:moveTo>
                      <a:pt x="486" y="164"/>
                    </a:moveTo>
                    <a:lnTo>
                      <a:pt x="711" y="299"/>
                    </a:lnTo>
                    <a:lnTo>
                      <a:pt x="224" y="592"/>
                    </a:lnTo>
                    <a:lnTo>
                      <a:pt x="0" y="457"/>
                    </a:lnTo>
                    <a:lnTo>
                      <a:pt x="486" y="164"/>
                    </a:lnTo>
                    <a:close/>
                    <a:moveTo>
                      <a:pt x="1207" y="0"/>
                    </a:moveTo>
                    <a:lnTo>
                      <a:pt x="1450" y="147"/>
                    </a:lnTo>
                    <a:lnTo>
                      <a:pt x="954" y="445"/>
                    </a:lnTo>
                    <a:lnTo>
                      <a:pt x="711" y="299"/>
                    </a:lnTo>
                    <a:lnTo>
                      <a:pt x="1207" y="0"/>
                    </a:lnTo>
                    <a:close/>
                  </a:path>
                </a:pathLst>
              </a:custGeom>
              <a:solidFill>
                <a:srgbClr val="f7c2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203" name="Freeform 43"/>
              <p:cNvSpPr/>
              <p:nvPr/>
            </p:nvSpPr>
            <p:spPr>
              <a:xfrm>
                <a:off x="6634440" y="2957040"/>
                <a:ext cx="447480" cy="201240"/>
              </a:xfrm>
              <a:custGeom>
                <a:avLst/>
                <a:gdLst/>
                <a:ahLst/>
                <a:rect l="l" t="t" r="r" b="b"/>
                <a:pathLst>
                  <a:path w="1441" h="575">
                    <a:moveTo>
                      <a:pt x="225" y="293"/>
                    </a:moveTo>
                    <a:lnTo>
                      <a:pt x="468" y="440"/>
                    </a:lnTo>
                    <a:lnTo>
                      <a:pt x="243" y="575"/>
                    </a:lnTo>
                    <a:lnTo>
                      <a:pt x="0" y="428"/>
                    </a:lnTo>
                    <a:lnTo>
                      <a:pt x="225" y="293"/>
                    </a:lnTo>
                    <a:close/>
                    <a:moveTo>
                      <a:pt x="1198" y="0"/>
                    </a:moveTo>
                    <a:lnTo>
                      <a:pt x="1441" y="147"/>
                    </a:lnTo>
                    <a:lnTo>
                      <a:pt x="1198" y="293"/>
                    </a:lnTo>
                    <a:lnTo>
                      <a:pt x="955" y="147"/>
                    </a:lnTo>
                    <a:lnTo>
                      <a:pt x="1198" y="0"/>
                    </a:lnTo>
                    <a:close/>
                  </a:path>
                </a:pathLst>
              </a:custGeom>
              <a:solidFill>
                <a:srgbClr val="a5fffb"/>
              </a:solidFill>
              <a:ln w="0">
                <a:solidFill>
                  <a:srgbClr val="a5fff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204" name="Freeform 44"/>
              <p:cNvSpPr/>
              <p:nvPr/>
            </p:nvSpPr>
            <p:spPr>
              <a:xfrm>
                <a:off x="6704280" y="3009600"/>
                <a:ext cx="457200" cy="207000"/>
              </a:xfrm>
              <a:custGeom>
                <a:avLst/>
                <a:gdLst/>
                <a:ahLst/>
                <a:rect l="l" t="t" r="r" b="b"/>
                <a:pathLst>
                  <a:path w="1469" h="591">
                    <a:moveTo>
                      <a:pt x="730" y="293"/>
                    </a:moveTo>
                    <a:lnTo>
                      <a:pt x="982" y="444"/>
                    </a:lnTo>
                    <a:lnTo>
                      <a:pt x="739" y="591"/>
                    </a:lnTo>
                    <a:lnTo>
                      <a:pt x="486" y="440"/>
                    </a:lnTo>
                    <a:lnTo>
                      <a:pt x="730" y="293"/>
                    </a:lnTo>
                    <a:close/>
                    <a:moveTo>
                      <a:pt x="243" y="293"/>
                    </a:moveTo>
                    <a:lnTo>
                      <a:pt x="486" y="440"/>
                    </a:lnTo>
                    <a:lnTo>
                      <a:pt x="261" y="575"/>
                    </a:lnTo>
                    <a:lnTo>
                      <a:pt x="18" y="428"/>
                    </a:lnTo>
                    <a:lnTo>
                      <a:pt x="243" y="293"/>
                    </a:lnTo>
                    <a:close/>
                    <a:moveTo>
                      <a:pt x="1216" y="0"/>
                    </a:moveTo>
                    <a:lnTo>
                      <a:pt x="1469" y="152"/>
                    </a:lnTo>
                    <a:lnTo>
                      <a:pt x="1225" y="298"/>
                    </a:lnTo>
                    <a:lnTo>
                      <a:pt x="973" y="146"/>
                    </a:lnTo>
                    <a:lnTo>
                      <a:pt x="1216" y="0"/>
                    </a:lnTo>
                    <a:close/>
                    <a:moveTo>
                      <a:pt x="730" y="0"/>
                    </a:moveTo>
                    <a:lnTo>
                      <a:pt x="973" y="146"/>
                    </a:lnTo>
                    <a:lnTo>
                      <a:pt x="730" y="293"/>
                    </a:lnTo>
                    <a:lnTo>
                      <a:pt x="486" y="146"/>
                    </a:lnTo>
                    <a:lnTo>
                      <a:pt x="730" y="0"/>
                    </a:lnTo>
                    <a:close/>
                    <a:moveTo>
                      <a:pt x="243" y="0"/>
                    </a:moveTo>
                    <a:lnTo>
                      <a:pt x="486" y="146"/>
                    </a:lnTo>
                    <a:lnTo>
                      <a:pt x="243" y="293"/>
                    </a:lnTo>
                    <a:lnTo>
                      <a:pt x="0" y="146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b9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205" name="Freeform 45"/>
              <p:cNvSpPr/>
              <p:nvPr/>
            </p:nvSpPr>
            <p:spPr>
              <a:xfrm>
                <a:off x="6780240" y="3060360"/>
                <a:ext cx="304920" cy="203400"/>
              </a:xfrm>
              <a:custGeom>
                <a:avLst/>
                <a:gdLst/>
                <a:ahLst/>
                <a:rect l="l" t="t" r="r" b="b"/>
                <a:pathLst>
                  <a:path w="982" h="580">
                    <a:moveTo>
                      <a:pt x="243" y="294"/>
                    </a:moveTo>
                    <a:lnTo>
                      <a:pt x="496" y="445"/>
                    </a:lnTo>
                    <a:lnTo>
                      <a:pt x="270" y="580"/>
                    </a:lnTo>
                    <a:lnTo>
                      <a:pt x="18" y="429"/>
                    </a:lnTo>
                    <a:lnTo>
                      <a:pt x="243" y="294"/>
                    </a:lnTo>
                    <a:close/>
                    <a:moveTo>
                      <a:pt x="730" y="0"/>
                    </a:moveTo>
                    <a:lnTo>
                      <a:pt x="982" y="152"/>
                    </a:lnTo>
                    <a:lnTo>
                      <a:pt x="739" y="298"/>
                    </a:lnTo>
                    <a:lnTo>
                      <a:pt x="487" y="147"/>
                    </a:lnTo>
                    <a:lnTo>
                      <a:pt x="730" y="0"/>
                    </a:lnTo>
                    <a:close/>
                    <a:moveTo>
                      <a:pt x="243" y="0"/>
                    </a:moveTo>
                    <a:lnTo>
                      <a:pt x="487" y="147"/>
                    </a:lnTo>
                    <a:lnTo>
                      <a:pt x="243" y="294"/>
                    </a:lnTo>
                    <a:lnTo>
                      <a:pt x="0" y="14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2271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206" name="Freeform 46"/>
              <p:cNvSpPr/>
              <p:nvPr/>
            </p:nvSpPr>
            <p:spPr>
              <a:xfrm>
                <a:off x="6490080" y="2755800"/>
                <a:ext cx="595080" cy="304560"/>
              </a:xfrm>
              <a:custGeom>
                <a:avLst/>
                <a:gdLst/>
                <a:ahLst/>
                <a:rect l="l" t="t" r="r" b="b"/>
                <a:pathLst>
                  <a:path w="1918" h="872">
                    <a:moveTo>
                      <a:pt x="225" y="591"/>
                    </a:moveTo>
                    <a:lnTo>
                      <a:pt x="449" y="726"/>
                    </a:lnTo>
                    <a:lnTo>
                      <a:pt x="225" y="861"/>
                    </a:lnTo>
                    <a:lnTo>
                      <a:pt x="0" y="726"/>
                    </a:lnTo>
                    <a:lnTo>
                      <a:pt x="225" y="591"/>
                    </a:lnTo>
                    <a:close/>
                    <a:moveTo>
                      <a:pt x="1179" y="579"/>
                    </a:moveTo>
                    <a:lnTo>
                      <a:pt x="1423" y="726"/>
                    </a:lnTo>
                    <a:lnTo>
                      <a:pt x="1179" y="872"/>
                    </a:lnTo>
                    <a:lnTo>
                      <a:pt x="936" y="726"/>
                    </a:lnTo>
                    <a:lnTo>
                      <a:pt x="1179" y="579"/>
                    </a:lnTo>
                    <a:close/>
                    <a:moveTo>
                      <a:pt x="1675" y="281"/>
                    </a:moveTo>
                    <a:lnTo>
                      <a:pt x="1918" y="428"/>
                    </a:lnTo>
                    <a:lnTo>
                      <a:pt x="1666" y="579"/>
                    </a:lnTo>
                    <a:lnTo>
                      <a:pt x="1423" y="433"/>
                    </a:lnTo>
                    <a:lnTo>
                      <a:pt x="1675" y="281"/>
                    </a:lnTo>
                    <a:close/>
                    <a:moveTo>
                      <a:pt x="1206" y="0"/>
                    </a:moveTo>
                    <a:lnTo>
                      <a:pt x="1432" y="134"/>
                    </a:lnTo>
                    <a:lnTo>
                      <a:pt x="1179" y="287"/>
                    </a:lnTo>
                    <a:lnTo>
                      <a:pt x="954" y="151"/>
                    </a:lnTo>
                    <a:lnTo>
                      <a:pt x="1206" y="0"/>
                    </a:lnTo>
                    <a:close/>
                  </a:path>
                </a:pathLst>
              </a:custGeom>
              <a:solidFill>
                <a:srgbClr val="aad0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</p:grpSp>
        <p:grpSp>
          <p:nvGrpSpPr>
            <p:cNvPr id="207" name="Group 36"/>
            <p:cNvGrpSpPr/>
            <p:nvPr/>
          </p:nvGrpSpPr>
          <p:grpSpPr>
            <a:xfrm>
              <a:off x="6984720" y="1897200"/>
              <a:ext cx="982440" cy="712800"/>
              <a:chOff x="6984720" y="1897200"/>
              <a:chExt cx="982440" cy="712800"/>
            </a:xfrm>
          </p:grpSpPr>
          <p:sp>
            <p:nvSpPr>
              <p:cNvPr id="208" name="Freeform 38"/>
              <p:cNvSpPr/>
              <p:nvPr/>
            </p:nvSpPr>
            <p:spPr>
              <a:xfrm>
                <a:off x="6984720" y="1897200"/>
                <a:ext cx="982440" cy="712800"/>
              </a:xfrm>
              <a:custGeom>
                <a:avLst/>
                <a:gdLst/>
                <a:ahLst/>
                <a:rect l="l" t="t" r="r" b="b"/>
                <a:pathLst>
                  <a:path w="3158" h="2033">
                    <a:moveTo>
                      <a:pt x="1578" y="0"/>
                    </a:moveTo>
                    <a:lnTo>
                      <a:pt x="1603" y="1"/>
                    </a:lnTo>
                    <a:lnTo>
                      <a:pt x="1630" y="5"/>
                    </a:lnTo>
                    <a:lnTo>
                      <a:pt x="1659" y="11"/>
                    </a:lnTo>
                    <a:lnTo>
                      <a:pt x="1688" y="20"/>
                    </a:lnTo>
                    <a:lnTo>
                      <a:pt x="1718" y="36"/>
                    </a:lnTo>
                    <a:lnTo>
                      <a:pt x="3049" y="834"/>
                    </a:lnTo>
                    <a:lnTo>
                      <a:pt x="3081" y="857"/>
                    </a:lnTo>
                    <a:lnTo>
                      <a:pt x="3107" y="884"/>
                    </a:lnTo>
                    <a:lnTo>
                      <a:pt x="3129" y="914"/>
                    </a:lnTo>
                    <a:lnTo>
                      <a:pt x="3145" y="946"/>
                    </a:lnTo>
                    <a:lnTo>
                      <a:pt x="3154" y="981"/>
                    </a:lnTo>
                    <a:lnTo>
                      <a:pt x="3158" y="1018"/>
                    </a:lnTo>
                    <a:lnTo>
                      <a:pt x="3154" y="1053"/>
                    </a:lnTo>
                    <a:lnTo>
                      <a:pt x="3145" y="1088"/>
                    </a:lnTo>
                    <a:lnTo>
                      <a:pt x="3129" y="1121"/>
                    </a:lnTo>
                    <a:lnTo>
                      <a:pt x="3107" y="1150"/>
                    </a:lnTo>
                    <a:lnTo>
                      <a:pt x="3081" y="1176"/>
                    </a:lnTo>
                    <a:lnTo>
                      <a:pt x="3049" y="1199"/>
                    </a:lnTo>
                    <a:lnTo>
                      <a:pt x="1718" y="1998"/>
                    </a:lnTo>
                    <a:lnTo>
                      <a:pt x="1689" y="2013"/>
                    </a:lnTo>
                    <a:lnTo>
                      <a:pt x="1659" y="2024"/>
                    </a:lnTo>
                    <a:lnTo>
                      <a:pt x="1630" y="2030"/>
                    </a:lnTo>
                    <a:lnTo>
                      <a:pt x="1603" y="2033"/>
                    </a:lnTo>
                    <a:lnTo>
                      <a:pt x="1578" y="2033"/>
                    </a:lnTo>
                    <a:lnTo>
                      <a:pt x="1555" y="2033"/>
                    </a:lnTo>
                    <a:lnTo>
                      <a:pt x="1528" y="2030"/>
                    </a:lnTo>
                    <a:lnTo>
                      <a:pt x="1498" y="2024"/>
                    </a:lnTo>
                    <a:lnTo>
                      <a:pt x="1469" y="2013"/>
                    </a:lnTo>
                    <a:lnTo>
                      <a:pt x="1439" y="1997"/>
                    </a:lnTo>
                    <a:lnTo>
                      <a:pt x="109" y="1199"/>
                    </a:lnTo>
                    <a:lnTo>
                      <a:pt x="77" y="1176"/>
                    </a:lnTo>
                    <a:lnTo>
                      <a:pt x="50" y="1150"/>
                    </a:lnTo>
                    <a:lnTo>
                      <a:pt x="29" y="1119"/>
                    </a:lnTo>
                    <a:lnTo>
                      <a:pt x="13" y="1087"/>
                    </a:lnTo>
                    <a:lnTo>
                      <a:pt x="4" y="1052"/>
                    </a:lnTo>
                    <a:lnTo>
                      <a:pt x="0" y="1015"/>
                    </a:lnTo>
                    <a:lnTo>
                      <a:pt x="4" y="980"/>
                    </a:lnTo>
                    <a:lnTo>
                      <a:pt x="13" y="945"/>
                    </a:lnTo>
                    <a:lnTo>
                      <a:pt x="29" y="913"/>
                    </a:lnTo>
                    <a:lnTo>
                      <a:pt x="51" y="882"/>
                    </a:lnTo>
                    <a:lnTo>
                      <a:pt x="77" y="857"/>
                    </a:lnTo>
                    <a:lnTo>
                      <a:pt x="110" y="834"/>
                    </a:lnTo>
                    <a:lnTo>
                      <a:pt x="1440" y="36"/>
                    </a:lnTo>
                    <a:lnTo>
                      <a:pt x="1469" y="20"/>
                    </a:lnTo>
                    <a:lnTo>
                      <a:pt x="1499" y="11"/>
                    </a:lnTo>
                    <a:lnTo>
                      <a:pt x="1528" y="5"/>
                    </a:lnTo>
                    <a:lnTo>
                      <a:pt x="1555" y="1"/>
                    </a:lnTo>
                    <a:lnTo>
                      <a:pt x="157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209" name="Freeform 39"/>
              <p:cNvSpPr/>
              <p:nvPr/>
            </p:nvSpPr>
            <p:spPr>
              <a:xfrm>
                <a:off x="7034400" y="1953000"/>
                <a:ext cx="882720" cy="600840"/>
              </a:xfrm>
              <a:custGeom>
                <a:avLst/>
                <a:gdLst/>
                <a:ahLst/>
                <a:rect l="l" t="t" r="r" b="b"/>
                <a:pathLst>
                  <a:path w="2837" h="1715">
                    <a:moveTo>
                      <a:pt x="1417" y="0"/>
                    </a:moveTo>
                    <a:lnTo>
                      <a:pt x="1440" y="1"/>
                    </a:lnTo>
                    <a:lnTo>
                      <a:pt x="1459" y="6"/>
                    </a:lnTo>
                    <a:lnTo>
                      <a:pt x="1475" y="14"/>
                    </a:lnTo>
                    <a:lnTo>
                      <a:pt x="2806" y="812"/>
                    </a:lnTo>
                    <a:lnTo>
                      <a:pt x="2823" y="826"/>
                    </a:lnTo>
                    <a:lnTo>
                      <a:pt x="2834" y="842"/>
                    </a:lnTo>
                    <a:lnTo>
                      <a:pt x="2837" y="858"/>
                    </a:lnTo>
                    <a:lnTo>
                      <a:pt x="2834" y="874"/>
                    </a:lnTo>
                    <a:lnTo>
                      <a:pt x="2823" y="890"/>
                    </a:lnTo>
                    <a:lnTo>
                      <a:pt x="2806" y="903"/>
                    </a:lnTo>
                    <a:lnTo>
                      <a:pt x="1475" y="1703"/>
                    </a:lnTo>
                    <a:lnTo>
                      <a:pt x="1459" y="1710"/>
                    </a:lnTo>
                    <a:lnTo>
                      <a:pt x="1440" y="1714"/>
                    </a:lnTo>
                    <a:lnTo>
                      <a:pt x="1417" y="1715"/>
                    </a:lnTo>
                    <a:lnTo>
                      <a:pt x="1396" y="1714"/>
                    </a:lnTo>
                    <a:lnTo>
                      <a:pt x="1377" y="1710"/>
                    </a:lnTo>
                    <a:lnTo>
                      <a:pt x="1361" y="1703"/>
                    </a:lnTo>
                    <a:lnTo>
                      <a:pt x="30" y="903"/>
                    </a:lnTo>
                    <a:lnTo>
                      <a:pt x="14" y="891"/>
                    </a:lnTo>
                    <a:lnTo>
                      <a:pt x="5" y="878"/>
                    </a:lnTo>
                    <a:lnTo>
                      <a:pt x="0" y="865"/>
                    </a:lnTo>
                    <a:lnTo>
                      <a:pt x="0" y="850"/>
                    </a:lnTo>
                    <a:lnTo>
                      <a:pt x="5" y="837"/>
                    </a:lnTo>
                    <a:lnTo>
                      <a:pt x="14" y="824"/>
                    </a:lnTo>
                    <a:lnTo>
                      <a:pt x="30" y="812"/>
                    </a:lnTo>
                    <a:lnTo>
                      <a:pt x="1361" y="14"/>
                    </a:lnTo>
                    <a:lnTo>
                      <a:pt x="1377" y="6"/>
                    </a:lnTo>
                    <a:lnTo>
                      <a:pt x="1396" y="1"/>
                    </a:lnTo>
                    <a:lnTo>
                      <a:pt x="14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210" name="Freeform 40"/>
              <p:cNvSpPr/>
              <p:nvPr/>
            </p:nvSpPr>
            <p:spPr>
              <a:xfrm>
                <a:off x="7170840" y="2052720"/>
                <a:ext cx="295200" cy="299520"/>
              </a:xfrm>
              <a:custGeom>
                <a:avLst/>
                <a:gdLst/>
                <a:ahLst/>
                <a:rect l="l" t="t" r="r" b="b"/>
                <a:pathLst>
                  <a:path w="954" h="856">
                    <a:moveTo>
                      <a:pt x="224" y="575"/>
                    </a:moveTo>
                    <a:lnTo>
                      <a:pt x="468" y="721"/>
                    </a:lnTo>
                    <a:lnTo>
                      <a:pt x="243" y="856"/>
                    </a:lnTo>
                    <a:lnTo>
                      <a:pt x="0" y="710"/>
                    </a:lnTo>
                    <a:lnTo>
                      <a:pt x="224" y="575"/>
                    </a:lnTo>
                    <a:close/>
                    <a:moveTo>
                      <a:pt x="711" y="282"/>
                    </a:moveTo>
                    <a:lnTo>
                      <a:pt x="954" y="428"/>
                    </a:lnTo>
                    <a:lnTo>
                      <a:pt x="711" y="575"/>
                    </a:lnTo>
                    <a:lnTo>
                      <a:pt x="468" y="428"/>
                    </a:lnTo>
                    <a:lnTo>
                      <a:pt x="711" y="282"/>
                    </a:lnTo>
                    <a:close/>
                    <a:moveTo>
                      <a:pt x="729" y="0"/>
                    </a:moveTo>
                    <a:lnTo>
                      <a:pt x="954" y="136"/>
                    </a:lnTo>
                    <a:lnTo>
                      <a:pt x="711" y="282"/>
                    </a:lnTo>
                    <a:lnTo>
                      <a:pt x="486" y="147"/>
                    </a:lnTo>
                    <a:lnTo>
                      <a:pt x="729" y="0"/>
                    </a:lnTo>
                    <a:close/>
                  </a:path>
                </a:pathLst>
              </a:custGeom>
              <a:solidFill>
                <a:srgbClr val="ddec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211" name="Freeform 41"/>
              <p:cNvSpPr/>
              <p:nvPr/>
            </p:nvSpPr>
            <p:spPr>
              <a:xfrm>
                <a:off x="7239240" y="2149560"/>
                <a:ext cx="533160" cy="155520"/>
              </a:xfrm>
              <a:custGeom>
                <a:avLst/>
                <a:gdLst/>
                <a:ahLst/>
                <a:rect l="l" t="t" r="r" b="b"/>
                <a:pathLst>
                  <a:path w="1713" h="444">
                    <a:moveTo>
                      <a:pt x="244" y="151"/>
                    </a:moveTo>
                    <a:lnTo>
                      <a:pt x="487" y="298"/>
                    </a:lnTo>
                    <a:lnTo>
                      <a:pt x="244" y="444"/>
                    </a:lnTo>
                    <a:lnTo>
                      <a:pt x="0" y="298"/>
                    </a:lnTo>
                    <a:lnTo>
                      <a:pt x="244" y="151"/>
                    </a:lnTo>
                    <a:close/>
                    <a:moveTo>
                      <a:pt x="974" y="5"/>
                    </a:moveTo>
                    <a:lnTo>
                      <a:pt x="1217" y="151"/>
                    </a:lnTo>
                    <a:lnTo>
                      <a:pt x="974" y="298"/>
                    </a:lnTo>
                    <a:lnTo>
                      <a:pt x="730" y="151"/>
                    </a:lnTo>
                    <a:lnTo>
                      <a:pt x="974" y="5"/>
                    </a:lnTo>
                    <a:close/>
                    <a:moveTo>
                      <a:pt x="1469" y="0"/>
                    </a:moveTo>
                    <a:lnTo>
                      <a:pt x="1713" y="146"/>
                    </a:lnTo>
                    <a:lnTo>
                      <a:pt x="1460" y="298"/>
                    </a:lnTo>
                    <a:lnTo>
                      <a:pt x="1217" y="151"/>
                    </a:lnTo>
                    <a:lnTo>
                      <a:pt x="1469" y="0"/>
                    </a:lnTo>
                    <a:close/>
                  </a:path>
                </a:pathLst>
              </a:custGeom>
              <a:solidFill>
                <a:srgbClr val="ff863d"/>
              </a:solidFill>
              <a:ln w="0">
                <a:solidFill>
                  <a:srgbClr val="ff863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212" name="Freeform 42"/>
              <p:cNvSpPr/>
              <p:nvPr/>
            </p:nvSpPr>
            <p:spPr>
              <a:xfrm>
                <a:off x="7170840" y="2045520"/>
                <a:ext cx="678960" cy="261000"/>
              </a:xfrm>
              <a:custGeom>
                <a:avLst/>
                <a:gdLst/>
                <a:ahLst/>
                <a:rect l="l" t="t" r="r" b="b"/>
                <a:pathLst>
                  <a:path w="2189" h="744">
                    <a:moveTo>
                      <a:pt x="1937" y="440"/>
                    </a:moveTo>
                    <a:lnTo>
                      <a:pt x="2189" y="592"/>
                    </a:lnTo>
                    <a:lnTo>
                      <a:pt x="1937" y="744"/>
                    </a:lnTo>
                    <a:lnTo>
                      <a:pt x="1684" y="592"/>
                    </a:lnTo>
                    <a:lnTo>
                      <a:pt x="1937" y="440"/>
                    </a:lnTo>
                    <a:close/>
                    <a:moveTo>
                      <a:pt x="486" y="164"/>
                    </a:moveTo>
                    <a:lnTo>
                      <a:pt x="711" y="299"/>
                    </a:lnTo>
                    <a:lnTo>
                      <a:pt x="224" y="592"/>
                    </a:lnTo>
                    <a:lnTo>
                      <a:pt x="0" y="457"/>
                    </a:lnTo>
                    <a:lnTo>
                      <a:pt x="486" y="164"/>
                    </a:lnTo>
                    <a:close/>
                    <a:moveTo>
                      <a:pt x="1207" y="0"/>
                    </a:moveTo>
                    <a:lnTo>
                      <a:pt x="1450" y="147"/>
                    </a:lnTo>
                    <a:lnTo>
                      <a:pt x="954" y="445"/>
                    </a:lnTo>
                    <a:lnTo>
                      <a:pt x="711" y="299"/>
                    </a:lnTo>
                    <a:lnTo>
                      <a:pt x="1207" y="0"/>
                    </a:lnTo>
                    <a:close/>
                  </a:path>
                </a:pathLst>
              </a:custGeom>
              <a:solidFill>
                <a:srgbClr val="f7c2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213" name="Freeform 43"/>
              <p:cNvSpPr/>
              <p:nvPr/>
            </p:nvSpPr>
            <p:spPr>
              <a:xfrm>
                <a:off x="7245720" y="2201760"/>
                <a:ext cx="447480" cy="201240"/>
              </a:xfrm>
              <a:custGeom>
                <a:avLst/>
                <a:gdLst/>
                <a:ahLst/>
                <a:rect l="l" t="t" r="r" b="b"/>
                <a:pathLst>
                  <a:path w="1441" h="575">
                    <a:moveTo>
                      <a:pt x="225" y="293"/>
                    </a:moveTo>
                    <a:lnTo>
                      <a:pt x="468" y="440"/>
                    </a:lnTo>
                    <a:lnTo>
                      <a:pt x="243" y="575"/>
                    </a:lnTo>
                    <a:lnTo>
                      <a:pt x="0" y="428"/>
                    </a:lnTo>
                    <a:lnTo>
                      <a:pt x="225" y="293"/>
                    </a:lnTo>
                    <a:close/>
                    <a:moveTo>
                      <a:pt x="1198" y="0"/>
                    </a:moveTo>
                    <a:lnTo>
                      <a:pt x="1441" y="147"/>
                    </a:lnTo>
                    <a:lnTo>
                      <a:pt x="1198" y="293"/>
                    </a:lnTo>
                    <a:lnTo>
                      <a:pt x="955" y="147"/>
                    </a:lnTo>
                    <a:lnTo>
                      <a:pt x="1198" y="0"/>
                    </a:lnTo>
                    <a:close/>
                  </a:path>
                </a:pathLst>
              </a:custGeom>
              <a:solidFill>
                <a:srgbClr val="a5fffb"/>
              </a:solidFill>
              <a:ln w="0">
                <a:solidFill>
                  <a:srgbClr val="a5fff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214" name="Freeform 44"/>
              <p:cNvSpPr/>
              <p:nvPr/>
            </p:nvSpPr>
            <p:spPr>
              <a:xfrm>
                <a:off x="7315560" y="2254320"/>
                <a:ext cx="457200" cy="207000"/>
              </a:xfrm>
              <a:custGeom>
                <a:avLst/>
                <a:gdLst/>
                <a:ahLst/>
                <a:rect l="l" t="t" r="r" b="b"/>
                <a:pathLst>
                  <a:path w="1469" h="591">
                    <a:moveTo>
                      <a:pt x="730" y="293"/>
                    </a:moveTo>
                    <a:lnTo>
                      <a:pt x="982" y="444"/>
                    </a:lnTo>
                    <a:lnTo>
                      <a:pt x="739" y="591"/>
                    </a:lnTo>
                    <a:lnTo>
                      <a:pt x="486" y="440"/>
                    </a:lnTo>
                    <a:lnTo>
                      <a:pt x="730" y="293"/>
                    </a:lnTo>
                    <a:close/>
                    <a:moveTo>
                      <a:pt x="243" y="293"/>
                    </a:moveTo>
                    <a:lnTo>
                      <a:pt x="486" y="440"/>
                    </a:lnTo>
                    <a:lnTo>
                      <a:pt x="261" y="575"/>
                    </a:lnTo>
                    <a:lnTo>
                      <a:pt x="18" y="428"/>
                    </a:lnTo>
                    <a:lnTo>
                      <a:pt x="243" y="293"/>
                    </a:lnTo>
                    <a:close/>
                    <a:moveTo>
                      <a:pt x="1216" y="0"/>
                    </a:moveTo>
                    <a:lnTo>
                      <a:pt x="1469" y="152"/>
                    </a:lnTo>
                    <a:lnTo>
                      <a:pt x="1225" y="298"/>
                    </a:lnTo>
                    <a:lnTo>
                      <a:pt x="973" y="146"/>
                    </a:lnTo>
                    <a:lnTo>
                      <a:pt x="1216" y="0"/>
                    </a:lnTo>
                    <a:close/>
                    <a:moveTo>
                      <a:pt x="730" y="0"/>
                    </a:moveTo>
                    <a:lnTo>
                      <a:pt x="973" y="146"/>
                    </a:lnTo>
                    <a:lnTo>
                      <a:pt x="730" y="293"/>
                    </a:lnTo>
                    <a:lnTo>
                      <a:pt x="486" y="146"/>
                    </a:lnTo>
                    <a:lnTo>
                      <a:pt x="730" y="0"/>
                    </a:lnTo>
                    <a:close/>
                    <a:moveTo>
                      <a:pt x="243" y="0"/>
                    </a:moveTo>
                    <a:lnTo>
                      <a:pt x="486" y="146"/>
                    </a:lnTo>
                    <a:lnTo>
                      <a:pt x="243" y="293"/>
                    </a:lnTo>
                    <a:lnTo>
                      <a:pt x="0" y="146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b9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215" name="Freeform 45"/>
              <p:cNvSpPr/>
              <p:nvPr/>
            </p:nvSpPr>
            <p:spPr>
              <a:xfrm>
                <a:off x="7391520" y="2305080"/>
                <a:ext cx="304920" cy="203400"/>
              </a:xfrm>
              <a:custGeom>
                <a:avLst/>
                <a:gdLst/>
                <a:ahLst/>
                <a:rect l="l" t="t" r="r" b="b"/>
                <a:pathLst>
                  <a:path w="982" h="580">
                    <a:moveTo>
                      <a:pt x="243" y="294"/>
                    </a:moveTo>
                    <a:lnTo>
                      <a:pt x="496" y="445"/>
                    </a:lnTo>
                    <a:lnTo>
                      <a:pt x="270" y="580"/>
                    </a:lnTo>
                    <a:lnTo>
                      <a:pt x="18" y="429"/>
                    </a:lnTo>
                    <a:lnTo>
                      <a:pt x="243" y="294"/>
                    </a:lnTo>
                    <a:close/>
                    <a:moveTo>
                      <a:pt x="730" y="0"/>
                    </a:moveTo>
                    <a:lnTo>
                      <a:pt x="982" y="152"/>
                    </a:lnTo>
                    <a:lnTo>
                      <a:pt x="739" y="298"/>
                    </a:lnTo>
                    <a:lnTo>
                      <a:pt x="487" y="147"/>
                    </a:lnTo>
                    <a:lnTo>
                      <a:pt x="730" y="0"/>
                    </a:lnTo>
                    <a:close/>
                    <a:moveTo>
                      <a:pt x="243" y="0"/>
                    </a:moveTo>
                    <a:lnTo>
                      <a:pt x="487" y="147"/>
                    </a:lnTo>
                    <a:lnTo>
                      <a:pt x="243" y="294"/>
                    </a:lnTo>
                    <a:lnTo>
                      <a:pt x="0" y="14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2271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216" name="Freeform 46"/>
              <p:cNvSpPr/>
              <p:nvPr/>
            </p:nvSpPr>
            <p:spPr>
              <a:xfrm>
                <a:off x="7101360" y="2000520"/>
                <a:ext cx="595080" cy="304560"/>
              </a:xfrm>
              <a:custGeom>
                <a:avLst/>
                <a:gdLst/>
                <a:ahLst/>
                <a:rect l="l" t="t" r="r" b="b"/>
                <a:pathLst>
                  <a:path w="1918" h="872">
                    <a:moveTo>
                      <a:pt x="225" y="591"/>
                    </a:moveTo>
                    <a:lnTo>
                      <a:pt x="449" y="726"/>
                    </a:lnTo>
                    <a:lnTo>
                      <a:pt x="225" y="861"/>
                    </a:lnTo>
                    <a:lnTo>
                      <a:pt x="0" y="726"/>
                    </a:lnTo>
                    <a:lnTo>
                      <a:pt x="225" y="591"/>
                    </a:lnTo>
                    <a:close/>
                    <a:moveTo>
                      <a:pt x="1179" y="579"/>
                    </a:moveTo>
                    <a:lnTo>
                      <a:pt x="1423" y="726"/>
                    </a:lnTo>
                    <a:lnTo>
                      <a:pt x="1179" y="872"/>
                    </a:lnTo>
                    <a:lnTo>
                      <a:pt x="936" y="726"/>
                    </a:lnTo>
                    <a:lnTo>
                      <a:pt x="1179" y="579"/>
                    </a:lnTo>
                    <a:close/>
                    <a:moveTo>
                      <a:pt x="1675" y="281"/>
                    </a:moveTo>
                    <a:lnTo>
                      <a:pt x="1918" y="428"/>
                    </a:lnTo>
                    <a:lnTo>
                      <a:pt x="1666" y="579"/>
                    </a:lnTo>
                    <a:lnTo>
                      <a:pt x="1423" y="433"/>
                    </a:lnTo>
                    <a:lnTo>
                      <a:pt x="1675" y="281"/>
                    </a:lnTo>
                    <a:close/>
                    <a:moveTo>
                      <a:pt x="1206" y="0"/>
                    </a:moveTo>
                    <a:lnTo>
                      <a:pt x="1432" y="134"/>
                    </a:lnTo>
                    <a:lnTo>
                      <a:pt x="1179" y="287"/>
                    </a:lnTo>
                    <a:lnTo>
                      <a:pt x="954" y="151"/>
                    </a:lnTo>
                    <a:lnTo>
                      <a:pt x="1206" y="0"/>
                    </a:lnTo>
                    <a:close/>
                  </a:path>
                </a:pathLst>
              </a:custGeom>
              <a:solidFill>
                <a:srgbClr val="aad0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LAS Data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The LAS format is a data transfer/exchange format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Well understood, and widely supported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Not originally designed for direct use/exploitation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Issues when accessed directly include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Simple format (a plus) but becomes an I/O bottleneck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Lack of spatial index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Lack of dataset statistics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Uncompressed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Huge files – even when compressed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Improving Access To LAS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tart simple – 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No changes to the LAS file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Add a “sidecar” file that has all the optimization information in it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2" marL="912960" indent="-228600">
              <a:spcBef>
                <a:spcPts val="45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2e5c"/>
                </a:solidFill>
                <a:latin typeface="Arial"/>
              </a:rPr>
              <a:t>Metadata</a:t>
            </a:r>
            <a:endParaRPr b="0" lang="en-US" sz="1800" spc="-1" strike="noStrike">
              <a:solidFill>
                <a:srgbClr val="092e5c"/>
              </a:solidFill>
              <a:latin typeface="Arial"/>
            </a:endParaRPr>
          </a:p>
          <a:p>
            <a:pPr lvl="2" marL="912960" indent="-228600">
              <a:spcBef>
                <a:spcPts val="45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2e5c"/>
                </a:solidFill>
                <a:latin typeface="Arial"/>
              </a:rPr>
              <a:t>Classification</a:t>
            </a:r>
            <a:endParaRPr b="0" lang="en-US" sz="1800" spc="-1" strike="noStrike">
              <a:solidFill>
                <a:srgbClr val="092e5c"/>
              </a:solidFill>
              <a:latin typeface="Arial"/>
            </a:endParaRPr>
          </a:p>
          <a:p>
            <a:pPr lvl="2" marL="912960" indent="-228600">
              <a:spcBef>
                <a:spcPts val="45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2e5c"/>
                </a:solidFill>
                <a:latin typeface="Arial"/>
              </a:rPr>
              <a:t>Statistics</a:t>
            </a:r>
            <a:endParaRPr b="0" lang="en-US" sz="1800" spc="-1" strike="noStrike">
              <a:solidFill>
                <a:srgbClr val="092e5c"/>
              </a:solidFill>
              <a:latin typeface="Arial"/>
            </a:endParaRPr>
          </a:p>
          <a:p>
            <a:pPr lvl="2" marL="912960" indent="-228600">
              <a:spcBef>
                <a:spcPts val="45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2e5c"/>
                </a:solidFill>
                <a:latin typeface="Arial"/>
              </a:rPr>
              <a:t>Spatial Indexing</a:t>
            </a:r>
            <a:endParaRPr b="0" lang="en-US" sz="1800" spc="-1" strike="noStrike">
              <a:solidFill>
                <a:srgbClr val="092e5c"/>
              </a:solidFill>
              <a:latin typeface="Arial"/>
            </a:endParaRPr>
          </a:p>
          <a:p>
            <a:pPr lvl="2" marL="912960" indent="-228600">
              <a:spcBef>
                <a:spcPts val="45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2e5c"/>
                </a:solidFill>
                <a:latin typeface="Arial"/>
              </a:rPr>
              <a:t>Reorganize records</a:t>
            </a:r>
            <a:endParaRPr b="0" lang="en-US" sz="18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Get more complicated later – 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Redefine the LAS file storage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2" marL="912960" indent="-228600">
              <a:spcBef>
                <a:spcPts val="45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2e5c"/>
                </a:solidFill>
                <a:latin typeface="Arial"/>
              </a:rPr>
              <a:t>SQL is your friend – RDBMS and SQLite</a:t>
            </a:r>
            <a:endParaRPr b="0" lang="en-US" sz="1800" spc="-1" strike="noStrike">
              <a:solidFill>
                <a:srgbClr val="092e5c"/>
              </a:solidFill>
              <a:latin typeface="Arial"/>
            </a:endParaRPr>
          </a:p>
          <a:p>
            <a:pPr lvl="2" marL="912960" indent="-228600">
              <a:spcBef>
                <a:spcPts val="45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2e5c"/>
                </a:solidFill>
                <a:latin typeface="Arial"/>
              </a:rPr>
              <a:t>Make it continuous and scalable</a:t>
            </a:r>
            <a:endParaRPr b="0" lang="en-US" sz="1800" spc="-1" strike="noStrike">
              <a:solidFill>
                <a:srgbClr val="092e5c"/>
              </a:solidFill>
              <a:latin typeface="Arial"/>
            </a:endParaRPr>
          </a:p>
          <a:p>
            <a:pPr lvl="2" marL="912960" indent="-228600">
              <a:spcBef>
                <a:spcPts val="45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2e5c"/>
                </a:solidFill>
                <a:latin typeface="Arial"/>
              </a:rPr>
              <a:t>Compression</a:t>
            </a:r>
            <a:endParaRPr b="0" lang="en-US" sz="18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21" name="Footer Placehold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Sidecar File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23" name="Footer Placehold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224" name="TextBox 8"/>
          <p:cNvSpPr/>
          <p:nvPr/>
        </p:nvSpPr>
        <p:spPr>
          <a:xfrm>
            <a:off x="2819520" y="10666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grpSp>
        <p:nvGrpSpPr>
          <p:cNvPr id="225" name="Group 11"/>
          <p:cNvGrpSpPr/>
          <p:nvPr/>
        </p:nvGrpSpPr>
        <p:grpSpPr>
          <a:xfrm>
            <a:off x="2192400" y="3759120"/>
            <a:ext cx="1749240" cy="2594160"/>
            <a:chOff x="2192400" y="3759120"/>
            <a:chExt cx="1749240" cy="2594160"/>
          </a:xfrm>
        </p:grpSpPr>
        <p:sp>
          <p:nvSpPr>
            <p:cNvPr id="226" name="Rectangle 4"/>
            <p:cNvSpPr/>
            <p:nvPr/>
          </p:nvSpPr>
          <p:spPr>
            <a:xfrm>
              <a:off x="2192400" y="3992400"/>
              <a:ext cx="1676520" cy="2360880"/>
            </a:xfrm>
            <a:prstGeom prst="rect">
              <a:avLst/>
            </a:prstGeom>
            <a:solidFill>
              <a:srgbClr val="d1f0d1"/>
            </a:solidFill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</p:txBody>
        </p:sp>
        <p:sp>
          <p:nvSpPr>
            <p:cNvPr id="227" name="TextBox 5"/>
            <p:cNvSpPr/>
            <p:nvPr/>
          </p:nvSpPr>
          <p:spPr>
            <a:xfrm>
              <a:off x="2573280" y="4440240"/>
              <a:ext cx="91440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G Times"/>
                </a:rPr>
                <a:t>Existing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CG Times"/>
                </a:rPr>
                <a:t>LAS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CG Times"/>
                </a:rPr>
                <a:t>Data file</a:t>
              </a:r>
              <a:endParaRPr b="1" lang="en-US" sz="2400" spc="-1" strike="noStrike">
                <a:solidFill>
                  <a:srgbClr val="000000"/>
                </a:solidFill>
                <a:latin typeface="CG Times"/>
              </a:endParaRPr>
            </a:p>
          </p:txBody>
        </p:sp>
        <p:sp>
          <p:nvSpPr>
            <p:cNvPr id="228" name="TextBox 9"/>
            <p:cNvSpPr/>
            <p:nvPr/>
          </p:nvSpPr>
          <p:spPr>
            <a:xfrm>
              <a:off x="2192400" y="3759120"/>
              <a:ext cx="174924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G Times"/>
                </a:rPr>
                <a:t>MyLidarData.las</a:t>
              </a:r>
              <a:endParaRPr b="1" lang="en-US" sz="1400" spc="-1" strike="noStrike">
                <a:solidFill>
                  <a:srgbClr val="000000"/>
                </a:solidFill>
                <a:latin typeface="CG Times"/>
              </a:endParaRPr>
            </a:p>
          </p:txBody>
        </p:sp>
      </p:grpSp>
      <p:grpSp>
        <p:nvGrpSpPr>
          <p:cNvPr id="229" name="Group 12"/>
          <p:cNvGrpSpPr/>
          <p:nvPr/>
        </p:nvGrpSpPr>
        <p:grpSpPr>
          <a:xfrm>
            <a:off x="4886280" y="3759120"/>
            <a:ext cx="1751040" cy="1595520"/>
            <a:chOff x="4886280" y="3759120"/>
            <a:chExt cx="1751040" cy="1595520"/>
          </a:xfrm>
        </p:grpSpPr>
        <p:sp>
          <p:nvSpPr>
            <p:cNvPr id="230" name="Rectangle 6"/>
            <p:cNvSpPr/>
            <p:nvPr/>
          </p:nvSpPr>
          <p:spPr>
            <a:xfrm>
              <a:off x="4957560" y="3992400"/>
              <a:ext cx="1525680" cy="1362240"/>
            </a:xfrm>
            <a:prstGeom prst="rect">
              <a:avLst/>
            </a:prstGeom>
            <a:solidFill>
              <a:srgbClr val="d1f0d1"/>
            </a:solidFill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</p:txBody>
        </p:sp>
        <p:sp>
          <p:nvSpPr>
            <p:cNvPr id="231" name="TextBox 7"/>
            <p:cNvSpPr/>
            <p:nvPr/>
          </p:nvSpPr>
          <p:spPr>
            <a:xfrm flipV="1" rot="10800000">
              <a:off x="4957200" y="3992040"/>
              <a:ext cx="152532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G Times"/>
                </a:rPr>
                <a:t>Metadata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CG Times"/>
                </a:rPr>
                <a:t>Classification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CG Times"/>
                </a:rPr>
                <a:t>Statistics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CG Times"/>
                </a:rPr>
                <a:t>Spatial Index</a:t>
              </a:r>
              <a:endParaRPr b="1" lang="en-US" sz="1600" spc="-1" strike="noStrike">
                <a:solidFill>
                  <a:srgbClr val="000000"/>
                </a:solidFill>
                <a:latin typeface="CG Times"/>
              </a:endParaRPr>
            </a:p>
          </p:txBody>
        </p:sp>
        <p:sp>
          <p:nvSpPr>
            <p:cNvPr id="232" name="TextBox 10"/>
            <p:cNvSpPr/>
            <p:nvPr/>
          </p:nvSpPr>
          <p:spPr>
            <a:xfrm>
              <a:off x="4886280" y="3759120"/>
              <a:ext cx="17510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G Times"/>
                </a:rPr>
                <a:t>MyLidarData.lasX</a:t>
              </a:r>
              <a:endParaRPr b="1" lang="en-US" sz="1400" spc="-1" strike="noStrike">
                <a:solidFill>
                  <a:srgbClr val="000000"/>
                </a:solidFill>
                <a:latin typeface="CG Times"/>
              </a:endParaRPr>
            </a:p>
          </p:txBody>
        </p:sp>
      </p:grpSp>
      <p:cxnSp>
        <p:nvCxnSpPr>
          <p:cNvPr id="233" name="Straight Arrow Connector 14"/>
          <p:cNvCxnSpPr/>
          <p:nvPr/>
        </p:nvCxnSpPr>
        <p:spPr>
          <a:xfrm flipH="1">
            <a:off x="3940920" y="4673160"/>
            <a:ext cx="972360" cy="1080"/>
          </a:xfrm>
          <a:prstGeom prst="straightConnector1">
            <a:avLst/>
          </a:prstGeom>
          <a:ln w="63360">
            <a:solidFill>
              <a:srgbClr val="ff1212"/>
            </a:solidFill>
            <a:miter/>
            <a:tailEnd len="med" type="triangle" w="med"/>
          </a:ln>
        </p:spPr>
      </p:cxnSp>
      <p:sp>
        <p:nvSpPr>
          <p:cNvPr id="234" name="TextBox 15"/>
          <p:cNvSpPr/>
          <p:nvPr/>
        </p:nvSpPr>
        <p:spPr>
          <a:xfrm>
            <a:off x="457200" y="1247760"/>
            <a:ext cx="76201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 Data File is not modified – allows us to support all existing LA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sions without compatibility problems</a:t>
            </a:r>
            <a:endParaRPr b="1" lang="en-US" sz="2000" spc="-1" strike="noStrike">
              <a:solidFill>
                <a:srgbClr val="000000"/>
              </a:solidFill>
              <a:latin typeface="CG Time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al information is stored in the sidecar file, and used by th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to configure the user interface and optimize data access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be XML, CSV, Binary, or a well defined mix for efficiency</a:t>
            </a:r>
            <a:endParaRPr b="1" lang="en-US" sz="20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5T20:11:27Z</dcterms:created>
  <dc:creator>Scott Simmons</dc:creator>
  <dc:description/>
  <dc:language>en-US</dc:language>
  <cp:lastModifiedBy>Keith Ryden</cp:lastModifiedBy>
  <cp:lastPrinted>2003-02-03T21:59:32Z</cp:lastPrinted>
  <dcterms:modified xsi:type="dcterms:W3CDTF">2016-03-05T21:27:22Z</dcterms:modified>
  <cp:revision>23</cp:revision>
  <dc:subject>OGC TC/PC</dc:subject>
  <dc:title>Presentation Template</dc:title>
</cp:coreProperties>
</file>