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2C2D-A9F9-4CFC-8FB7-FCEA024AB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BD1E-28DE-413D-8E9D-5515FAE9E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AD9D-CE70-4712-A72C-EF34F67D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C386-01D2-46F0-8CD9-8CAFF28B9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B0A9-4023-485E-BCE0-17AC750DD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35921-BC52-4FE0-A0BC-9F571717D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F888-562A-41AB-B605-FE7F09259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01DF-4901-4054-A054-21064D6FE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C52F-5F6D-455C-879E-55B2E8AC9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8FE4-57C9-4B97-AD43-D0DC95470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9D7E-4238-4EDE-BC5D-06CBEDE05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DFEB-F4FF-4BBF-836E-C3B388CE4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D19-CC0E-4ABB-BBF0-F8C9B84EB05F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br>
              <a:rPr sz="2800"/>
            </a:b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4T18:30:36Z</dcterms:modified>
  <cp:revision>8</cp:revision>
  <dc:subject>OGC TC/PC</dc:subject>
  <dc:title>&lt;Working Group Report Template&gt;</dc:title>
</cp:coreProperties>
</file>