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D983-BDFF-4EF3-B386-6ED5CCF02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A744-1D6A-4A0E-A9BE-D6A3868F4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E010-D694-4FC6-8492-4FD08257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EAE1-AF5A-4658-B43F-4216CB3DF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ED30-3BF3-404A-BCDD-CA20AA654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8BE1-FAE3-44C0-88F3-F11A5A53D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E40C-B0DA-4C54-B6AA-B4C792303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1593-8116-44BE-AB24-C75D7F4DE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6700-A956-4BF3-B9DA-8801220B6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379B-6548-4650-B166-997F027A7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99EB-4684-4007-BBDB-23B0C5A2C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3B34-53A2-4B62-B851-5607A35FD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C41-DEBC-48F1-AD42-79DBAC76CC4D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br>
              <a:rPr sz="2800"/>
            </a:b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4T18:30:36Z</dcterms:modified>
  <cp:revision>8</cp:revision>
  <dc:subject>OGC TC/PC</dc:subject>
  <dc:title>&lt;Working Group Report Template&gt;</dc:title>
</cp:coreProperties>
</file>