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F7B7B-0949-48B4-9592-EDD309211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B2D8-C1E1-439A-8831-DF40FE056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38D38-E182-44C1-8D71-79795FF8F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28601-BAF0-4107-9305-E43A73146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D770-E0C1-4E58-A848-4DB9F7684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176B-9A1A-47CA-9A85-51E33970C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13AA-E462-4A02-BABF-FE059BF83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0676-7136-4C97-A845-B7FFF4089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1935-D508-44AC-AC39-B921A297A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B1F1-DB81-43C8-A9CC-A6D0ACE5A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F05FE-9278-4C47-ADEF-07537805C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9F34A-F8E1-4C7D-92C0-0A1856737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365040" y="776160"/>
            <a:ext cx="845496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324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96D2-B45F-43D3-94A2-2B21F893DBA5}" type="slidenum">
              <a:rPr b="0" lang="en-US" sz="900" spc="-1" strike="noStrike">
                <a:solidFill>
                  <a:srgbClr val="092e5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334080" y="6219720"/>
            <a:ext cx="1155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e5c"/>
                </a:solidFill>
                <a:latin typeface="Times New Roman"/>
                <a:ea typeface="MS PGothic"/>
              </a:rPr>
              <a:t>OGC</a:t>
            </a:r>
            <a:endParaRPr b="1" lang="en-US" sz="4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1498680" y="6270480"/>
            <a:ext cx="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2e5c"/>
                </a:solidFill>
                <a:latin typeface="Arial"/>
              </a:rPr>
              <a:t>®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8"/>
          <p:cNvSpPr/>
          <p:nvPr/>
        </p:nvSpPr>
        <p:spPr>
          <a:xfrm>
            <a:off x="8739000" y="214200"/>
            <a:ext cx="7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1" lang="en-US" sz="8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4" name="Picture 10" descr="OGC header 2010122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2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Picture 7.png"/>
          <p:cNvPicPr/>
          <p:nvPr/>
        </p:nvPicPr>
        <p:blipFill>
          <a:blip r:embed="rId3"/>
          <a:stretch/>
        </p:blipFill>
        <p:spPr>
          <a:xfrm>
            <a:off x="380880" y="6095880"/>
            <a:ext cx="138132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149360" y="1219320"/>
            <a:ext cx="84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ponsored by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4"/>
          <a:stretch/>
        </p:blipFill>
        <p:spPr>
          <a:xfrm>
            <a:off x="3060720" y="1943280"/>
            <a:ext cx="302256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3009960" y="640044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 Black"/>
              </a:rPr>
              <a:t>Point Cloud DWG</a:t>
            </a:r>
            <a:br>
              <a:rPr sz="2800"/>
            </a:br>
            <a:r>
              <a:rPr b="0" lang="en-US" sz="2800" spc="-1" strike="noStrike">
                <a:solidFill>
                  <a:srgbClr val="092e5c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98th OGC Technical Committe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Washington, DC US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tan Tillman, Intergraph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08 March 2016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009960" y="64008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Update on the Point Cloud Survey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tan Tillman, Intergraph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Improving Access to Point Cloud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Keith Ryden, Esri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Visibility analysis with the 3D skeleton of a point cloud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Jantien Stoter, TUDelft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Precise spatial and radiometric processing of the Level 0 point cloud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huck Heazel, WiSC Enterprise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2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Advanced Format Standards for Point Cloud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ichael Ingram, Harris 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rving LiDAR Through Existing OGC Standards.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cott Pakula, Pixi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5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20:13:59Z</dcterms:created>
  <dc:creator>Scott Simmons</dc:creator>
  <dc:description/>
  <dc:language>en-US</dc:language>
  <cp:lastModifiedBy>Tillman, Stanley P (Stan)</cp:lastModifiedBy>
  <cp:lastPrinted>2003-02-03T21:59:32Z</cp:lastPrinted>
  <dcterms:modified xsi:type="dcterms:W3CDTF">2016-03-04T18:30:36Z</dcterms:modified>
  <cp:revision>8</cp:revision>
  <dc:subject>OGC TC/PC</dc:subject>
  <dc:title>&lt;Working Group Report Template&gt;</dc:title>
</cp:coreProperties>
</file>