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42A3-3CFC-42A2-B243-427E33428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E2C5-6F0D-4B05-8ABE-D172EBAC6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D011-E9A1-441C-ADAF-61E7067FE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A878-8637-4ABE-915D-C15E2086E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9947-6DB9-4CA4-B02A-F9E578F01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38BDB-3DCA-485B-BD20-4FAFB8F14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38C1-7A86-403F-A113-0029DA789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870D-E7B0-4C54-916D-31DD9D425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6A37-0646-411F-9E6B-B53A0F193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4B10-F194-464F-B95B-47A8CD989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6815C-8836-4CFB-97DA-F51830801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E32D-B8A9-4A79-A9E6-FD2F249A6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44F5-EF52-47CE-8AF6-2546BD069884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2490840" y="1371600"/>
            <a:ext cx="269856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5"/>
          <a:stretch/>
        </p:blipFill>
        <p:spPr>
          <a:xfrm>
            <a:off x="1752480" y="2514600"/>
            <a:ext cx="2768760" cy="58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6"/>
          <a:stretch/>
        </p:blipFill>
        <p:spPr>
          <a:xfrm>
            <a:off x="4902120" y="2286000"/>
            <a:ext cx="914400" cy="90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7"/>
          <a:stretch/>
        </p:blipFill>
        <p:spPr>
          <a:xfrm>
            <a:off x="5754600" y="1523880"/>
            <a:ext cx="293220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8"/>
          <a:stretch/>
        </p:blipFill>
        <p:spPr>
          <a:xfrm>
            <a:off x="6121440" y="2362320"/>
            <a:ext cx="1996920" cy="657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4.gotomeeting.com/join/893300213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Point Cloud ad hoc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95th OGC Technical Committe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Boulder, Colorado US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Scott Simmon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1 June 2015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009960" y="64008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3" descr=""/>
          <p:cNvPicPr/>
          <p:nvPr/>
        </p:nvPicPr>
        <p:blipFill>
          <a:blip r:embed="rId1"/>
          <a:stretch/>
        </p:blipFill>
        <p:spPr>
          <a:xfrm>
            <a:off x="987480" y="378000"/>
            <a:ext cx="6718320" cy="6181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560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cott Simmons, OGC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ntroduction to Point Cloud discussion and summary of standards effort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eff Young, ASPRS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ASPRS activities with LiDAR dat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hris Little, UK Met Office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What (where and when) is the Point in Meteorology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Keith Ryden, Esri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Enterprise community requirements for point clou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ason Smith, Exelis (NGA)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Sensor Independent Point Cloud (SIPC) data format, a profile of HDF5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chael Gerlek, RadiantBlue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Current situation and future work for point clou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eter Baumann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Point clouds in coverage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artin Isenburg, OSGeo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Open Source community drivers for point cloud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Doug O’Brien, IDON Technologies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SO and point cloud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GoTo Meeting detail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1. Please join my meeting, Mon Jun 1st 3:00 PM EDT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s://www4.gotomeeting.com/join/893300213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2. Use your microphone and speakers (VoIP) - a headset is recommended. Or, call in using your telephone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T: +43 (0) 7 2088 2172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BE: +32 (0) 42 68 0180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DK: +45 (0) 89 88 05 3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FI: +358 (0) 931 58 458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IE: +353 (0) 19 036 187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IT: +39 0 294 75 15 37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L: +31 (0) 108 080 11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Z: +64 (0) 9 801 0294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O: +47 21 51 81 8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ES: +34 911 23 424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SE: +46 (0) 852 500 51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CH: +41 (0) 435 0824 41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CA: +1 (647) 497-937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U: +61 2 8355 103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FR: +33 (0) 170 950 58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GB: +44 (0) 330 221 009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DE: +49 (0) 692 5736 7301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US: +1 (224) 501-331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ccess Code: 893-300-213  Audio PIN will be displayed upon joining the web session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6:54:31Z</dcterms:created>
  <dc:creator>Carl Reed</dc:creator>
  <dc:description/>
  <dc:language>en-US</dc:language>
  <cp:lastModifiedBy>Scott Simmons</cp:lastModifiedBy>
  <cp:lastPrinted>2003-02-03T21:59:32Z</cp:lastPrinted>
  <dcterms:modified xsi:type="dcterms:W3CDTF">2015-05-27T22:23:40Z</dcterms:modified>
  <cp:revision>91</cp:revision>
  <dc:subject>OGC TC/PC</dc:subject>
  <dc:title>PowerPoint Presentation</dc:title>
</cp:coreProperties>
</file>