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14D4-C110-4963-8775-1D423B58F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EAC2-E7F0-4958-A772-885BADA31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FC38-F8C3-46BF-9D28-AE52EFA41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6B81-53DF-49D8-A2BF-60B0176FD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4DEC4-384E-4453-8EFB-2E8CDC4CB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BFE0-9C79-45C2-926B-5B60C8B75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4A55-DBF7-474F-933B-ABE14DA30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F8B7-0081-4A55-8649-631AFC5B5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7575-EBF0-46C4-B1E8-A50ACE568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B97F-6B15-4E78-AB11-CC9972D5B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B409-FEAA-44FC-92A3-114CB7CE5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809E-E7FC-4875-B0B0-F82E5DFAB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5C40-5A02-4FD7-87E7-8273E841315D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2490840" y="1371600"/>
            <a:ext cx="269856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5"/>
          <a:stretch/>
        </p:blipFill>
        <p:spPr>
          <a:xfrm>
            <a:off x="1752480" y="2514600"/>
            <a:ext cx="2768760" cy="58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6"/>
          <a:stretch/>
        </p:blipFill>
        <p:spPr>
          <a:xfrm>
            <a:off x="4902120" y="2286000"/>
            <a:ext cx="914400" cy="90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7"/>
          <a:stretch/>
        </p:blipFill>
        <p:spPr>
          <a:xfrm>
            <a:off x="5754600" y="1523880"/>
            <a:ext cx="29322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8"/>
          <a:stretch/>
        </p:blipFill>
        <p:spPr>
          <a:xfrm>
            <a:off x="6121440" y="2362320"/>
            <a:ext cx="1996920" cy="657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4.gotomeeting.com/join/893300213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ad hoc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95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Boulder, Colorado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Scott Simmon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1 June 201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3" descr=""/>
          <p:cNvPicPr/>
          <p:nvPr/>
        </p:nvPicPr>
        <p:blipFill>
          <a:blip r:embed="rId1"/>
          <a:stretch/>
        </p:blipFill>
        <p:spPr>
          <a:xfrm>
            <a:off x="987480" y="378000"/>
            <a:ext cx="6718320" cy="6181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560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Simmons, OGC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ntroduction to Point Cloud discussion and summary of standards effort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eff Young, ASPR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ASPRS activities with LiDAR dat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ris Little, UK Met Offic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What (where and when) is the Point in Meteorolog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Enterprise community requirements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son Smith, Exelis (NGA)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Sensor Independent Point Cloud (SIPC) data format, a profile of HDF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Gerlek, RadiantBlu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Current situation and future work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eter Baumann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Point clouds in coverag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artin Isenburg, OSGeo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Open Source community drivers for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oug O’Brien, IDON Technologie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SO and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GoTo Meeting detail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1. Please join my meeting, Mon Jun 1st 3:00 PM EDT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s://www4.gotomeeting.com/join/893300213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2. Use your microphone and speakers (VoIP) - a headset is recommended. Or, call in using your telephone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T: +43 (0) 7 2088 2172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BE: +32 (0) 42 68 0180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K: +45 (0) 89 88 05 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I: +358 (0) 931 58 458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E: +353 (0) 19 036 18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T: +39 0 294 75 15 3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L: +31 (0) 108 080 1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Z: +64 (0) 9 801 0294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O: +47 21 51 81 8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ES: +34 911 23 424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SE: +46 (0) 852 500 5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H: +41 (0) 435 0824 4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A: +1 (647) 497-937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U: +61 2 8355 10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R: +33 (0) 170 950 58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GB: +44 (0) 330 221 009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E: +49 (0) 692 5736 730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US: +1 (224) 501-331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ccess Code: 893-300-213  Audio PIN will be displayed upon joining the web session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54:31Z</dcterms:created>
  <dc:creator>Carl Reed</dc:creator>
  <dc:description/>
  <dc:language>en-US</dc:language>
  <cp:lastModifiedBy>Scott Simmons</cp:lastModifiedBy>
  <cp:lastPrinted>2003-02-03T21:59:32Z</cp:lastPrinted>
  <dcterms:modified xsi:type="dcterms:W3CDTF">2015-05-27T22:23:40Z</dcterms:modified>
  <cp:revision>91</cp:revision>
  <dc:subject>OGC TC/PC</dc:subject>
  <dc:title>PowerPoint Presentation</dc:title>
</cp:coreProperties>
</file>