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77BAE-8D8D-43B3-8F52-78E0C2515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8FE1A-ECCA-492D-A744-BF865011B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E439E-0974-4128-8D8E-617A5AF84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ECE49-768B-4CDA-88D5-AA038765E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9B257-69A9-41F2-BD41-5B0EB4B21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054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5640" y="127908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4560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054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5640" y="3834000"/>
            <a:ext cx="2723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451BD-72E2-4ED0-BBEC-C913E5D16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701D0-A4E3-4589-94BD-546837C9D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1B39E-F837-488E-9E66-7BFEB6C3F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3608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3A0F4-3CBF-45B2-89E0-AF89B337F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921C6-7CEF-49DC-84DC-C2D570CB5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640" y="383400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9C65B-108A-4A5B-9EF6-717AA41C7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640" y="1279080"/>
            <a:ext cx="41274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5600" y="3834000"/>
            <a:ext cx="84582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F1CF-DBEF-4AAE-B687-CCCD6A41E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365040" y="776160"/>
            <a:ext cx="8454960" cy="490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3240" y="655272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9616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FB2E-24F4-41BB-BC5F-1D000D5DE30C}" type="slidenum">
              <a:rPr b="0" lang="en-US" sz="900" spc="-1" strike="noStrike">
                <a:solidFill>
                  <a:srgbClr val="092e5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334080" y="6219720"/>
            <a:ext cx="1155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2e5c"/>
                </a:solidFill>
                <a:latin typeface="Times New Roman"/>
              </a:rPr>
              <a:t>OGC</a:t>
            </a:r>
            <a:endParaRPr b="1" lang="en-US" sz="40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1498680" y="6270480"/>
            <a:ext cx="9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2e5c"/>
                </a:solidFill>
                <a:latin typeface="Arial"/>
              </a:rPr>
              <a:t>®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8"/>
          <p:cNvSpPr/>
          <p:nvPr/>
        </p:nvSpPr>
        <p:spPr>
          <a:xfrm>
            <a:off x="8739000" y="214200"/>
            <a:ext cx="7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1" lang="en-US" sz="8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4" name="Picture 10" descr="OGC header 2010122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2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Picture 7.png"/>
          <p:cNvPicPr/>
          <p:nvPr/>
        </p:nvPicPr>
        <p:blipFill>
          <a:blip r:embed="rId3"/>
          <a:stretch/>
        </p:blipFill>
        <p:spPr>
          <a:xfrm>
            <a:off x="380880" y="6095880"/>
            <a:ext cx="138132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149360" y="1219320"/>
            <a:ext cx="84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onsored by</a:t>
            </a:r>
            <a:endParaRPr b="1" lang="en-US" sz="1000" spc="-1" strike="noStrike">
              <a:solidFill>
                <a:srgbClr val="000000"/>
              </a:solidFill>
              <a:latin typeface="CG Times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4"/>
          <a:stretch/>
        </p:blipFill>
        <p:spPr>
          <a:xfrm>
            <a:off x="2490840" y="1371600"/>
            <a:ext cx="269856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"/>
          <p:cNvPicPr/>
          <p:nvPr/>
        </p:nvPicPr>
        <p:blipFill>
          <a:blip r:embed="rId5"/>
          <a:stretch/>
        </p:blipFill>
        <p:spPr>
          <a:xfrm>
            <a:off x="1752480" y="2514600"/>
            <a:ext cx="2768760" cy="582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6"/>
          <a:stretch/>
        </p:blipFill>
        <p:spPr>
          <a:xfrm>
            <a:off x="4902120" y="2286000"/>
            <a:ext cx="914400" cy="90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7"/>
          <a:stretch/>
        </p:blipFill>
        <p:spPr>
          <a:xfrm>
            <a:off x="5754600" y="1523880"/>
            <a:ext cx="293220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8"/>
          <a:stretch/>
        </p:blipFill>
        <p:spPr>
          <a:xfrm>
            <a:off x="6121440" y="2362320"/>
            <a:ext cx="1996920" cy="657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1" marL="569880" indent="-22212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2" marL="912960" indent="-228600">
              <a:spcBef>
                <a:spcPts val="601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3" marL="1255680" indent="-228600">
              <a:spcBef>
                <a:spcPts val="601"/>
              </a:spcBef>
              <a:buClr>
                <a:srgbClr val="092e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4" marL="1598760" indent="-228600">
              <a:spcBef>
                <a:spcPts val="601"/>
              </a:spcBef>
              <a:buClr>
                <a:srgbClr val="092e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5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  <a:p>
            <a:pPr lvl="6" marL="15987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e5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009960" y="640044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92e5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4.gotomeeting.com/join/893300213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2e5c"/>
                </a:solidFill>
                <a:latin typeface="Arial Black"/>
              </a:rPr>
              <a:t>Point Cloud ad hoc</a:t>
            </a:r>
            <a:endParaRPr b="0" lang="en-US" sz="28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95th OGC Technical Committee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Boulder, Colorado US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Scott Simmon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  <a:ea typeface="Arial"/>
              </a:rPr>
              <a:t>1 June 2015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009960" y="640080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Box 3" descr=""/>
          <p:cNvPicPr/>
          <p:nvPr/>
        </p:nvPicPr>
        <p:blipFill>
          <a:blip r:embed="rId1"/>
          <a:stretch/>
        </p:blipFill>
        <p:spPr>
          <a:xfrm>
            <a:off x="987480" y="378000"/>
            <a:ext cx="6718320" cy="61815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92e5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4560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Scott Simmons, OGC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Introduction to Point Cloud discussion and summary of standards effort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Jeff Young, ASPRS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ASPRS activities with LiDAR data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Chris Little, UK Met Office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What (where and when) is the Point in Meteorology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Keith Ryden, Esri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Enterprise community requirements for point clou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Jason Smith, Exelis (NGA)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Sensor Independent Point Cloud (SIPC) data format, a profile of HDF5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ichael Gerlek, RadiantBlue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Current situation and future work for point clou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Peter Baumann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Point clouds in coverage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Martin Isenburg, OSGeo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Open Source community drivers for point cloud standar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92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2e5c"/>
                </a:solidFill>
                <a:latin typeface="Arial"/>
              </a:rPr>
              <a:t>Doug O’Brien, IDON Technologies: </a:t>
            </a:r>
            <a:r>
              <a:rPr b="1" lang="en-US" sz="2000" spc="-1" strike="noStrike">
                <a:solidFill>
                  <a:srgbClr val="092e5c"/>
                </a:solidFill>
                <a:latin typeface="Arial"/>
              </a:rPr>
              <a:t>ISO and point cloud standards</a:t>
            </a:r>
            <a:endParaRPr b="0" lang="en-US" sz="2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7" name="Fußzeilenplatzhalt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1480" y="13608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2e5c"/>
                </a:solidFill>
                <a:latin typeface="Arial"/>
              </a:rPr>
              <a:t>GoTo Meeting details</a:t>
            </a:r>
            <a:endParaRPr b="0" lang="en-US" sz="32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45600" y="1279080"/>
            <a:ext cx="84582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1. Please join my meeting, Mon Jun 1st 3:00 PM EDT.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s://www4.gotomeeting.com/join/893300213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2. Use your microphone and speakers (VoIP) - a headset is recommended. Or, call in using your telephone.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AT: +43 (0) 7 2088 2172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BE: +32 (0) 42 68 0180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DK: +45 (0) 89 88 05 3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FI: +358 (0) 931 58 4588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IE: +353 (0) 19 036 187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IT: +39 0 294 75 15 37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NL: +31 (0) 108 080 116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NZ: +64 (0) 9 801 0294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NO: +47 21 51 81 86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ES: +34 911 23 4248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SE: +46 (0) 852 500 516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CH: +41 (0) 435 0824 41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CA: +1 (647) 497-937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AU: +61 2 8355 103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FR: +33 (0) 170 950 58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GB: +44 (0) 330 221 0099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DE: +49 (0) 692 5736 7301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US: +1 (224) 501-3318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92e5c"/>
                </a:solidFill>
                <a:latin typeface="Arial"/>
              </a:rPr>
              <a:t>Access Code: 893-300-213  Audio PIN will be displayed upon joining the web session.</a:t>
            </a: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92e5c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2973240" y="6553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92e5c"/>
                </a:solidFill>
                <a:latin typeface="Arial"/>
              </a:rPr>
              <a:t>Copyright © 2015 Open Geospatial Consortium</a:t>
            </a:r>
            <a:endParaRPr b="1" lang="en-US" sz="9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6:54:31Z</dcterms:created>
  <dc:creator>Carl Reed</dc:creator>
  <dc:description/>
  <dc:language>en-US</dc:language>
  <cp:lastModifiedBy>Scott Simmons</cp:lastModifiedBy>
  <cp:lastPrinted>2003-02-03T21:59:32Z</cp:lastPrinted>
  <dcterms:modified xsi:type="dcterms:W3CDTF">2015-05-27T22:23:40Z</dcterms:modified>
  <cp:revision>91</cp:revision>
  <dc:subject>OGC TC/PC</dc:subject>
  <dc:title>PowerPoint Presentation</dc:title>
</cp:coreProperties>
</file>