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444C-3765-486C-B7E2-16B9774DD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E9E9-3991-491E-9E7E-2EF536EFF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85D5-6524-4356-B3A5-721D7FF84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5C4F-D151-4628-BD94-52B727A36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7D40-12D5-4ECE-94BB-57681A2DA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A62A-8AB0-406C-840E-9727E74A1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295A-6577-4BF1-A13E-DCE58EB15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7F7E-3138-48D5-A621-87AD9FB89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EB87-E475-4C96-9997-3721B755B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8497-F57F-4815-9EEF-1C0D2ED08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7D3B-BC2C-480A-8A0C-19ABFCF92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FBA5-F5F5-496F-9C7D-F53A16C92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AFF0-AD06-483C-91EF-F6707C9E66E4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2490840" y="1371600"/>
            <a:ext cx="269856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5"/>
          <a:stretch/>
        </p:blipFill>
        <p:spPr>
          <a:xfrm>
            <a:off x="1752480" y="2514600"/>
            <a:ext cx="2768760" cy="58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6"/>
          <a:stretch/>
        </p:blipFill>
        <p:spPr>
          <a:xfrm>
            <a:off x="4902120" y="2286000"/>
            <a:ext cx="914400" cy="90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7"/>
          <a:stretch/>
        </p:blipFill>
        <p:spPr>
          <a:xfrm>
            <a:off x="5754600" y="1523880"/>
            <a:ext cx="29322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8"/>
          <a:stretch/>
        </p:blipFill>
        <p:spPr>
          <a:xfrm>
            <a:off x="6121440" y="2362320"/>
            <a:ext cx="1996920" cy="65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4.gotomeeting.com/join/89330021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ad hoc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95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Boulder, Colorado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Scott Simmon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1 June 201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3" descr=""/>
          <p:cNvPicPr/>
          <p:nvPr/>
        </p:nvPicPr>
        <p:blipFill>
          <a:blip r:embed="rId1"/>
          <a:stretch/>
        </p:blipFill>
        <p:spPr>
          <a:xfrm>
            <a:off x="987480" y="378000"/>
            <a:ext cx="6718320" cy="6181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560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Simmons, OGC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ntroduction to Point Cloud discussion and summary of standards effor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eff Young, ASPR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ASPRS activities with LiDAR dat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ris Little, UK Met Offic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What (where and when) is the Point in Meteorolog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Enterprise community requirements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son Smith, Exelis (NGA)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Sensor Independent Point Cloud (SIPC) data format, a profile of HDF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Gerlek, RadiantBlu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Current situation and future work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eter Baumann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Point clouds in coverag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artin Isenburg, OSGeo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Open Source community drivers for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oug O’Brien, IDON Technologie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SO and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GoTo Meeting detail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1. Please join my meeting, Mon Jun 1st 3:00 PM EDT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s://www4.gotomeeting.com/join/893300213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2. Use your microphone and speakers (VoIP) - a headset is recommended. Or, call in using your telephone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T: +43 (0) 7 2088 2172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BE: +32 (0) 42 68 0180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K: +45 (0) 89 88 05 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I: +358 (0) 931 58 458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E: +353 (0) 19 036 18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T: +39 0 294 75 15 3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L: +31 (0) 108 080 1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Z: +64 (0) 9 801 0294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O: +47 21 51 81 8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ES: +34 911 23 424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SE: +46 (0) 852 500 5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H: +41 (0) 435 0824 4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A: +1 (647) 497-937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U: +61 2 8355 10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R: +33 (0) 170 950 58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GB: +44 (0) 330 221 009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E: +49 (0) 692 5736 730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US: +1 (224) 501-331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ccess Code: 893-300-213  Audio PIN will be displayed upon joining the web session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54:31Z</dcterms:created>
  <dc:creator>Carl Reed</dc:creator>
  <dc:description/>
  <dc:language>en-US</dc:language>
  <cp:lastModifiedBy>Scott Simmons</cp:lastModifiedBy>
  <cp:lastPrinted>2003-02-03T21:59:32Z</cp:lastPrinted>
  <dcterms:modified xsi:type="dcterms:W3CDTF">2015-05-27T22:23:40Z</dcterms:modified>
  <cp:revision>91</cp:revision>
  <dc:subject>OGC TC/PC</dc:subject>
  <dc:title>PowerPoint Presentation</dc:title>
</cp:coreProperties>
</file>